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890-C0B7-43C7-9DB7-15C5AD53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B74-4136-4034-91B3-52BE4BAA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623-D3BE-4CB3-B2B9-54145DD5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2EF-510D-4070-96B0-8F192BF6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6A3-20CC-4D18-9CC7-763FAAA8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64F-9593-4DFB-8311-D45F9005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2BA-4F25-4B1B-826F-1FC111B3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877-BC30-49C3-A271-6F069A6F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0BB-271D-424E-8CD7-81A3B1E9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483-E656-4A75-B117-B757272C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8B5-6F5D-4EAD-90FD-C79454EB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3F9-C2CE-434E-8E34-E310A68A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10E0-93F1-4590-A52B-2BE176928B1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47856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а робота спеціаліст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Розробка інтелектуальної системи швидкого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ізнавання текстів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03640" y="4857480"/>
            <a:ext cx="5726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гр. 1КНсп-14,Дячук Тетяна Василі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т.н, доцент кафедри КН, Суприган Олена Івані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826920" y="476280"/>
            <a:ext cx="7632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993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ння з існуючими систем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655560" y="2060640"/>
            <a:ext cx="78328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826920" y="260280"/>
            <a:ext cx="7632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993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39640" y="126828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ґрунтовано вибір методів та алгоритмі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соку швидкість роботи було забезпечено використанням  методу сегментації, а саме - оператору Кірша, подальшої паралельної обробки частин тексту за допомогою використання векторного простору та перетворення Хафа, морфологічних операці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лено структуру програмного забезпечення та математичну модель для інтелектуальної систе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телектуальна система була розроблена за допомогою платформи проектування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Qt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 об’єктно-орієнтованої мови програмуванн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ytho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лізована інтелектуальна система швидкого розпізнавання текстів підвищує швидкість розпізнавання в два рази в порівнянні з системою аналогом при точності розпізнавання – 78%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є економічно вигідно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кільки витра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6928,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вищую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еличину чистого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бут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18148,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грн.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а окупить себе через 0,12 ро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же, мета дипломної роботи була досягне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826920" y="260280"/>
            <a:ext cx="7632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7" descr=""/>
          <p:cNvPicPr/>
          <p:nvPr/>
        </p:nvPicPr>
        <p:blipFill>
          <a:blip r:embed="rId2"/>
          <a:stretch/>
        </p:blipFill>
        <p:spPr>
          <a:xfrm>
            <a:off x="1908000" y="2567160"/>
            <a:ext cx="54198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684360" y="476280"/>
            <a:ext cx="828036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тою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ипломної роботи є підвищення швидкодії розпізнавання текстів за допомогою розробки інтелектуальної системи швидкого розпізнавання текст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сновні задач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які вирішено для досягнення ме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із існуючих методів розпізнавання символ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ення переваг та недоліків існуючих методів та програм по розпізнаванню текст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ування архітектури систе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а алгоритму роботи систе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на реалізація інтелектуальної системи швидкого розпізнавання текст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 тестування розробленої інтелектуальної системи швидкого розпізнавання текст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’єкто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ослідження є процеси розпізнавання текст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едмето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ослідження є інтелектуальна система швидкого розпізнавання текст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ість робо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971640" y="141300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учасному світі широко використовуються та всім відомі такі поняття, як електронна документація та документообіг, електронні книги, електронні бібліоте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ьогодення кожен має при собі компактний планшет, нетбук, електронну книгу чи смартфон.  Що дозволяє швидко реагувати на зміни у навколишньому середовищі та пришвидчує роботу людей, а отже і їх продуктив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ак досі наявна проблема з накопиченням паперової документації та переведенням її, а також різноманітної інформації та текстів книг, в електронний варіант. Для вирішення цієї проблеми розроблено багато програм по розпізнаю текстових документів та кни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існуючих ріш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92360" y="1844640"/>
          <a:ext cx="6192720" cy="3138480"/>
        </p:xfrm>
        <a:graphic>
          <a:graphicData uri="http://schemas.openxmlformats.org/drawingml/2006/table">
            <a:tbl>
              <a:tblPr/>
              <a:tblGrid>
                <a:gridCol w="842760"/>
                <a:gridCol w="1173240"/>
                <a:gridCol w="603360"/>
                <a:gridCol w="568080"/>
                <a:gridCol w="595440"/>
                <a:gridCol w="860400"/>
                <a:gridCol w="685800"/>
                <a:gridCol w="863640"/>
              </a:tblGrid>
              <a:tr h="6145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р. / крите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иність (ЦП/ОЗУ/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дій-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ій- к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вид-к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уч- 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но- сим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штаб-бова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eR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./ 500Мб/ 626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м/х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у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mniP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./ 500Мб/ 473 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м/х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у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окий рі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CR Cunei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./ 500Мб/ 450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м/х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. зруч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eadi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./ 256Мб/ 500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м/х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у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684360" y="476280"/>
            <a:ext cx="828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на модель розпізнавання символі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755640" y="134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аці тексту, оператор Крш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rcRect l="0" t="0" r="0" b="12500"/>
          <a:stretch/>
        </p:blipFill>
        <p:spPr>
          <a:xfrm>
            <a:off x="2627280" y="1844640"/>
            <a:ext cx="4357800" cy="504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755640" y="242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ний простір та перетворення Хаф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1835280" y="2924280"/>
            <a:ext cx="574668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>
            <a:off x="2627280" y="3500280"/>
            <a:ext cx="4292640" cy="865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0"/>
          <p:cNvSpPr/>
          <p:nvPr/>
        </p:nvSpPr>
        <p:spPr>
          <a:xfrm>
            <a:off x="900000" y="4508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ічні операції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5"/>
          <a:stretch/>
        </p:blipFill>
        <p:spPr>
          <a:xfrm>
            <a:off x="2340000" y="5013360"/>
            <a:ext cx="4713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84360" y="476280"/>
            <a:ext cx="828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інтелектуальної системи швидкого розпізнавання тексті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1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5688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684360" y="476280"/>
            <a:ext cx="828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 алгоритму процесу перетворення символів текс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7" descr="F:\КН\Мои практикумы\5й курс\Дипломка\метериалы\Схемки\Alg_big_one — копия.png"/>
          <p:cNvPicPr/>
          <p:nvPr/>
        </p:nvPicPr>
        <p:blipFill>
          <a:blip r:embed="rId2"/>
          <a:stretch/>
        </p:blipFill>
        <p:spPr>
          <a:xfrm>
            <a:off x="2556000" y="907920"/>
            <a:ext cx="444312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684360" y="476280"/>
            <a:ext cx="828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 алгоритму поділу на частини в векторному простор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6" descr="C:\Users\Cassiopea\Pictures\Векторний простір.png"/>
          <p:cNvPicPr/>
          <p:nvPr/>
        </p:nvPicPr>
        <p:blipFill>
          <a:blip r:embed="rId2"/>
          <a:stretch/>
        </p:blipFill>
        <p:spPr>
          <a:xfrm>
            <a:off x="2627280" y="1125360"/>
            <a:ext cx="40752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КН\Мои практикумы\5й курс\Дипломк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826920" y="476280"/>
            <a:ext cx="7632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 роботи сите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357120" y="1214280"/>
            <a:ext cx="850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9:29:29Z</dcterms:created>
  <dc:creator>Cassiopea</dc:creator>
  <dc:description/>
  <dc:language>en-US</dc:language>
  <cp:lastModifiedBy>Rustam Klekit</cp:lastModifiedBy>
  <dcterms:modified xsi:type="dcterms:W3CDTF">2015-11-19T12:23:59Z</dcterms:modified>
  <cp:revision>12</cp:revision>
  <dc:subject/>
  <dc:title>Дипломна робота спеціаліста на тему: “Розробка інтелектуальної системи швидкого розпізнавання текстів”</dc:title>
</cp:coreProperties>
</file>