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8B0-B54C-43CF-8E4D-B79CD41D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6BB-08C7-4DFC-8801-45DF9858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A80-6A55-4252-8C40-4D1EBD18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2D4-FAA5-44CF-8AE0-31A48BBC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A0D-F158-42C4-856E-278A3340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332-5EF5-4A5E-AEE8-B59F1307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24D-521C-4847-8AC3-218AFB6B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033-95F3-4CD3-9569-75EB13E7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1D8-1257-4495-BA12-07AFC488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BF1-86FF-4269-BA5F-83F952D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238-A7AA-435C-9C7A-DA9B05A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E46-31C3-43F0-87B5-59690FB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972D-496A-4A02-AC93-1EF310B9192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47856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 робота спеціаліс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Розробка інтелектуальної системи швидкого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ізнавання текстів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3640" y="4857480"/>
            <a:ext cx="5726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1КНсп-14,Дячук Тетяна Василі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, доцент кафедри КН, Суприган Олена Івані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826920" y="476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9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з існуючими систе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55560" y="2060640"/>
            <a:ext cx="7832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26920" y="260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39640" y="12682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ґрунтовано вибір методів та алгоритм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соку швидкість роботи було забезпечено використанням  методу сегментації, а саме - оператору Кірша, подальшої паралельної обробки частин тексту за допомогою використання векторного простору та перетворення Хафа, морфологічних операц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лено структуру програмного забезпечення та математичну модель для інтелектуальної систе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електуальна система була розроблена за допомогою платформи проектування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Qt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 об’єктно-орієнтованої мови програмуванн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ytho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ізована інтелектуальна система швидкого розпізнавання текстів підвищує швидкість розпізнавання в два рази в порівнянні з системою аналогом при точності розпізнавання – 78%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є економічно вигідно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кільки витра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6928,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вищую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еличину чистого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бут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18148,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грн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а окупить себе через 0,12 ро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же, мета дипломної роботи була досягне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826920" y="260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7" descr=""/>
          <p:cNvPicPr/>
          <p:nvPr/>
        </p:nvPicPr>
        <p:blipFill>
          <a:blip r:embed="rId2"/>
          <a:stretch/>
        </p:blipFill>
        <p:spPr>
          <a:xfrm>
            <a:off x="1908000" y="2567160"/>
            <a:ext cx="54198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84360" y="476280"/>
            <a:ext cx="828036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пломної роботи є підвищення швидкодії розпізнавання текстів за допомогою розробки інтелектуальної системи швидкого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сновні задач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і вирішено для досягнення ме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існуючих методів розпізнавання символ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ення переваг та недоліків існуючих методів та програм по розпізнаванню текст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ування архітектури систе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алгоритму роботи систе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на реалізація інтелектуальної системи швидкого розпізнавання текст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тестування розробленої інтелектуальної системи швидкого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’єкто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ослідження є процеси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едмето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ослідження є інтелектуальна система швидкого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роб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971640" y="141300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учасному світі широко використовуються та всім відомі такі поняття, як електронна документація та документообіг, електронні книги, електронні бібліоте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ьогодення кожен має при собі компактний планшет, нетбук, електронну книгу чи смартфон.  Що дозволяє швидко реагувати на зміни у навколишньому середовищі та пришвидчує роботу людей, а отже і їх продуктив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к досі наявна проблема з накопиченням паперової документації та переведенням її, а також різноманітної інформації та текстів книг, в електронний варіант. Для вирішення цієї проблеми розроблено багато програм по розпізнаю текстових документів та кни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існуючих ріш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92360" y="1844640"/>
          <a:ext cx="6192720" cy="3138480"/>
        </p:xfrm>
        <a:graphic>
          <a:graphicData uri="http://schemas.openxmlformats.org/drawingml/2006/table">
            <a:tbl>
              <a:tblPr/>
              <a:tblGrid>
                <a:gridCol w="842760"/>
                <a:gridCol w="1173240"/>
                <a:gridCol w="603360"/>
                <a:gridCol w="568080"/>
                <a:gridCol w="595440"/>
                <a:gridCol w="860400"/>
                <a:gridCol w="685800"/>
                <a:gridCol w="863640"/>
              </a:tblGrid>
              <a:tr h="6145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р. / крите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иність (ЦП/ОЗУ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ій-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ій- 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вид-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- 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но- сим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штаб-бова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eR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500Мб/ 626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mniP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500Мб/ 473 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ий рі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CR Cunei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500Мб/ 450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 зруч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adi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256Мб/ 500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а модель розпізнавання символ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755640" y="134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ці тексту, оператор Крш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0" r="0" b="12500"/>
          <a:stretch/>
        </p:blipFill>
        <p:spPr>
          <a:xfrm>
            <a:off x="2627280" y="1844640"/>
            <a:ext cx="4357800" cy="504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755640" y="242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ний простір та перетворення Хаф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1835280" y="2924280"/>
            <a:ext cx="574668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2627280" y="3500280"/>
            <a:ext cx="4292640" cy="865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900000" y="4508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ічні операції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2340000" y="5013360"/>
            <a:ext cx="4713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інтелектуальної системи швидкого розпізнавання текст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688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алгоритму процесу перетворення символів текс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7" descr="F:\КН\Мои практикумы\5й курс\Дипломка\метериалы\Схемки\Alg_big_one — копия.png"/>
          <p:cNvPicPr/>
          <p:nvPr/>
        </p:nvPicPr>
        <p:blipFill>
          <a:blip r:embed="rId2"/>
          <a:stretch/>
        </p:blipFill>
        <p:spPr>
          <a:xfrm>
            <a:off x="2556000" y="907920"/>
            <a:ext cx="44431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алгоритму поділу на частини в векторному простор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6" descr="C:\Users\Cassiopea\Pictures\Векторний простір.png"/>
          <p:cNvPicPr/>
          <p:nvPr/>
        </p:nvPicPr>
        <p:blipFill>
          <a:blip r:embed="rId2"/>
          <a:stretch/>
        </p:blipFill>
        <p:spPr>
          <a:xfrm>
            <a:off x="2627280" y="1125360"/>
            <a:ext cx="40752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826920" y="476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роботи си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850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9:29:29Z</dcterms:created>
  <dc:creator>Cassiopea</dc:creator>
  <dc:description/>
  <dc:language>en-US</dc:language>
  <cp:lastModifiedBy>Rustam Klekit</cp:lastModifiedBy>
  <dcterms:modified xsi:type="dcterms:W3CDTF">2015-11-19T12:23:59Z</dcterms:modified>
  <cp:revision>12</cp:revision>
  <dc:subject/>
  <dc:title>Дипломна робота спеціаліста на тему: “Розробка інтелектуальної системи швидкого розпізнавання текстів”</dc:title>
</cp:coreProperties>
</file>