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263-AA2A-465E-978D-62698FBE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F3C-A7FA-49AF-941E-A9A2D1E4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9C3-AC84-4236-96EA-8C860825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CDA-C35F-44E3-9E05-D129D539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180-FA1C-4AB1-BB99-BF49AFD3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616-8750-45D1-B532-B1A70524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27D-B754-4D24-B9BF-6D1FFF19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285-AB6F-44A1-9EFE-6B4B821F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FF9-EC8E-41B1-8E3F-1FF645AF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21F-5627-476C-A5B8-30FE7052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90F-C721-420A-B621-9BCC422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573-CC80-4B8B-90D8-4E5F1665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1620-700B-49ED-9F37-4F7FB36F91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CF21-897A-4CAA-AD13-2F74B7103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5198-1DF9-43F4-BC59-3C95DD7F6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ТЕЛЕКТУАЛЬНА СИСТЕМА НЕЙРОМЕРЕЖЕВОГО ПРОГНОЗУВАННЯ ОБСЯГУ ПРОДАЖІВ</a:t>
            </a:r>
            <a:br>
              <a:rPr sz="4000"/>
            </a:b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ипломна робота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ьність 7.05010104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и штучного інтелект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000" y="530064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конав студент гр. 1КН-14сп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апрій І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: к.т.н., доц. Колодний В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A151-2C86-4111-B244-95621C6C3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95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Приклад №2 вікна роботи інтелектуальної систе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5" descr=""/>
          <p:cNvPicPr/>
          <p:nvPr/>
        </p:nvPicPr>
        <p:blipFill>
          <a:blip r:embed="rId1"/>
          <a:stretch/>
        </p:blipFill>
        <p:spPr>
          <a:xfrm>
            <a:off x="1766880" y="1969920"/>
            <a:ext cx="5610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6160" y="198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ЕКОНОМІЧНА ЧА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4920" y="1628640"/>
            <a:ext cx="8280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ведені економічні розрахунки, які підтверджують економічну доцільність розробки програмного забезпечення інтелектуальної системи нейромережевого прогнозування обсягу продажів, оскільки вона є дешевше ніж аналог на 6267,42 грн., термін окупності складає 3,5 місяці. Загальні витрати на розробку нового програмного продукту складають 24373,36 грн., прогнозований прибуток - 68236,36 гр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8101080" y="6308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6571-D255-46B6-A592-C87F52D07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ВИСНО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755640" y="1413000"/>
            <a:ext cx="7705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ворена розробка має ряд переваг порівняно з програмами аналогами: більш зручний інтерфейс і більш високу точність прогнозування (92,5% проти 87% у аналога). Аналог має ширший функціонал, проте змушує користувача самому підбирати структуру нейромережі, обирати алгоритм навчання, вчити мережу. Користувачу для виконання цих дій потрібно освоїти певні знання і бути спеціалістом в галузі нейронних мереж. Тому, можна сказати, що зручність користування у нової розробки вищ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аким чином, мета роботи досягнута, а саме – розроблена система має кращу точність та зручність користування програмними засобами прогнозування обсягу продажів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A52E-EE4C-4F43-8158-7732C337D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6580-4C62-47EC-B215-06076BF78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325440"/>
            <a:ext cx="83534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c00000"/>
                </a:solidFill>
                <a:uFillTx/>
                <a:latin typeface="Calibri"/>
              </a:rPr>
              <a:t>Об’єкт дослідження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процес прогнозування обсягу продажів товарів на основі нейронних мер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c00000"/>
                </a:solidFill>
                <a:uFillTx/>
                <a:latin typeface="Calibri"/>
              </a:rPr>
              <a:t>Предмет дослідження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програмні засоби прогнозування обсягу продажів товарів на основі нейронних мере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c00000"/>
                </a:solidFill>
                <a:uFillTx/>
                <a:latin typeface="Calibri"/>
              </a:rPr>
              <a:t>Мета дослідження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підвищення точності прогнозування та зручності користування програмними засобами прогнозування обсягу продаж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Calibri"/>
              </a:rPr>
              <a:t>Класифікація методів прогнозування</a:t>
            </a:r>
            <a:br>
              <a:rPr sz="2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етоди прогнозування, засновані на згладжуванні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етоди Хольта і Брауна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етод Вінтерса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егресійні методи прогнозування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етоди Бокса-Дженкінса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ARIMA)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торегресійні моделі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R(p)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делі ковзаючого середнього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(q)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метод з авторегресією і плаваючим середнім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RMA(p,q)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RIMA(p,r,q);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ейромережеві методи прогнозуванн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8200-9402-43B1-A131-8B7D4874B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59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Існуючі засоби вирішення задачі прогнозування обсягу продаж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RS-Balance_scren"/>
          <p:cNvPicPr/>
          <p:nvPr/>
        </p:nvPicPr>
        <p:blipFill>
          <a:blip r:embed="rId1"/>
          <a:stretch/>
        </p:blipFill>
        <p:spPr>
          <a:xfrm>
            <a:off x="108000" y="4005360"/>
            <a:ext cx="3665520" cy="2544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52280" y="335916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а RS-Balanc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25_2"/>
          <p:cNvPicPr/>
          <p:nvPr/>
        </p:nvPicPr>
        <p:blipFill>
          <a:blip r:embed="rId2"/>
          <a:stretch/>
        </p:blipFill>
        <p:spPr>
          <a:xfrm>
            <a:off x="5376960" y="3978360"/>
            <a:ext cx="3587760" cy="2619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7020000" y="328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а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ognos 4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817d6140b578"/>
          <p:cNvPicPr/>
          <p:nvPr/>
        </p:nvPicPr>
        <p:blipFill>
          <a:blip r:embed="rId3"/>
          <a:stretch/>
        </p:blipFill>
        <p:spPr>
          <a:xfrm>
            <a:off x="2987640" y="1292400"/>
            <a:ext cx="3489480" cy="2568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392760" y="140328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а STAT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ана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9680" y="4392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ІКО-ЕКОНОМІЧНЕ ОБҐРУНТУВАННЯ РОЗРОБКИ ПРОГРАМНОГО ЗАБЕЗПЕЧЕННЯ ІНТЕЛЕКТУАЛЬНОЇ СИСТЕМИ НЕЙРОМЕРЕЖЕВОГО ПРОГНОЗУВАННЯ ОБСЯГУ ПРОДАЖ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39680" y="5310360"/>
            <a:ext cx="88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а розробка 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щою ніж та, що обрана за аналог. Нова розробка є чітко спеціалізованою на розв'язанні саме задачі прогнозування характеристик статистичних масивів інформації, має вищу точність прогнозу та швидкодію, зручніша у користуван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317080" y="630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27033" t="29305" r="9093" b="10772"/>
          <a:stretch/>
        </p:blipFill>
        <p:spPr>
          <a:xfrm>
            <a:off x="826920" y="1271520"/>
            <a:ext cx="749952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5115-F9FA-4381-ADB9-C541DBC5C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ведення задачі прогнозування до задачі розпізнавання образів.  Метод плаваючих вік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072040" cy="24494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395280" y="401148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 вікон дозволяє виявити закономірності в часовому ряді на основі зведення аналізу часового ряду до задачі розпізнавання образів і подальшого її вирішення на нейромережі. Основна ідея методу: вводяться два вікна, одне з яких вхідне, інше - вихідне. Ці вікна фіксованого розміру для спостереження даних. Вікна здатні переміщатися з деяким крок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В результаті отримуємо деяку послідовність спостережень, яка становить навчальну множину. Вхідному вікну відповідає вхід нейромережі, а вихідне вікно - бажаний вихідний образ нейромережі (ідентифікатор в термінології розпізнавання образі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4870-70A0-47F1-850D-7F4A03557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ИБІР СТРУКТУРИ НЕЙРОННОЇ МЕРЕЖ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NN_classification_01"/>
          <p:cNvPicPr/>
          <p:nvPr/>
        </p:nvPicPr>
        <p:blipFill>
          <a:blip r:embed="rId1"/>
          <a:stretch/>
        </p:blipFill>
        <p:spPr>
          <a:xfrm>
            <a:off x="701640" y="1312920"/>
            <a:ext cx="3726000" cy="521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456000" cy="28764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4989600" y="5014800"/>
            <a:ext cx="36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а обрана нейронна мережа зворотного розповсюд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A7B-3C24-4696-8057-548AAEC92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Обгрунтування вибору мови програмува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971640" y="1484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- імператив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труктуров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єктно-орієнтована мов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ек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Pascal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826920" y="2620800"/>
            <a:ext cx="756144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має ряд переваг над іншими мов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швидкість розробки програ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сока продуктивність розробленого додат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изькі вимоги розробленої програми до ресурсів комп'ют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жливість повного доступу до функцій операційних систем Window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ожливість розробки нових компонент та інструментів власними засобами Delph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дале опрацювання ієрархії об'єкт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зуальна побудова дозволяє швидко і якісно створювати інтерфейс програми.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4DA2-B3E1-4E70-B994-72F2E85F4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79280" y="115920"/>
            <a:ext cx="54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Схема алгоритму роботи нейронної мережі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 зворотного розповсюд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9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492440" cy="2779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1275120" y="573264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Діаграма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Объект 2"/>
          <p:cNvGraphicFramePr/>
          <p:nvPr/>
        </p:nvGraphicFramePr>
        <p:xfrm>
          <a:off x="3335400" y="549360"/>
          <a:ext cx="5844960" cy="655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5400" y="549360"/>
                    <a:ext cx="584496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3474-A069-41BB-90DF-AAADF0909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95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Приклад вікна роботи інтелектуальної систе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5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3290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7:54:32Z</dcterms:created>
  <dc:creator>Компьютер</dc:creator>
  <dc:description/>
  <dc:language>en-US</dc:language>
  <cp:lastModifiedBy>Oleh</cp:lastModifiedBy>
  <dcterms:modified xsi:type="dcterms:W3CDTF">2015-06-12T13:09:20Z</dcterms:modified>
  <cp:revision>38</cp:revision>
  <dc:subject/>
  <dc:title>Дослідження точності прогнозування часових рядів багатошаровим персептроном</dc:title>
</cp:coreProperties>
</file>