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A22-B21E-4A84-98AE-32162DA5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161-C1A1-4B0B-9C0A-16CD3EF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1FF-7244-4EEA-AC22-FD0FB59B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027-6495-4C2C-A60A-DF4E4B98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E91-D3A2-4290-8CC3-7F36734C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2C0-B6FB-463C-84D6-E6DBC1B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346-E4D8-4EE8-B784-BFEA788C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9DD-E134-4726-A371-17F70FE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701-0C23-4DEE-A6D4-7134091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D90-8A8B-4C7E-8AB2-D4AC3D2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E66-5AD8-488C-BE2E-B39DC0F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B76-D2FD-4C17-9A38-AB41B2B0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6B84-F155-4D55-927C-53126B297D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2B9-7A58-475B-A2AA-A0A4B3E0F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3B6-E1ED-4537-85EA-CD22540D9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ІНТЕЛЕКТУАЛЬНА СИСТЕМА РОЗВ’ЯЗАННЯ ЗАДАЧІ КОМІВОЯЖЕРА ЗА ДОПОМОГОЮ НЕЙРОННОЇ МЕРЕЖІ ХОПФІЛДА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ипломна робот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ьність 7.05010104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и штучного інтелект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30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онав студент гр. 1КН-14сп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овал М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доц. Арсенюк І.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0E2-8276-4A1D-A308-E351ABD99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60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ПРИКЛАД РОБОТИ ІНТЕЛЕКТУАЛЬНОЇ СИСТЕМИРОЗВ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ЯЗАННЯ ЗАДАЧІ КОМІВОЯЖ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" descr=""/>
          <p:cNvPicPr/>
          <p:nvPr/>
        </p:nvPicPr>
        <p:blipFill>
          <a:blip r:embed="rId1"/>
          <a:srcRect l="0" t="3977" r="0" b="0"/>
          <a:stretch/>
        </p:blipFill>
        <p:spPr>
          <a:xfrm>
            <a:off x="179280" y="1484280"/>
            <a:ext cx="6102360" cy="2760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6532560" y="1916280"/>
            <a:ext cx="2216160" cy="2304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6588000" y="12682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ий файл з координатами мі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34800" y="4508640"/>
            <a:ext cx="841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) Невелика кількість міст (N = 7), координати кожного міста згенеровані автоматично, стандартні коефіціенти, кількість ітерацій 20000, кількість спроб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сло міст дозволяє перевірити оптимальність знайденого шляху методом розв’язання задачі повним перебором всіх можливих варіантів. Як бачимо, результат роботи нейронної мережі повністю співпадає з результатом повного перебо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829-D36F-4023-BD0E-7FB2828A1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ПРИКЛАД №2 РОБОТИ ІНТЕЛЕКТУАЛЬНОЇ СИСТЕМИ РОЗВ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ff"/>
                </a:solidFill>
                <a:latin typeface="Calibri"/>
              </a:rPr>
              <a:t>ЯЗАННЯ ЗАДАЧІ КОМІВОЯЖ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rcRect l="0" t="3961" r="0" b="0"/>
          <a:stretch/>
        </p:blipFill>
        <p:spPr>
          <a:xfrm>
            <a:off x="1187280" y="1484280"/>
            <a:ext cx="676944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755640" y="5229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лика кількість міст N = 100, координати кожного міста згенеровані автоматично, стандартні коефіціенти, кількість ітерацій 20000, кількість спроб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10 проведених спроб було обрано оптимальний ш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F3E-0EB5-441D-AB96-7434FD6B4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Calibri"/>
              </a:rPr>
              <a:t>Результати робо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95280" y="47592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івняно з методом гілок та меж, запропонована інтелектуальна система має кращу швидкодію для кількості міст до 150. При подальшому зростанні кількості міст різко знижується швидкодія мережі (збільшується час пошуку рішення) і потребується більша кількість ітерацій для досягнення положення рівноваги мереж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Объект 2"/>
          <p:cNvGraphicFramePr/>
          <p:nvPr/>
        </p:nvGraphicFramePr>
        <p:xfrm>
          <a:off x="2268360" y="1052640"/>
          <a:ext cx="453564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052640"/>
                    <a:ext cx="453564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уло доведено, що створення програмного продукту є економічно доцільним для споживача, оскільки він не потребує великих експлуатаційних витрат – 791,3 грн./рік, загальні витрати на розробку становлять 38519,32 грн. Річний економічний ефект для споживача від впровадження нової розробки за рахунок експлуатаційних витрат становить 552,7 грн./рік та придбати програмний продукт можна на 2520,75 грн. дешевше ніж аналог. Термін окупності складає  3 місяц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f81bd"/>
                </a:solidFill>
                <a:latin typeface="Calibri"/>
              </a:rPr>
              <a:t>ВИСНО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и виконанні дипломної роботи було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роблено програмну реалізацію розв’язку задачі комівояжера. Порівняно з методом гілок та меж, запропонована інтелектуальна система має кращу швидкодію для кількості міст до 150.  При подальшому зростанні кількості міст різко знижується швидкодія мережі (збільшується час пошуку рішення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B6A-9278-42EB-8959-0D90F98D6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503-1273-4DB1-B102-B237A812A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374400"/>
            <a:ext cx="83534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Об’єкт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ослідження є процес розв’язання задачі комівояжера за допомогою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Предмет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ослідження є програмні засоби розв’язання задачі комівояжера на основі технологій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Мет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даної робот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 підвищення швидкодії розв’язання задачі комівояжера за рахунок використання нейронної мережі Хопфіл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АКТУАЛЬНІСТЬ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ть “задачі комівояжера” полягає в знаходженні найкоротшого замкнутого шляху обходу вершин графа (міст, станів певної системи і т. п.), які задані своїми координатами 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стосовується при проектуванні інформаційних систем та обчислювальних комплексів, у задачах маршрутизації в системах масового обслуговування та комп’ютерних мереж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ІКО-ЕКОНОМІЧНЕ ОБҐРУНТУВАННЯ РОЗРОБКИ ІНТЕЛЕКТУАЛЬНОЇ СИСТЕМИ РОЗВ’ЯЗАННЯ ЗАДАЧІ КОМІВОЯЖЕРА ЗА ДОПОМОГОЮ НЕЙРОННОЇ МЕРЕЖІ ХОПФІЛ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508720" y="4073400"/>
            <a:ext cx="345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ва розробка є кращою ніж та, що була обрана за аналог. Нова система є більш зручною у використанні, у неї вищі показники швидкості робо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26705" t="34289" r="8270" b="20294"/>
          <a:stretch/>
        </p:blipFill>
        <p:spPr>
          <a:xfrm>
            <a:off x="1258920" y="1157400"/>
            <a:ext cx="669780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1833480" y="3843360"/>
            <a:ext cx="3530520" cy="2898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24000" y="4292640"/>
            <a:ext cx="16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ог -програ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mi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метод гілок і м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458-B849-457F-A910-355C0CBD8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АНАЛІЗ ПРЕДМЕТНОЇ ОБЛАСТ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тоди наближеного розв'язання задачі комівояжер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вний лексичний перебір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жадібні алгоритми (метод найближчого сусіда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включення найближчого міс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найдешевшого включення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мінімального кістяка дере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 практиці застосовують різні модифікації ефективніших методів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гілок і меж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генетичних алгоритмі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лгоритм мурашиної колонії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симуляції віджиг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од еластичної мережі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ff0000"/>
                </a:solidFill>
                <a:uFillTx/>
                <a:latin typeface="Calibri"/>
              </a:rPr>
              <a:t>нейронні мережі Хопфіл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йронні мережі Кохон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E5F-921D-407D-BE2F-02CF02A1F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Формулювання задачі комівояж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дача комівояжера полягає у знаходженні найвигіднішого маршруту, що проходить через вказані міста по одному разу. В умовах завдання вказуються критерій вигідності маршруту (найкоротший, найдешевший, сукупний критерій тощо) і відповідні матриці відстаней, вартості тощ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хідні дан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ількість міст, для яких буде розв'язуватись задача комівояжер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Декартові координати кожного мі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оефіцієнти, необхідні для роботи нейронної мереж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кількість ітерацій на протязі яких буде здійснюватись робота нейронної мереж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загальна кількість спроб запусків нейронної мереж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ихідні да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довжина оптимального шлях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оптимальний ш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птимальний шлях – це деяка впорядкована множина міст, довжина шляху між якими найменша серед усіх маршрутів, що були розглянуті як ті, що задовольняють умову задач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768D-0ED7-48A8-9C7E-37954CE12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ОБҐРУНТУВАННЯ МЕТОДУ РОЗВ’ЯЗАННЯ ЗАДАЧІ КОМІВОЯЖ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3600720" cy="367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712800" y="177480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хітектура нейронної мережі Хопфіл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rcRect l="33957" t="21830" r="14453" b="9011"/>
          <a:stretch/>
        </p:blipFill>
        <p:spPr>
          <a:xfrm>
            <a:off x="3635280" y="1736640"/>
            <a:ext cx="5335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1410-A00F-41A0-AA35-C618532DC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редставлення даних у мережі Хопфіл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4" descr=""/>
          <p:cNvPicPr/>
          <p:nvPr/>
        </p:nvPicPr>
        <p:blipFill>
          <a:blip r:embed="rId1"/>
          <a:srcRect l="39067" t="26667" r="21457" b="13701"/>
          <a:stretch/>
        </p:blipFill>
        <p:spPr>
          <a:xfrm>
            <a:off x="1476360" y="1268280"/>
            <a:ext cx="60483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F25-E143-490B-9F25-DA1A30CAA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35280" y="41400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Calibri"/>
              </a:rPr>
              <a:t>Схема алгоритму роботи інтелектуальної систе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564000" y="1936800"/>
            <a:ext cx="53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телектуальна система, що виконує всі обрахунки і дії з нейронною мережею Хопфілда була запрограмована на мові програмування Matlab у середовищі Matlab R2012a. Модуль, що відповідає за візуальну роботу з користувачем, був запрограмований на мові програмування Java у середовищі програмування Eclipse 4.2 з використанням плагіна для побудови Swing GUI WindowBuil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3564000" y="5013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а періодично оновлює зображення графа стану нейронної мережі в процесі роботи, і користувач може спостерігати роботу мережі в режимі реального ча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Объект 2"/>
          <p:cNvGraphicFramePr/>
          <p:nvPr/>
        </p:nvGraphicFramePr>
        <p:xfrm>
          <a:off x="179280" y="-27000"/>
          <a:ext cx="3149640" cy="69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27000"/>
                    <a:ext cx="314964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E9C-EAE2-4461-87D5-4DFD9D5DC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Calibri"/>
              </a:rPr>
              <a:t>СТАРТОВЕ ВІКНО ІНТЕЛЕКТУАЛЬНОЇ СИСТЕ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rcRect l="0" t="4315" r="0" b="0"/>
          <a:stretch/>
        </p:blipFill>
        <p:spPr>
          <a:xfrm>
            <a:off x="2009880" y="1916280"/>
            <a:ext cx="512424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R2_D2</cp:lastModifiedBy>
  <dcterms:modified xsi:type="dcterms:W3CDTF">2015-06-15T06:18:37Z</dcterms:modified>
  <cp:revision>40</cp:revision>
  <dc:subject/>
  <dc:title>Дослідження точності прогнозування часових рядів багатошаровим персептроном</dc:title>
</cp:coreProperties>
</file>