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2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96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260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96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CB5D-BE68-429E-8BBA-24DDE50D55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D3FD-8683-460C-86B2-5584B124F0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FDE9-3F27-4CB8-84DB-20A6A71AA6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7CBB-CF26-42BC-A243-C7BAB65D0B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1F48-5569-4304-A452-F11D1E16DD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D8D3-4870-4CF8-8D6C-A4EE96BBEE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A728-96DC-470A-A4C8-50898F1A0A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0E54-D27E-4611-9CD5-C889F2E1B4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6AC3-348B-40EB-B765-DAEC3539DA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9F8B-7B5C-4C6F-8A72-3B51DD3FE7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5261-46A3-4630-BC3D-11BB4D4459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EC15-7B51-4187-96E3-29D5BA12D1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340-7CB1-4C0F-B817-8AAA5F28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EFB-77AD-41EC-B2E0-AC6B7A34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4A1-D487-4728-9FB7-9D5257F1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E3B-151B-4937-AE9D-8957C0B8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DC4-B99C-4C88-B9EF-1D4FBF23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B56-6B6C-4EA5-9AAD-CF2EBAF7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B31-53F0-46EE-A4F9-5569D64B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011-929D-4D59-9DE9-6CB5483B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0C5-24CE-4744-81D3-9EB88942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E40-58BC-483A-8843-1C86A578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004-2A43-4218-982D-63E225DA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39E-FE42-4B7C-A4F9-1E60698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61D8-113F-46D3-A40F-FF72591972B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5556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ІНТЕЛЕКТУАЛЬНА СИСТЕМА РОЗПІЗНАВАННЯ СЛІВ У ТЕКСТІ НА ОСНОВІ ПЕРЦЕП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2265480" y="652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ипломна ро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92000" y="5229000"/>
            <a:ext cx="7272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онав студент гр. 1КН-14сп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шевой В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уковий керівник: к.т.н., доц., Колесницький О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C204-91CF-4AC5-BB61-8EF7DDE989CC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80" y="490680"/>
            <a:ext cx="850716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гальна схема IDEF0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rcRect l="31996" t="24115" r="13431" b="17305"/>
          <a:stretch/>
        </p:blipFill>
        <p:spPr>
          <a:xfrm>
            <a:off x="971640" y="1557360"/>
            <a:ext cx="727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A244-8AC6-4406-B53F-DCD45100416C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Головна форма інтелектуальної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22320" y="2651040"/>
            <a:ext cx="796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22320" y="2651040"/>
            <a:ext cx="796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6"/>
          <p:cNvSpPr/>
          <p:nvPr/>
        </p:nvSpPr>
        <p:spPr>
          <a:xfrm>
            <a:off x="0" y="271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1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1"/>
          <p:cNvPicPr/>
          <p:nvPr/>
        </p:nvPicPr>
        <p:blipFill>
          <a:blip r:embed="rId1"/>
          <a:stretch/>
        </p:blipFill>
        <p:spPr>
          <a:xfrm>
            <a:off x="1547640" y="1565280"/>
            <a:ext cx="5977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1D9A-154C-434D-B237-8EEFDE89081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ВІКНО ПРОГРАМИ З ВІДКРИТИМ ЗОБРАЖЕННЯМ ТЕК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1_1"/>
          <p:cNvPicPr/>
          <p:nvPr/>
        </p:nvPicPr>
        <p:blipFill>
          <a:blip r:embed="rId1"/>
          <a:stretch/>
        </p:blipFill>
        <p:spPr>
          <a:xfrm>
            <a:off x="1555920" y="1557360"/>
            <a:ext cx="6032160" cy="49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зультат сегмент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88D5-50FB-42E9-866E-877950F6FCC8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6" descr="1_2"/>
          <p:cNvPicPr/>
          <p:nvPr/>
        </p:nvPicPr>
        <p:blipFill>
          <a:blip r:embed="rId1"/>
          <a:stretch/>
        </p:blipFill>
        <p:spPr>
          <a:xfrm>
            <a:off x="1442880" y="1519200"/>
            <a:ext cx="59374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86B7-9544-4E2F-92AB-AE14785FEBBA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РЕЗУЛЬТАТ РОЗПІЗНА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13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5" descr="1_3"/>
          <p:cNvPicPr/>
          <p:nvPr/>
        </p:nvPicPr>
        <p:blipFill>
          <a:blip r:embed="rId1"/>
          <a:stretch/>
        </p:blipFill>
        <p:spPr>
          <a:xfrm>
            <a:off x="1835280" y="981000"/>
            <a:ext cx="5387760" cy="44546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"/>
          <p:cNvSpPr/>
          <p:nvPr/>
        </p:nvSpPr>
        <p:spPr>
          <a:xfrm>
            <a:off x="468360" y="55897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цінки достовірності пошуку заданого слова у тексті, було проведено порівняння результатів роботи розробленої програми з програмою CuneiForm. Достовірність (точність) роботи розробленої програми склала 94%, а програми-аналога – 91%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6160" y="198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ЕКОНОМІЧНА ЧАС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4920" y="1628640"/>
            <a:ext cx="8280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ведені відповідні економічні розрахунки, які підтверджують економічну доцільність розробки інтелектуальної системи розпізнавання слів у тексті, оскільки вона є дешевше ніж аналог на 2210 грн., термін її окупності складає 1 місяць. Загальні витрати на розробку нового програмного продукту складають 70694,11 г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8101080" y="6308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14F7-1689-4D46-A9FC-5C861296DE16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1595520"/>
            <a:ext cx="80755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і виконання ДР було розроблено інтелектуальну систему, що дозволяє розпізнавати задане слово в тексті на зображенні. Для розпізнавання застосовується алгоритм на основі нейронної мережі типу персептрон. Перед безпосереднім розпізнаванням виконується сегментація зображення. Мета досягнута, оскільки достовірність (точність) роботи розробленої програми склала 94%, а програми-аналога (CuneiForm) – 91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ВИС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786760" y="2708280"/>
            <a:ext cx="39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BC03-23E5-4B5F-A3C2-C3510DD9726D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c00000"/>
                </a:solidFill>
                <a:uFillTx/>
                <a:latin typeface="Arial"/>
              </a:rPr>
              <a:t>Об</a:t>
            </a:r>
            <a:r>
              <a:rPr b="0" lang="ja-JP" sz="2000" spc="-1" strike="noStrike" u="sng">
                <a:solidFill>
                  <a:srgbClr val="c00000"/>
                </a:solidFill>
                <a:uFillTx/>
                <a:latin typeface="Arial"/>
              </a:rPr>
              <a:t>’</a:t>
            </a:r>
            <a:r>
              <a:rPr b="0" lang="uk-UA" sz="2000" spc="-1" strike="noStrike" u="sng">
                <a:solidFill>
                  <a:srgbClr val="c00000"/>
                </a:solidFill>
                <a:uFillTx/>
                <a:latin typeface="Arial"/>
              </a:rPr>
              <a:t>єкт дослідженн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процес розпізнавання слів у тексті в інтелектуальних ком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ютерних системах на основі нейронних мере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c00000"/>
                </a:solidFill>
                <a:uFillTx/>
                <a:latin typeface="Arial"/>
              </a:rPr>
              <a:t>Предмет дослідженн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програмні засоби розпізнавання слів у тексті в інтелектуальних ком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ютерних системах на основі персепт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c00000"/>
                </a:solidFill>
                <a:uFillTx/>
                <a:latin typeface="Arial"/>
              </a:rPr>
              <a:t>Мета дипломної роб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підвищення достовірності розпізнавання слів у тексті за рахунок застосування нейронної мережі типу персепт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КТУА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пізнавання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дан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 на зображенн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кстов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є дуже актуальним для автоматизованого аналізу періодичних друкованих та електронних видань на наявність інформації про задану особу чи про задане ключове сл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8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ЕХНІКО-ЕКОНОМІЧНЕ ОБҐРУНТУВАННЯ ДОЦІЛЬНОСТІ РОЗРОБКИ ІНТЕЛЕКТУАЛЬНОЇ СИСТЕМИ РОЗПІЗНАВАНН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СЛІВ У ТЕК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708360" y="4732200"/>
            <a:ext cx="521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ова розробка 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щою ніж та, що була обрана за аналог. Нова система є більш зручною у використанні, у неї вищі показники швидкості роботи та точності розпізнавання, а також наявна можливі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пізнавання з фотограф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8317080" y="6308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27766" t="19860" r="6890" b="9169"/>
          <a:stretch/>
        </p:blipFill>
        <p:spPr>
          <a:xfrm>
            <a:off x="3606840" y="1268280"/>
            <a:ext cx="5332320" cy="3257640"/>
          </a:xfrm>
          <a:prstGeom prst="rect">
            <a:avLst/>
          </a:prstGeom>
          <a:ln w="0">
            <a:noFill/>
          </a:ln>
        </p:spPr>
      </p:pic>
      <p:pic>
        <p:nvPicPr>
          <p:cNvPr id="57" name="officeArt object" descr="Окно OCR-программы CuneiForm"/>
          <p:cNvPicPr/>
          <p:nvPr/>
        </p:nvPicPr>
        <p:blipFill>
          <a:blip r:embed="rId2"/>
          <a:stretch/>
        </p:blipFill>
        <p:spPr>
          <a:xfrm>
            <a:off x="195120" y="1898640"/>
            <a:ext cx="3297240" cy="3259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625680" y="522144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налог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грамна систе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Cune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4400" y="188640"/>
            <a:ext cx="84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СТАНОВКА ЗАДАЧІ РОЗПІЗНАВАННЯ СЛІВ У ТЕК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1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ідно спроектувати інтелектуальну систему, що реалізує розпізнаванн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даног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 на зображенні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кстовог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хідне зображення може бути будь-якого розміру, орієнтація тексту повинна бути горизонтальн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хідні дан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астрове зображення док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екст документа повинен бути написаний на білому фоні, чорним шриф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Шрифт тексту не повинен бути курсивним або напівжир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озмір зображення може бути будь-я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ложення тексту на зображенні горизонталь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телектуальна система повинна виконувати наступні завд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вантаження зображ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егментація тексту на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озпізнавання серед слів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даног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хідні дані: Таблиця знайдених сл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69B6-68B0-4777-8534-63F97C0F8456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12D9-2581-4318-8286-A22D4DD7F22B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395280" y="765000"/>
            <a:ext cx="8569440" cy="46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Методи розпізнава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истич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йромереже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Вибір типу нейронної мережі</a:t>
            </a: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- Багатошарові нейронні мереж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- Повнозв'язні нейронні мереж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- Нейронні мережі з локальними зв'яз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- Неструктуровані нейронні мережі: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6458-29EE-4C21-BDD5-EEA6A55D2F5A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92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СТРУКТУРНА СХЕМА ПЕРСЕПТ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51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Файл:Перцептрон.svg"/>
          <p:cNvPicPr/>
          <p:nvPr/>
        </p:nvPicPr>
        <p:blipFill>
          <a:blip r:embed="rId1"/>
          <a:stretch/>
        </p:blipFill>
        <p:spPr>
          <a:xfrm>
            <a:off x="1968480" y="1268280"/>
            <a:ext cx="5195880" cy="46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35640" y="990360"/>
            <a:ext cx="32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ЛГОРИТМ СЕГМЕНТАЦІЇ 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F0E1-D959-4C47-8669-EB3759B9EB09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31703" t="24756" r="9423" b="27923"/>
          <a:stretch/>
        </p:blipFill>
        <p:spPr>
          <a:xfrm>
            <a:off x="3838680" y="3789360"/>
            <a:ext cx="5197320" cy="2349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Объект 4"/>
          <p:cNvGraphicFramePr/>
          <p:nvPr/>
        </p:nvGraphicFramePr>
        <p:xfrm>
          <a:off x="-36360" y="399960"/>
          <a:ext cx="2336760" cy="598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399960"/>
                    <a:ext cx="233676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Объект 6"/>
          <p:cNvGraphicFramePr/>
          <p:nvPr/>
        </p:nvGraphicFramePr>
        <p:xfrm>
          <a:off x="2127240" y="260280"/>
          <a:ext cx="2876400" cy="560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7240" y="260280"/>
                    <a:ext cx="28764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CF68-2409-43FD-8FB9-D510A643499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332000" y="-27000"/>
            <a:ext cx="7993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c00000"/>
                </a:solidFill>
                <a:latin typeface="Arial"/>
              </a:rPr>
              <a:t>Загальний алгоритм роботи інтелектуальної системи розпізнавання слів у текс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Объект 3"/>
          <p:cNvGraphicFramePr/>
          <p:nvPr/>
        </p:nvGraphicFramePr>
        <p:xfrm>
          <a:off x="395280" y="117360"/>
          <a:ext cx="1676520" cy="669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7360"/>
                    <a:ext cx="1676520" cy="669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Рисунок 1" descr=""/>
          <p:cNvPicPr/>
          <p:nvPr/>
        </p:nvPicPr>
        <p:blipFill>
          <a:blip r:embed="rId3"/>
          <a:stretch/>
        </p:blipFill>
        <p:spPr>
          <a:xfrm>
            <a:off x="4211640" y="2349360"/>
            <a:ext cx="3065400" cy="42274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3776760" y="1681200"/>
            <a:ext cx="39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СТРУКТУРА ПРО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F2AB-076A-42CC-8F53-1E2D364E3366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ДІАГРАМА КЛАСІВ ІНТЕЛЕКТУАЛЬНОЇ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3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6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9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2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1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6" descr=""/>
          <p:cNvPicPr/>
          <p:nvPr/>
        </p:nvPicPr>
        <p:blipFill>
          <a:blip r:embed="rId1"/>
          <a:stretch/>
        </p:blipFill>
        <p:spPr>
          <a:xfrm>
            <a:off x="1979640" y="1467000"/>
            <a:ext cx="511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3:01:42Z</dcterms:created>
  <dc:creator>hammer</dc:creator>
  <dc:description/>
  <dc:language>en-US</dc:language>
  <cp:lastModifiedBy>Владислав Кошевой</cp:lastModifiedBy>
  <dcterms:modified xsi:type="dcterms:W3CDTF">2015-06-15T19:16:20Z</dcterms:modified>
  <cp:revision>294</cp:revision>
  <dc:subject/>
  <dc:title>Оптоелектронні частотно-динамічні нейронні елементи</dc:title>
</cp:coreProperties>
</file>