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2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96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260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960" y="937224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AB20-99D8-47A8-AFAA-9AE69E5C2D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754F-EC69-4C2E-97C6-2424F52E46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3612-B148-498E-A6E4-6B37ADA854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0548-170B-497D-8B6B-C27839C527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FE01-45D8-49EC-BA49-652057D301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8AE0-AF15-4E2B-B3F8-07265F30E5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59B5-F399-40E8-9082-7D3F2D5C47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5C66-3C68-412A-9CD0-C1A05FC34A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72DD-A4DC-4DEC-BFC6-8A66A29716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C3D9-FF75-46F2-A14C-2854FAF96E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A451-760B-40DF-862C-3E8A695AF7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DC8A-9FEF-4A41-A80D-C00FD5D713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97E-A636-46E2-B48D-35E6F364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FD7-AACE-4407-89E6-2F5E41C6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D36-D39C-4CB7-AE7B-84BBC2A6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3EC-52F4-4A8C-AFBD-9EDCF3FB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5A3-033B-47D4-8A8A-5D524EA0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17E-63EE-43B9-AF59-CDB5DD42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936-4BB7-48FB-90B9-ADA7800D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59DC-03A7-4476-8DFA-9D563655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B5C6-A8B7-4E34-BB27-3A3DD4C1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A1D-FAB2-4678-9C48-53C6AEAD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9D4-E386-4707-9082-459F6113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3D1-60A2-4BAC-9D3B-1479A19E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56C1-9D29-42F3-849B-0186E7E693D1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5556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ІНТЕЛЕКТУАЛЬНА СИСТЕМА РОЗПІЗНАВАННЯ СЛІВ У ТЕКСТІ НА ОСНОВІ ПЕРЦЕП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2265480" y="6523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ипломна роб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92000" y="5229000"/>
            <a:ext cx="7272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онав студент гр. 1КН-14сп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шевой В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уковий керівник: к.т.н., доц., Колесницький О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07B6-33EE-4293-8D37-8A740DEE0531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80" y="490680"/>
            <a:ext cx="850716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гальна схема IDEF0 сист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rcRect l="31996" t="24115" r="13431" b="17305"/>
          <a:stretch/>
        </p:blipFill>
        <p:spPr>
          <a:xfrm>
            <a:off x="971640" y="1557360"/>
            <a:ext cx="727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6424-88AF-4DA0-B52E-C61B1F3E8EEC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Головна форма інтелектуальної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22320" y="2651040"/>
            <a:ext cx="796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22320" y="2651040"/>
            <a:ext cx="796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6"/>
          <p:cNvSpPr/>
          <p:nvPr/>
        </p:nvSpPr>
        <p:spPr>
          <a:xfrm>
            <a:off x="0" y="271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1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1"/>
          <p:cNvPicPr/>
          <p:nvPr/>
        </p:nvPicPr>
        <p:blipFill>
          <a:blip r:embed="rId1"/>
          <a:stretch/>
        </p:blipFill>
        <p:spPr>
          <a:xfrm>
            <a:off x="1547640" y="1565280"/>
            <a:ext cx="59770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73FF-AD87-4231-B8F2-90674B19FFA7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ВІКНО ПРОГРАМИ З ВІДКРИТИМ ЗОБРАЖЕННЯМ ТЕК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3" descr="1_1"/>
          <p:cNvPicPr/>
          <p:nvPr/>
        </p:nvPicPr>
        <p:blipFill>
          <a:blip r:embed="rId1"/>
          <a:stretch/>
        </p:blipFill>
        <p:spPr>
          <a:xfrm>
            <a:off x="1555920" y="1557360"/>
            <a:ext cx="6032160" cy="49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зультат сегмент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0F48-0077-4C56-A90F-8980E1E3D4EA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6" descr="1_2"/>
          <p:cNvPicPr/>
          <p:nvPr/>
        </p:nvPicPr>
        <p:blipFill>
          <a:blip r:embed="rId1"/>
          <a:stretch/>
        </p:blipFill>
        <p:spPr>
          <a:xfrm>
            <a:off x="1442880" y="1519200"/>
            <a:ext cx="593748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1954-1F2E-4BB3-B80E-544390914EFE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РЕЗУЛЬТАТ РОЗПІЗНА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134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5" descr="1_3"/>
          <p:cNvPicPr/>
          <p:nvPr/>
        </p:nvPicPr>
        <p:blipFill>
          <a:blip r:embed="rId1"/>
          <a:stretch/>
        </p:blipFill>
        <p:spPr>
          <a:xfrm>
            <a:off x="1835280" y="981000"/>
            <a:ext cx="5387760" cy="44546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"/>
          <p:cNvSpPr/>
          <p:nvPr/>
        </p:nvSpPr>
        <p:spPr>
          <a:xfrm>
            <a:off x="468360" y="558972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цінки достовірності пошуку заданого слова у тексті, було проведено порівняння результатів роботи розробленої програми з програмою CuneiForm. Достовірність (точність) роботи розробленої програми склала 94%, а програми-аналога – 91%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6160" y="198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ЕКОНОМІЧНА ЧАС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4920" y="1628640"/>
            <a:ext cx="8280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ведені відповідні економічні розрахунки, які підтверджують економічну доцільність розробки інтелектуальної системи розпізнавання слів у тексті, оскільки вона є дешевше ніж аналог на 2210 грн., термін її окупності складає 1 місяць. Загальні витрати на розробку нового програмного продукту складають 70694,11 г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8101080" y="6308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622B-F8F2-4D0D-A1A7-C322FC49A834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1280" y="1595520"/>
            <a:ext cx="80755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і виконання ДР було розроблено інтелектуальну систему, що дозволяє розпізнавати задане слово в тексті на зображенні. Для розпізнавання застосовується алгоритм на основі нейронної мережі типу персептрон. Перед безпосереднім розпізнаванням виконується сегментація зображення. Мета досягнута, оскільки достовірність (точність) роботи розробленої програми склала 94%, а програми-аналога (CuneiForm) – 91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ВИС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786760" y="2708280"/>
            <a:ext cx="390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9597-CDC0-465C-B707-56DECCF0B2CF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c00000"/>
                </a:solidFill>
                <a:uFillTx/>
                <a:latin typeface="Arial"/>
              </a:rPr>
              <a:t>Об</a:t>
            </a:r>
            <a:r>
              <a:rPr b="0" lang="ja-JP" sz="2000" spc="-1" strike="noStrike" u="sng">
                <a:solidFill>
                  <a:srgbClr val="c00000"/>
                </a:solidFill>
                <a:uFillTx/>
                <a:latin typeface="Arial"/>
              </a:rPr>
              <a:t>’</a:t>
            </a:r>
            <a:r>
              <a:rPr b="0" lang="uk-UA" sz="2000" spc="-1" strike="noStrike" u="sng">
                <a:solidFill>
                  <a:srgbClr val="c00000"/>
                </a:solidFill>
                <a:uFillTx/>
                <a:latin typeface="Arial"/>
              </a:rPr>
              <a:t>єкт дослідженн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процес розпізнавання слів у тексті в інтелектуальних комп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ютерних системах на основі нейронних мере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c00000"/>
                </a:solidFill>
                <a:uFillTx/>
                <a:latin typeface="Arial"/>
              </a:rPr>
              <a:t>Предмет дослідженн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програмні засоби розпізнавання слів у тексті в інтелектуальних комп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ютерних системах на основі персептр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c00000"/>
                </a:solidFill>
                <a:uFillTx/>
                <a:latin typeface="Arial"/>
              </a:rPr>
              <a:t>Мета дипломної роб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підвищення достовірності розпізнавання слів у тексті за рахунок застосування нейронної мережі типу персепт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АКТУАЛЬ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пізнавання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дан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 на зображенн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кстов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є дуже актуальним для автоматизованого аналізу періодичних друкованих та електронних видань на наявність інформації про задану особу чи про задане ключове сл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8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ТЕХНІКО-ЕКОНОМІЧНЕ ОБҐРУНТУВАННЯ ДОЦІЛЬНОСТІ РОЗРОБКИ ІНТЕЛЕКТУАЛЬНОЇ СИСТЕМИ РОЗПІЗНАВАНН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СЛІВ У ТЕКС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708360" y="4732200"/>
            <a:ext cx="521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ова розробка 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щою ніж та, що була обрана за аналог. Нова система є більш зручною у використанні, у неї вищі показники швидкості роботи та точності розпізнавання, а також наявна можливі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пізнавання з фотограф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8317080" y="6308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27766" t="19860" r="6890" b="9169"/>
          <a:stretch/>
        </p:blipFill>
        <p:spPr>
          <a:xfrm>
            <a:off x="3606840" y="1268280"/>
            <a:ext cx="5332320" cy="3257640"/>
          </a:xfrm>
          <a:prstGeom prst="rect">
            <a:avLst/>
          </a:prstGeom>
          <a:ln w="0">
            <a:noFill/>
          </a:ln>
        </p:spPr>
      </p:pic>
      <p:pic>
        <p:nvPicPr>
          <p:cNvPr id="57" name="officeArt object" descr="Окно OCR-программы CuneiForm"/>
          <p:cNvPicPr/>
          <p:nvPr/>
        </p:nvPicPr>
        <p:blipFill>
          <a:blip r:embed="rId2"/>
          <a:stretch/>
        </p:blipFill>
        <p:spPr>
          <a:xfrm>
            <a:off x="195120" y="1898640"/>
            <a:ext cx="3297240" cy="3259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625680" y="5221440"/>
            <a:ext cx="254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налог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грамна систе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Cune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4400" y="188640"/>
            <a:ext cx="84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ОСТАНОВКА ЗАДАЧІ РОЗПІЗНАВАННЯ СЛІВ У ТЕК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1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ідно спроектувати інтелектуальну систему, що реалізує розпізнавання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даног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а на зображенні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кстовог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а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хідне зображення може бути будь-якого розміру, орієнтація тексту повинна бути горизонтальн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хідні дан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астрове зображення доку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Текст документа повинен бути написаний на білому фоні, чорним шриф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Шрифт тексту не повинен бути курсивним або напівжир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озмір зображення може бути будь-я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ложення тексту на зображенні горизонталь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нтелектуальна система повинна виконувати наступні завд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авантаження зображ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егментація тексту на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озпізнавання серед слів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даног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хідні дані: Таблиця знайдених сл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F046-05B1-4A96-96E4-A98C0F015690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406B-9AFC-4BF8-BF87-D64E82F23C3B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395280" y="765000"/>
            <a:ext cx="8569440" cy="46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Методи розпізнава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истич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йромереже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Вибір типу нейронної мережі</a:t>
            </a: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- Багатошарові нейронні мереж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- Повнозв'язні нейронні мереж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- Нейронні мережі з локальними зв'яз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- Неструктуровані нейронні мережі: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B68B-0EB4-4E7E-B896-47A0EFBF4D18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928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СТРУКТУРНА СХЕМА ПЕРСЕПТ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51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Файл:Перцептрон.svg"/>
          <p:cNvPicPr/>
          <p:nvPr/>
        </p:nvPicPr>
        <p:blipFill>
          <a:blip r:embed="rId1"/>
          <a:stretch/>
        </p:blipFill>
        <p:spPr>
          <a:xfrm>
            <a:off x="1968480" y="1268280"/>
            <a:ext cx="5195880" cy="46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35640" y="990360"/>
            <a:ext cx="32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ЛГОРИТМ СЕГМЕНТАЦІЇ ТЕК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8859-329C-4714-A9B5-BC3ABB360BA2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31703" t="24756" r="9423" b="27923"/>
          <a:stretch/>
        </p:blipFill>
        <p:spPr>
          <a:xfrm>
            <a:off x="3838680" y="3789360"/>
            <a:ext cx="5197320" cy="2349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Объект 4"/>
          <p:cNvGraphicFramePr/>
          <p:nvPr/>
        </p:nvGraphicFramePr>
        <p:xfrm>
          <a:off x="-36360" y="399960"/>
          <a:ext cx="2336760" cy="598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399960"/>
                    <a:ext cx="233676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Объект 6"/>
          <p:cNvGraphicFramePr/>
          <p:nvPr/>
        </p:nvGraphicFramePr>
        <p:xfrm>
          <a:off x="2127240" y="260280"/>
          <a:ext cx="2876400" cy="560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7240" y="260280"/>
                    <a:ext cx="287640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6C08-F4C9-4EFB-9346-B3151B12FD77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332000" y="-27000"/>
            <a:ext cx="7993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c00000"/>
                </a:solidFill>
                <a:latin typeface="Arial"/>
              </a:rPr>
              <a:t>Загальний алгоритм роботи інтелектуальної системи розпізнавання слів у текст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Объект 3"/>
          <p:cNvGraphicFramePr/>
          <p:nvPr/>
        </p:nvGraphicFramePr>
        <p:xfrm>
          <a:off x="395280" y="117360"/>
          <a:ext cx="1676520" cy="669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7360"/>
                    <a:ext cx="1676520" cy="669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Рисунок 1" descr=""/>
          <p:cNvPicPr/>
          <p:nvPr/>
        </p:nvPicPr>
        <p:blipFill>
          <a:blip r:embed="rId3"/>
          <a:stretch/>
        </p:blipFill>
        <p:spPr>
          <a:xfrm>
            <a:off x="4211640" y="2349360"/>
            <a:ext cx="3065400" cy="42274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3776760" y="1681200"/>
            <a:ext cx="39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СТРУКТУРА ПРОЕ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A0FD-A98A-4C0D-8065-956586E68956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ДІАГРАМА КЛАСІВ ІНТЕЛЕКТУАЛЬНОЇ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523880" y="281952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523880" y="281952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523880" y="281952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1523880" y="281952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3"/>
          <p:cNvSpPr/>
          <p:nvPr/>
        </p:nvSpPr>
        <p:spPr>
          <a:xfrm>
            <a:off x="1523880" y="281952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6"/>
          <p:cNvSpPr/>
          <p:nvPr/>
        </p:nvSpPr>
        <p:spPr>
          <a:xfrm>
            <a:off x="1523880" y="281952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9"/>
          <p:cNvSpPr/>
          <p:nvPr/>
        </p:nvSpPr>
        <p:spPr>
          <a:xfrm>
            <a:off x="1523880" y="281952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2"/>
          <p:cNvSpPr/>
          <p:nvPr/>
        </p:nvSpPr>
        <p:spPr>
          <a:xfrm>
            <a:off x="1523880" y="2819520"/>
            <a:ext cx="474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1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6" descr=""/>
          <p:cNvPicPr/>
          <p:nvPr/>
        </p:nvPicPr>
        <p:blipFill>
          <a:blip r:embed="rId1"/>
          <a:stretch/>
        </p:blipFill>
        <p:spPr>
          <a:xfrm>
            <a:off x="1979640" y="1467000"/>
            <a:ext cx="511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3:01:42Z</dcterms:created>
  <dc:creator>hammer</dc:creator>
  <dc:description/>
  <dc:language>en-US</dc:language>
  <cp:lastModifiedBy>Владислав Кошевой</cp:lastModifiedBy>
  <dcterms:modified xsi:type="dcterms:W3CDTF">2015-06-15T19:16:20Z</dcterms:modified>
  <cp:revision>294</cp:revision>
  <dc:subject/>
  <dc:title>Оптоелектронні частотно-динамічні нейронні елементи</dc:title>
</cp:coreProperties>
</file>