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284-CA95-40A4-AD51-F83636EC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0F-0BFF-4384-83CA-93DF3A2A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50D-26DF-4818-A789-EFC56564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F56-CCD6-42C2-ADA3-3EF42BEF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539-56B4-4757-81D0-2BB0A88C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DCC-5BF6-4B2B-BD44-B86986D5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D45-7CAE-4D43-9727-F55E1B6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785-9032-47D2-968E-CAA8E7E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EFE-46A2-41AA-BB8A-AE3101B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6BC-DE1D-4D2A-AB2C-FF27E81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CB2-6293-4C39-928B-C755954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A52-9B30-4694-8695-D7D7E30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BF1E-7BFE-4346-9AB0-3B037B18782A}" type="slidenum">
              <a:rPr b="0" lang="uk-U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14839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ПРОЦЕСОРНОГО  БЛОКУ  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УВАННЯ СИСТЕМОЮ  ДОСТУПУ  ДЛЯ  ОФІСНОГО  ПРИМІЩЕНН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071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еціальністю 7.05010201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'ютерні системи та мережі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821120" y="4190400"/>
            <a:ext cx="37148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к.т.н., доц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птанов В. 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в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 КІ-14сп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ий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71880" y="585828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ВНТУ 2015 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14240" y="428760"/>
            <a:ext cx="821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інформацій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ологій та комп’ютерної інженер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обчислювальн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63640" y="836640"/>
            <a:ext cx="6400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6000" spc="-1" strike="noStrike">
                <a:solidFill>
                  <a:srgbClr val="0070c0"/>
                </a:solidFill>
                <a:latin typeface="Calibri"/>
              </a:rPr>
              <a:t>Дякую за увагу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042920" y="61272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60560" y="1090440"/>
            <a:ext cx="734508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ій керування доступом призначений для контролю стану дверей, вікон, своєчасного реагування на їх відкриття та унеможливлення несанкціонованого доступу до об’єкта,  що охороня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безпечу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вер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вік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кацію режимів роботи та сповіщення у разі несанкціонованого проникн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ування ролетів вікон та дверей для унеможливлення несанкціонованого доступу до об’є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 до режиму охорони при натисканні кнопки «Охорона» та повернення до режиму очікування, при введенні вдалому скануванні електронного ключа Touch Memory DS199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F3MicroCan"/>
          <p:cNvPicPr/>
          <p:nvPr/>
        </p:nvPicPr>
        <p:blipFill>
          <a:blip r:embed="rId1"/>
          <a:stretch/>
        </p:blipFill>
        <p:spPr>
          <a:xfrm>
            <a:off x="5983200" y="3429000"/>
            <a:ext cx="265608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2946600" y="54936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ПРИСТР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5564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Объект 2"/>
          <p:cNvGraphicFramePr/>
          <p:nvPr/>
        </p:nvGraphicFramePr>
        <p:xfrm>
          <a:off x="755640" y="1052640"/>
          <a:ext cx="4924440" cy="32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52640"/>
                    <a:ext cx="492444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042920" y="61272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ІАЛЬНА СХЕМА СИСТЕМИ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1"/>
          <a:stretch/>
        </p:blipFill>
        <p:spPr>
          <a:xfrm>
            <a:off x="379440" y="1066680"/>
            <a:ext cx="8385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2"/>
          <p:cNvGraphicFramePr/>
          <p:nvPr/>
        </p:nvGraphicFramePr>
        <p:xfrm>
          <a:off x="2071800" y="1170000"/>
          <a:ext cx="5000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170000"/>
                    <a:ext cx="5000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3"/>
          <p:cNvSpPr/>
          <p:nvPr/>
        </p:nvSpPr>
        <p:spPr>
          <a:xfrm>
            <a:off x="2853000" y="62064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ЧИТАНН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U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Объект 2"/>
          <p:cNvGraphicFramePr/>
          <p:nvPr/>
        </p:nvGraphicFramePr>
        <p:xfrm>
          <a:off x="2038320" y="981000"/>
          <a:ext cx="50673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981000"/>
                    <a:ext cx="5067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Прямоугольник 3"/>
          <p:cNvSpPr/>
          <p:nvPr/>
        </p:nvSpPr>
        <p:spPr>
          <a:xfrm>
            <a:off x="3168360" y="4762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аних DS199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1420920" y="2924280"/>
            <a:ext cx="6302160" cy="2879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2916000" y="227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щення кодів ключів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497760" y="54658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очік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31880" y="1004760"/>
            <a:ext cx="6307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4140000" y="55166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ох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332000" y="981000"/>
            <a:ext cx="6365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960720" y="551664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трив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763640" y="1052640"/>
            <a:ext cx="6153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5:00Z</dcterms:created>
  <dc:creator>sergik</dc:creator>
  <dc:description/>
  <dc:language>en-US</dc:language>
  <cp:lastModifiedBy>Jinole</cp:lastModifiedBy>
  <dcterms:modified xsi:type="dcterms:W3CDTF">2015-06-16T13:45:58Z</dcterms:modified>
  <cp:revision>60</cp:revision>
  <dc:subject/>
  <dc:title>РОЗРОБКА СИСТЕМИ ЗАХИСТУ приміщення за допомогою кодового замка на основі мікроконтролера AT90S2313</dc:title>
</cp:coreProperties>
</file>