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0FB-69C6-40CD-BF80-7AB5DC0C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29B-AD2E-47D8-B32A-5750B61B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817-FEE8-4DCC-84D1-0002E9A9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BC5-8E69-45AF-B5CF-6AC09979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BD3-2140-4E5F-A510-DD9B04A9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B48-B638-492D-B1AB-9E0ECA84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A505-1585-4F11-BFE4-02557CEB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784-6E38-4720-BD4A-6274E396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807-01FD-4E17-BD06-FE4EB8EC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4FA-49A3-4481-B093-77FD63CE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DDE-6B98-45E1-8F9D-9B77C517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A60-EF4D-4BA0-ABC3-7A8CE14E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5E9F-AE6A-497C-9E55-54A8D50208EC}" type="slidenum">
              <a:rPr b="0" lang="uk-U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2880" y="148392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КРОПРОЦЕСОРНОГО  БЛОКУ  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УВАННЯ СИСТЕМОЮ  ДОСТУПУ  ДЛЯ  ОФІСНОГО  ПРИМІЩЕНН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071880"/>
            <a:ext cx="64008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ий проек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еціальністю 7.05010201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'ютерні системи та мережі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821120" y="4190400"/>
            <a:ext cx="37148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: к.т.н., доц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птанов В. 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ив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.  КІ-14сп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ий В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071880" y="5858280"/>
            <a:ext cx="27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я ВНТУ 2015 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14240" y="428760"/>
            <a:ext cx="8215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 інформаційни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нологій та комп’ютерної інженер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обчислювальної техні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63640" y="836640"/>
            <a:ext cx="64008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6000" spc="-1" strike="noStrike">
                <a:solidFill>
                  <a:srgbClr val="0070c0"/>
                </a:solidFill>
                <a:latin typeface="Calibri"/>
              </a:rPr>
              <a:t>Дякую за увагу 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1042920" y="612720"/>
            <a:ext cx="7345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1060560" y="1090440"/>
            <a:ext cx="734508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ій керування доступом призначений для контролю стану дверей, вікон, своєчасного реагування на їх відкриття та унеможливлення несанкціонованого доступу до об’єкта,  що охороняє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забезпечує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двер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віко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икацію режимів роботи та сповіщення у разі несанкціонованого проникне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ування ролетів вікон та дверей для унеможливлення несанкціонованого доступу до об’є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ід до режиму охорони при натисканні кнопки «Охорона» та повернення до режиму очікування, при введенні вдалому скануванні електронного ключа Touch Memory DS199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F3MicroCan"/>
          <p:cNvPicPr/>
          <p:nvPr/>
        </p:nvPicPr>
        <p:blipFill>
          <a:blip r:embed="rId1"/>
          <a:stretch/>
        </p:blipFill>
        <p:spPr>
          <a:xfrm>
            <a:off x="5983200" y="3429000"/>
            <a:ext cx="2656080" cy="2232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2946600" y="54936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ПРИСТР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75564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Объект 2"/>
          <p:cNvGraphicFramePr/>
          <p:nvPr/>
        </p:nvGraphicFramePr>
        <p:xfrm>
          <a:off x="755640" y="1052640"/>
          <a:ext cx="4924440" cy="326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Объек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052640"/>
                    <a:ext cx="492444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042920" y="612720"/>
            <a:ext cx="7345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ІАЛЬНА СХЕМА СИСТЕМИ ДОСТ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6" descr=""/>
          <p:cNvPicPr/>
          <p:nvPr/>
        </p:nvPicPr>
        <p:blipFill>
          <a:blip r:embed="rId1"/>
          <a:stretch/>
        </p:blipFill>
        <p:spPr>
          <a:xfrm>
            <a:off x="379440" y="1066680"/>
            <a:ext cx="83851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Объект 2"/>
          <p:cNvGraphicFramePr/>
          <p:nvPr/>
        </p:nvGraphicFramePr>
        <p:xfrm>
          <a:off x="2071800" y="1170000"/>
          <a:ext cx="500040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170000"/>
                    <a:ext cx="50004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Прямоугольник 3"/>
          <p:cNvSpPr/>
          <p:nvPr/>
        </p:nvSpPr>
        <p:spPr>
          <a:xfrm>
            <a:off x="2853000" y="620640"/>
            <a:ext cx="37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 ЧИТАНН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U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Объект 2"/>
          <p:cNvGraphicFramePr/>
          <p:nvPr/>
        </p:nvGraphicFramePr>
        <p:xfrm>
          <a:off x="2038320" y="981000"/>
          <a:ext cx="506736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8320" y="981000"/>
                    <a:ext cx="50673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Прямоугольник 3"/>
          <p:cNvSpPr/>
          <p:nvPr/>
        </p:nvSpPr>
        <p:spPr>
          <a:xfrm>
            <a:off x="3168360" y="47628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аних DS199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1420920" y="2924280"/>
            <a:ext cx="6302160" cy="28796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5"/>
          <p:cNvSpPr/>
          <p:nvPr/>
        </p:nvSpPr>
        <p:spPr>
          <a:xfrm>
            <a:off x="2916000" y="227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щення кодів ключів 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P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606680" y="260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ЮВАННЯ СИСТЕМИ ДОСТУПУ У СЕРЕДОВИЩІ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3497760" y="54658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очік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631880" y="1004760"/>
            <a:ext cx="63072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1606680" y="260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ЮВАННЯ СИСТЕМИ ДОСТУПУ У СЕРЕДОВИЩІ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4140000" y="55166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ох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332000" y="981000"/>
            <a:ext cx="6365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0"/>
          <p:cNvSpPr/>
          <p:nvPr/>
        </p:nvSpPr>
        <p:spPr>
          <a:xfrm>
            <a:off x="1606680" y="260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ЮВАННЯ СИСТЕМИ ДОСТУПУ У СЕРЕДОВИЩІ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3960720" y="551664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трив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763640" y="1052640"/>
            <a:ext cx="61531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6:25:00Z</dcterms:created>
  <dc:creator>sergik</dc:creator>
  <dc:description/>
  <dc:language>en-US</dc:language>
  <cp:lastModifiedBy>Jinole</cp:lastModifiedBy>
  <dcterms:modified xsi:type="dcterms:W3CDTF">2015-06-16T13:45:58Z</dcterms:modified>
  <cp:revision>60</cp:revision>
  <dc:subject/>
  <dc:title>РОЗРОБКА СИСТЕМИ ЗАХИСТУ приміщення за допомогою кодового замка на основі мікроконтролера AT90S2313</dc:title>
</cp:coreProperties>
</file>