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E84-C94D-4C7E-BE53-4F120941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936-DE4F-4FFA-BFF5-5A9EBC3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BF9-A8C0-4921-A876-5284D9BA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314-D82A-4196-97FA-58C9A379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8679-6356-47DC-9689-085AD677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1F32-AF8B-41D1-8CEA-FE0821B5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5501-C535-463C-ADBD-BBE188A6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415F-394D-40B0-A1C7-87739DA1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030A-529D-4766-BC32-F7FAF76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178A-B6FE-4A5E-9029-09638C90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F289-7ECA-46A3-8D34-C5716F6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06E-C952-4835-94DA-7A75A529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FF77-EFCD-4097-95B4-D25939A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BDA7-DEAC-48BD-A00B-CE33740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8882-2617-402D-860C-4DE74E1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EBA-2B35-489C-BCD6-9C8C2040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5279-0D24-4DED-BF56-7ECE1D89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7246-CF90-4994-87B2-41CC985A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086D-02C8-4792-B9D1-A164F66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96F4-7D00-4939-87F3-4E32F3A8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22DD-3C60-46B3-B5AB-D8981B77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A4D8-5DC1-4B70-A131-B73CD489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F6D-54BD-4B32-9545-725508A7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B78E-6A9E-4EE1-AAB6-77AC6F5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11D9-E4D3-48CD-B5EE-DE624BC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5200-9A7C-4044-BA1A-D3E67C6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A4E6-04D2-4437-9826-242153B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CE24-24FD-47DA-9398-8FABC5E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128A-7DEE-4B1C-AAFD-5FB46330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EF59-6E37-4B0C-9582-A7705E1A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ACF4-49F1-47DC-8FF6-A2D55413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CDAE-1EE9-43C9-AD6E-31120EB5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097D-AC42-4101-A889-D25FCF0B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95D-3665-4370-8AB9-82130F0A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EBC44-6026-4B6A-A802-67C3EE1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98C5A-44AE-4B3E-91B5-BB21F0B5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B378-E028-4727-8C3C-81C2A25A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82F0-4E0C-456B-8A71-56B3CD7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DDCD-B684-4AFF-905F-6E24452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FBF0-EC57-4275-BD10-9B021C8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8C46-2D55-4EC5-ADA2-AC4ECC60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3E39-95CC-47C0-A609-00C7F767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2D7C-E40F-4A35-86BC-51153AB7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65B2-17AA-4A3E-ACAB-ED50CEA2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5C3-7232-4F99-A65E-96BCDB16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854E6-D173-4BE9-B32B-A4F17DA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BF71-E8D7-43DB-86C0-525AA00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C3F6-2825-49EB-B064-4F99948F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C3A3-E4FE-4418-B7E4-AC40E8E3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DBA92-FE70-4EF3-B496-D8F3C3F6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FA31-9833-4EDD-BEA9-B31088C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C0AFD-B1B4-41A0-83E1-C92BCCEA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3CB27-2489-4F90-80B2-DDBF6F3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4876-DE2D-4CF3-88BB-1F2A1BC7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35960-1A15-4D60-8409-4C277BB8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A8E-6DEA-40B5-A8F0-D3F605FB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400F-FF66-43C9-B98A-B73CB2B9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25C9-AB5A-4765-A406-D1B988D3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A51A-D619-4413-B1B3-2582893B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FC91-E5EF-40A2-878B-95574A4E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3925-54AB-4401-A4C2-8A9B7B6E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56E5-54D9-42BF-AD08-0033E3FB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5A3A-6E17-47BD-ADCB-28FC005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8B12-01AE-4A4B-9FB1-7CA941ED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BB97-21B6-443F-A571-8D4FCAB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D840-85DE-41C7-AFAA-9231B53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96A-9150-4575-AC9A-AF7DE60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88AF4-80B9-4730-ABC7-926F9BA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57CF-1838-4092-82E9-8765E2FA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701D-19C9-4EB3-9BB2-FACA716E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674-DB11-450E-A083-7675E35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F96-2AE9-449B-9B1F-34216BC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CC93-EF7E-43D7-8524-FF4A2B7663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9B8-AF8B-42C3-A644-7A8069D2C0D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5DEB-33A4-407F-AD73-88273096F3B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3C8C-FB61-4712-A31F-926603D0F19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47B-4C5B-4E7D-AEDA-C4C7AD9332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3E86-D9C8-44D5-9565-D850BBEAEC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741672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пломна робота на тему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“Метод захисту інформаційних ресурсів комп’ютерної системи методами дактилоскопії ” </a:t>
            </a:r>
            <a:br>
              <a:rPr sz="32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627280" y="5357520"/>
            <a:ext cx="65167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иконав: ст. гр. КІ-14 з/н Любимов В.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ерівник:  к. т. н., доцент Гороховський О.І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32000" y="2492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ЯКУЮ ЗА УВАГУ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395280" y="98100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уть технічної проблеми: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робка нового підходу до обробки зображення відбитка пальця з метою ідентифікації особистості та обмеження доступу до комп'ютерних  ресурс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Рисунок 3" descr=""/>
          <p:cNvPicPr/>
          <p:nvPr/>
        </p:nvPicPr>
        <p:blipFill>
          <a:blip r:embed="rId1"/>
          <a:stretch/>
        </p:blipFill>
        <p:spPr>
          <a:xfrm>
            <a:off x="1922400" y="3559320"/>
            <a:ext cx="5010120" cy="24955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"/>
          <p:cNvSpPr/>
          <p:nvPr/>
        </p:nvSpPr>
        <p:spPr>
          <a:xfrm>
            <a:off x="1922400" y="616572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римання портрету відбит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5450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1008000" y="61358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ласифікація методів і засобів захисту інформа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539640" y="76500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ереваги програмних засобів захист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та тираж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учкість (можливість налаштування на різні умови застосування, що враховують специфіку загроз інформаційній безпеці конкретних інформаційних систем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та застос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но необмежені можливості  розвитку шляхом внесення змін для врахування нових загроз безпеці інформації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1116000" y="836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Економічна доцільність розроб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11280" y="1773360"/>
          <a:ext cx="7993080" cy="368460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чення для нової розроб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чення для анало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бівартість, г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капітальних вкладень, г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експлуатаційних витрат, грн/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10476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порівняння відбиткі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06" name="Group 6"/>
          <p:cNvGrpSpPr/>
          <p:nvPr/>
        </p:nvGrpSpPr>
        <p:grpSpPr>
          <a:xfrm>
            <a:off x="1260360" y="1125360"/>
            <a:ext cx="3456000" cy="5328000"/>
            <a:chOff x="1260360" y="1125360"/>
            <a:chExt cx="3456000" cy="5328000"/>
          </a:xfrm>
        </p:grpSpPr>
        <p:sp>
          <p:nvSpPr>
            <p:cNvPr id="307" name="AutoShape 7"/>
            <p:cNvSpPr/>
            <p:nvPr/>
          </p:nvSpPr>
          <p:spPr>
            <a:xfrm>
              <a:off x="2257200" y="1125360"/>
              <a:ext cx="1595160" cy="271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ЧАТО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2257200" y="1560240"/>
              <a:ext cx="1595160" cy="271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дення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раже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9"/>
            <p:cNvSpPr/>
            <p:nvPr/>
          </p:nvSpPr>
          <p:spPr>
            <a:xfrm>
              <a:off x="2257200" y="2049480"/>
              <a:ext cx="1595160" cy="271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ибірка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тало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utoShape 10"/>
            <p:cNvSpPr/>
            <p:nvPr/>
          </p:nvSpPr>
          <p:spPr>
            <a:xfrm>
              <a:off x="2257200" y="2484360"/>
              <a:ext cx="1595160" cy="271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рівняння нахилу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й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тку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11"/>
            <p:cNvSpPr/>
            <p:nvPr/>
          </p:nvSpPr>
          <p:spPr>
            <a:xfrm>
              <a:off x="2057760" y="2864880"/>
              <a:ext cx="1993680" cy="7066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хил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л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й однаков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и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12"/>
            <p:cNvSpPr/>
            <p:nvPr/>
          </p:nvSpPr>
          <p:spPr>
            <a:xfrm>
              <a:off x="2057760" y="3680640"/>
              <a:ext cx="1993680" cy="326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рівняння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о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форматив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 зон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AutoShape 13"/>
            <p:cNvSpPr/>
            <p:nvPr/>
          </p:nvSpPr>
          <p:spPr>
            <a:xfrm>
              <a:off x="2092680" y="4115520"/>
              <a:ext cx="1927440" cy="761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зитивн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й результат порівняння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3387240" y="5040000"/>
              <a:ext cx="126252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тки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ентич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1526040" y="5040000"/>
              <a:ext cx="132912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в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ння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тку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другого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пальц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3387240" y="5637960"/>
              <a:ext cx="126252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тк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не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ентич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17"/>
            <p:cNvSpPr/>
            <p:nvPr/>
          </p:nvSpPr>
          <p:spPr>
            <a:xfrm>
              <a:off x="2190600" y="6181560"/>
              <a:ext cx="1927440" cy="271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Н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ЕЦ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3054600" y="13971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3054600" y="183204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3054600" y="23212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3054600" y="275616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3054600" y="357192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3054600" y="400680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4020480" y="449604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4141800" y="4496040"/>
              <a:ext cx="0" cy="5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 flipH="1">
              <a:off x="1908720" y="449604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7"/>
            <p:cNvSpPr/>
            <p:nvPr/>
          </p:nvSpPr>
          <p:spPr>
            <a:xfrm>
              <a:off x="1917000" y="4496040"/>
              <a:ext cx="0" cy="5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8"/>
            <p:cNvSpPr/>
            <p:nvPr/>
          </p:nvSpPr>
          <p:spPr>
            <a:xfrm>
              <a:off x="2190600" y="536616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9"/>
            <p:cNvSpPr/>
            <p:nvPr/>
          </p:nvSpPr>
          <p:spPr>
            <a:xfrm flipH="1">
              <a:off x="1260360" y="547488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0"/>
            <p:cNvSpPr/>
            <p:nvPr/>
          </p:nvSpPr>
          <p:spPr>
            <a:xfrm flipV="1">
              <a:off x="1260360" y="1451520"/>
              <a:ext cx="0" cy="402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>
              <a:off x="1260360" y="14515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2"/>
            <p:cNvSpPr/>
            <p:nvPr/>
          </p:nvSpPr>
          <p:spPr>
            <a:xfrm>
              <a:off x="4051800" y="5551920"/>
              <a:ext cx="756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3"/>
            <p:cNvSpPr/>
            <p:nvPr/>
          </p:nvSpPr>
          <p:spPr>
            <a:xfrm>
              <a:off x="4051800" y="536616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4"/>
            <p:cNvSpPr/>
            <p:nvPr/>
          </p:nvSpPr>
          <p:spPr>
            <a:xfrm flipH="1">
              <a:off x="3121200" y="547488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5"/>
            <p:cNvSpPr/>
            <p:nvPr/>
          </p:nvSpPr>
          <p:spPr>
            <a:xfrm>
              <a:off x="3121200" y="547488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6"/>
            <p:cNvSpPr/>
            <p:nvPr/>
          </p:nvSpPr>
          <p:spPr>
            <a:xfrm>
              <a:off x="4051800" y="596412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7"/>
            <p:cNvSpPr/>
            <p:nvPr/>
          </p:nvSpPr>
          <p:spPr>
            <a:xfrm flipH="1">
              <a:off x="3121200" y="607284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38"/>
            <p:cNvSpPr/>
            <p:nvPr/>
          </p:nvSpPr>
          <p:spPr>
            <a:xfrm>
              <a:off x="2656080" y="346320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ТА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39"/>
            <p:cNvSpPr/>
            <p:nvPr/>
          </p:nvSpPr>
          <p:spPr>
            <a:xfrm>
              <a:off x="3918960" y="302796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0"/>
            <p:cNvSpPr/>
            <p:nvPr/>
          </p:nvSpPr>
          <p:spPr>
            <a:xfrm>
              <a:off x="3918960" y="427860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ТА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1"/>
            <p:cNvSpPr/>
            <p:nvPr/>
          </p:nvSpPr>
          <p:spPr>
            <a:xfrm>
              <a:off x="1792080" y="427860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42"/>
            <p:cNvSpPr/>
            <p:nvPr/>
          </p:nvSpPr>
          <p:spPr>
            <a:xfrm>
              <a:off x="4051800" y="3216960"/>
              <a:ext cx="66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43"/>
            <p:cNvSpPr/>
            <p:nvPr/>
          </p:nvSpPr>
          <p:spPr>
            <a:xfrm>
              <a:off x="4716360" y="3215520"/>
              <a:ext cx="0" cy="23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4"/>
            <p:cNvSpPr/>
            <p:nvPr/>
          </p:nvSpPr>
          <p:spPr>
            <a:xfrm flipH="1">
              <a:off x="4043880" y="5548320"/>
              <a:ext cx="66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Rectangle 45"/>
          <p:cNvSpPr/>
          <p:nvPr/>
        </p:nvSpPr>
        <p:spPr>
          <a:xfrm>
            <a:off x="1692360" y="547560"/>
            <a:ext cx="259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лгоритм ідентифікац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6" descr=""/>
          <p:cNvPicPr/>
          <p:nvPr/>
        </p:nvPicPr>
        <p:blipFill>
          <a:blip r:embed="rId1"/>
          <a:stretch/>
        </p:blipFill>
        <p:spPr>
          <a:xfrm>
            <a:off x="4140360" y="620640"/>
            <a:ext cx="1368360" cy="4618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47"/>
          <p:cNvSpPr/>
          <p:nvPr/>
        </p:nvSpPr>
        <p:spPr>
          <a:xfrm>
            <a:off x="3348000" y="404640"/>
            <a:ext cx="309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івняння портрет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4067280" y="1125360"/>
            <a:ext cx="21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1 і Х2 – матриці кутів нахил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вох портрет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49" descr=""/>
          <p:cNvPicPr/>
          <p:nvPr/>
        </p:nvPicPr>
        <p:blipFill>
          <a:blip r:embed="rId2"/>
          <a:stretch/>
        </p:blipFill>
        <p:spPr>
          <a:xfrm>
            <a:off x="7093080" y="1557360"/>
            <a:ext cx="1079280" cy="6238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0"/>
          <p:cNvSpPr/>
          <p:nvPr/>
        </p:nvSpPr>
        <p:spPr>
          <a:xfrm>
            <a:off x="6516720" y="1125360"/>
            <a:ext cx="230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атематичне очікуванн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атриц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ртре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1"/>
          <p:cNvSpPr/>
          <p:nvPr/>
        </p:nvSpPr>
        <p:spPr>
          <a:xfrm>
            <a:off x="4956120" y="404640"/>
            <a:ext cx="37926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исперсія матриці портре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52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1701720" cy="4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"/>
          <p:cNvPicPr/>
          <p:nvPr/>
        </p:nvPicPr>
        <p:blipFill>
          <a:blip r:embed="rId4"/>
          <a:stretch/>
        </p:blipFill>
        <p:spPr>
          <a:xfrm>
            <a:off x="5651640" y="2284560"/>
            <a:ext cx="3240000" cy="17920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4"/>
          <p:cNvSpPr/>
          <p:nvPr/>
        </p:nvSpPr>
        <p:spPr>
          <a:xfrm>
            <a:off x="5720400" y="3979080"/>
            <a:ext cx="31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 порівняння однакових відбитків 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нтенсивністю зашумлення 1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5" descr=""/>
          <p:cNvPicPr/>
          <p:nvPr/>
        </p:nvPicPr>
        <p:blipFill>
          <a:blip r:embed="rId5"/>
          <a:stretch/>
        </p:blipFill>
        <p:spPr>
          <a:xfrm>
            <a:off x="5435640" y="4545000"/>
            <a:ext cx="3456000" cy="19083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6"/>
          <p:cNvSpPr/>
          <p:nvPr/>
        </p:nvSpPr>
        <p:spPr>
          <a:xfrm>
            <a:off x="5802480" y="6400080"/>
            <a:ext cx="28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 порівняння різних відбитків 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нтенсивністю зашумлення 1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63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3384720" cy="59324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64"/>
          <p:cNvSpPr/>
          <p:nvPr/>
        </p:nvSpPr>
        <p:spPr>
          <a:xfrm>
            <a:off x="611280" y="630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лгоритм захисту па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2133720"/>
          <a:ext cx="4763880" cy="4389480"/>
        </p:xfrm>
        <a:graphic>
          <a:graphicData uri="http://schemas.openxmlformats.org/drawingml/2006/table">
            <a:tbl>
              <a:tblPr/>
              <a:tblGrid>
                <a:gridCol w="780840"/>
                <a:gridCol w="1887840"/>
                <a:gridCol w="2095200"/>
              </a:tblGrid>
              <a:tr h="5158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зва продук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і перева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е признач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082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ual C+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ніверсальність. Найбільша швидкість роботи додатку. Необмежена функціональніс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ворення компонентів додатку для виконання критичних по швидкості процесів, забезпечення функціональності, яка не допустима в інших засобах розроб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0653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lp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сокий рівень об'єктної моделі. Висока швидкість обробки даних. Інтеграція об'єктно–орієнтованої мови програмування з операційною системою Window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ворення додатків масштабу підприємства. Створення додатків з великим рівнем важкості розроб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360" name="TextBox 66"/>
          <p:cNvSpPr/>
          <p:nvPr/>
        </p:nvSpPr>
        <p:spPr>
          <a:xfrm>
            <a:off x="4284720" y="1484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рівняння мов програму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67"/>
          <p:cNvSpPr/>
          <p:nvPr/>
        </p:nvSpPr>
        <p:spPr>
          <a:xfrm>
            <a:off x="3780000" y="549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алізації програми вибрана мова програмува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68"/>
          <p:cNvSpPr/>
          <p:nvPr/>
        </p:nvSpPr>
        <p:spPr>
          <a:xfrm>
            <a:off x="3348000" y="-1000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Реалізація захисту па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1908000" y="18900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пробування розробленої програми. Закриття доступ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Рисунок 4" descr="1"/>
          <p:cNvPicPr/>
          <p:nvPr/>
        </p:nvPicPr>
        <p:blipFill>
          <a:blip r:embed="rId1"/>
          <a:srcRect l="47648" t="29641" r="16823" b="19577"/>
          <a:stretch/>
        </p:blipFill>
        <p:spPr>
          <a:xfrm>
            <a:off x="404640" y="1085760"/>
            <a:ext cx="8209080" cy="52516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2"/>
          <p:cNvPicPr/>
          <p:nvPr/>
        </p:nvPicPr>
        <p:blipFill>
          <a:blip r:embed="rId2"/>
          <a:srcRect l="41279" t="21885" r="8879" b="15236"/>
          <a:stretch/>
        </p:blipFill>
        <p:spPr>
          <a:xfrm>
            <a:off x="404640" y="1085760"/>
            <a:ext cx="8174160" cy="52516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6" descr="4"/>
          <p:cNvPicPr/>
          <p:nvPr/>
        </p:nvPicPr>
        <p:blipFill>
          <a:blip r:embed="rId3"/>
          <a:srcRect l="40966" t="22160" r="8746" b="15512"/>
          <a:stretch/>
        </p:blipFill>
        <p:spPr>
          <a:xfrm>
            <a:off x="419040" y="1085760"/>
            <a:ext cx="8212320" cy="52117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6"/>
          <p:cNvPicPr/>
          <p:nvPr/>
        </p:nvPicPr>
        <p:blipFill>
          <a:blip r:embed="rId4"/>
          <a:srcRect l="50780" t="30197" r="13862" b="19390"/>
          <a:stretch/>
        </p:blipFill>
        <p:spPr>
          <a:xfrm>
            <a:off x="388800" y="1085760"/>
            <a:ext cx="8159760" cy="524520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8" descr="8"/>
          <p:cNvPicPr/>
          <p:nvPr/>
        </p:nvPicPr>
        <p:blipFill>
          <a:blip r:embed="rId5"/>
          <a:srcRect l="32245" t="22160" r="32317" b="27426"/>
          <a:stretch/>
        </p:blipFill>
        <p:spPr>
          <a:xfrm>
            <a:off x="412920" y="1117440"/>
            <a:ext cx="8181720" cy="52372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9" descr="17"/>
          <p:cNvPicPr/>
          <p:nvPr/>
        </p:nvPicPr>
        <p:blipFill>
          <a:blip r:embed="rId6"/>
          <a:srcRect l="32098" t="21885" r="32394" b="26870"/>
          <a:stretch/>
        </p:blipFill>
        <p:spPr>
          <a:xfrm>
            <a:off x="388800" y="1138320"/>
            <a:ext cx="8182080" cy="5236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0" descr="9"/>
          <p:cNvPicPr/>
          <p:nvPr/>
        </p:nvPicPr>
        <p:blipFill>
          <a:blip r:embed="rId7"/>
          <a:srcRect l="29436" t="0" r="0" b="8721"/>
          <a:stretch/>
        </p:blipFill>
        <p:spPr>
          <a:xfrm>
            <a:off x="449280" y="1149480"/>
            <a:ext cx="8209080" cy="52257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1" descr="10"/>
          <p:cNvPicPr/>
          <p:nvPr/>
        </p:nvPicPr>
        <p:blipFill>
          <a:blip r:embed="rId8"/>
          <a:srcRect l="33960" t="4712" r="1091" b="13293"/>
          <a:stretch/>
        </p:blipFill>
        <p:spPr>
          <a:xfrm>
            <a:off x="450720" y="1149480"/>
            <a:ext cx="821052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"/>
          <p:cNvSpPr/>
          <p:nvPr/>
        </p:nvSpPr>
        <p:spPr>
          <a:xfrm>
            <a:off x="1793880" y="3319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пробування розробленої прог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блокування па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Рисунок 4" descr="11"/>
          <p:cNvPicPr/>
          <p:nvPr/>
        </p:nvPicPr>
        <p:blipFill>
          <a:blip r:embed="rId1"/>
          <a:srcRect l="36357" t="28558" r="28236" b="15994"/>
          <a:stretch/>
        </p:blipFill>
        <p:spPr>
          <a:xfrm>
            <a:off x="762120" y="1193760"/>
            <a:ext cx="7823160" cy="5191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5" descr="12"/>
          <p:cNvPicPr/>
          <p:nvPr/>
        </p:nvPicPr>
        <p:blipFill>
          <a:blip r:embed="rId2"/>
          <a:srcRect l="36357" t="30472" r="28236" b="18839"/>
          <a:stretch/>
        </p:blipFill>
        <p:spPr>
          <a:xfrm>
            <a:off x="762120" y="1231920"/>
            <a:ext cx="7823160" cy="5191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6" descr="13"/>
          <p:cNvPicPr/>
          <p:nvPr/>
        </p:nvPicPr>
        <p:blipFill>
          <a:blip r:embed="rId3"/>
          <a:srcRect l="36357" t="31024" r="28703" b="18282"/>
          <a:stretch/>
        </p:blipFill>
        <p:spPr>
          <a:xfrm>
            <a:off x="762120" y="1208160"/>
            <a:ext cx="7823160" cy="5184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7" descr="14"/>
          <p:cNvPicPr/>
          <p:nvPr/>
        </p:nvPicPr>
        <p:blipFill>
          <a:blip r:embed="rId4"/>
          <a:srcRect l="36357" t="29641" r="28078" b="16900"/>
          <a:stretch/>
        </p:blipFill>
        <p:spPr>
          <a:xfrm>
            <a:off x="762120" y="1231920"/>
            <a:ext cx="7823160" cy="51832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8" descr="15"/>
          <p:cNvPicPr/>
          <p:nvPr/>
        </p:nvPicPr>
        <p:blipFill>
          <a:blip r:embed="rId5"/>
          <a:srcRect l="36357" t="31024" r="29016" b="18282"/>
          <a:stretch/>
        </p:blipFill>
        <p:spPr>
          <a:xfrm>
            <a:off x="762120" y="1193760"/>
            <a:ext cx="7823160" cy="51847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9" descr="16"/>
          <p:cNvPicPr/>
          <p:nvPr/>
        </p:nvPicPr>
        <p:blipFill>
          <a:blip r:embed="rId6"/>
          <a:srcRect l="36357" t="31029" r="28703" b="18558"/>
          <a:stretch/>
        </p:blipFill>
        <p:spPr>
          <a:xfrm>
            <a:off x="762120" y="1200240"/>
            <a:ext cx="7823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6:53:21Z</dcterms:created>
  <dc:creator>ivan</dc:creator>
  <dc:description/>
  <dc:language>en-US</dc:language>
  <cp:lastModifiedBy>Владимир</cp:lastModifiedBy>
  <dcterms:modified xsi:type="dcterms:W3CDTF">2015-06-20T18:23:47Z</dcterms:modified>
  <cp:revision>57</cp:revision>
  <dc:subject/>
  <dc:title>Анализ отечественного опыта совместного использования криптографических и биометрических механизмов защиты информации,  предложения по разработке национальных и международных биометрических стандартов </dc:title>
</cp:coreProperties>
</file>