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6.jpeg" ContentType="image/jpe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27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1EC-5050-4201-8C51-D6A052CB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4C0-71D6-4D6D-903E-75746317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1D8-BBE8-4BEF-BCC9-4448957B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52D-251F-43F7-B5AB-F0582736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1AB6-FD1C-41E7-AA79-E0179B4D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1A4B-FFD1-4541-82E6-94A2A98D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A872-5AE5-47D0-8B51-91AC4042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FF2A-0707-472A-83E3-E04798F5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47EC-3A69-4293-BE29-4CE52F5E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050B-D302-42D2-9D63-FA3804DD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200C-3A9E-4EDD-83F8-14E13DC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17E-D7F9-4CC4-8EAC-5A3F63F4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236A-B429-4645-B9CF-1AF0B76E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F6E6-1E05-4452-ABEC-14950249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AA64-002A-4E9A-A94D-F030D4DD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281B-4F45-459D-A30E-010DD89E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C7FC-6AE3-4C31-A785-D34F28DC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2951-93C3-4881-8755-83CE9B73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64F8-81AF-4089-837E-837BCC5F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FDF3-5DB4-4FB5-8615-BE99F15E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6C04-750F-4C04-A787-E0F7045A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6EE1-6C54-46E3-B821-8771442B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273-D1FA-4264-A23F-9E1526ED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6AD3-63A5-4597-BD90-B5AAB966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2FCE-9A1F-45A6-AEC6-2B8A5224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82A7-E622-468E-9440-11D62309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03BA-2B18-4413-8F17-589D3F96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888B-6ABE-4BD4-811C-F039A5C6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0609D-2A65-4DA0-9B69-B69DF4F4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1443-DCE9-455C-BFDA-2FA65976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60E1-515F-499C-8A35-2C52EA12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437F-FDCA-47CB-988A-6BD63D9C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48E3D-D8B1-477E-A58E-BBDE391D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DDF-DC4A-42FC-8A1F-6886B4F6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3158-9847-4DCD-BEED-4C044620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BC75-BD37-4A05-9A39-D07FB0EE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C79B2-077B-400D-9CD3-648D975A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DBC07-ACAD-460F-AAF6-0B06582F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2017C-C94A-4B85-8AD1-88DBC475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492AD-81B2-4D5B-B41A-CDB70B60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E941C-BAB5-47F5-9C92-3ECC2DF5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546B-A0B8-4B1E-B635-5C4D376F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93EE6-4892-48EE-B393-8E375016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12483-E91C-4CB0-A4D6-10F0FCE4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4B3-06AA-4652-BE7D-A19E8168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6B4FD-FF93-4FC9-8813-36A5BD89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7B9C8-D048-4138-BADA-73B05FDE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271ED-5324-4C52-9D4F-BD480CDF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710C-67AF-444C-9A89-6DCFC200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BC34D-CD68-42F4-B898-F32EEE77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ADE43-5B76-43DA-89DD-79784575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FCAC0-6CCB-41B2-B4D7-DBCE3C0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C3855-A30A-43A1-A282-8413BECC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A6FA8-5084-4071-98F0-F4216206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998D3-B0E9-427F-A2BA-A97D4B2B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C6D-315F-4EC5-BF57-86A349D2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26332-12D2-4EE9-8D2D-D3E390D8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29323-AC17-4E9F-B9A9-9796B2A1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D676B-E9B9-4653-A29E-B121DAB7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D625E-25DD-46C4-B750-77FD5BA0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BF696-2EB6-458B-90C0-7719AEFD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2E1E-7B0D-4F8D-B79B-17C6DCFA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F18F-EFF4-44F9-A2A0-77EAB184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71CF-BB3F-4911-A4A9-076BA79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E4013-B0BF-43FA-BC1A-81616092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9A750-9BA2-49FA-A3B8-87216A80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4F3-75AF-4D07-B6B2-001C4E95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79C46-F756-4FA2-9109-C06AD85D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4D40-A33B-4023-9947-14711C9A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39483-591B-4BDC-A1F0-751D352F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D90-8DF8-4F89-B6C1-6EDB0819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B5F-BE13-4F6F-A34A-23FE0BA8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F2E1-EAF6-4497-9E2C-664FCDA22AD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2B1B-7744-4F44-94B2-1C76EBFFFE0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FBEF-F946-4131-8C7F-F8BCFA78D8D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B911-F196-4A46-BB6E-C18F8367281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4E98-ECA3-4BBD-92F6-EEBCA408DF1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D5EC-B392-4575-8741-5C9BC4963B9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920" y="1988640"/>
            <a:ext cx="7416720" cy="258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пломна робота на тему: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“Метод захисту інформаційних ресурсів комп’ютерної системи методами дактилоскопії ” </a:t>
            </a:r>
            <a:br>
              <a:rPr sz="32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2627280" y="5357520"/>
            <a:ext cx="65167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Виконав: ст. гр. КІ-14 з/н Любимов В.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Керівник:  к. т. н., доцент Гороховський О.І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32000" y="2492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ЯКУЮ ЗА УВАГУ!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395280" y="98100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уть технічної проблеми: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зробка нового підходу до обробки зображення відбитка пальця з метою ідентифікації особистості та обмеження доступу до комп'ютерних  ресурсі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Рисунок 3" descr=""/>
          <p:cNvPicPr/>
          <p:nvPr/>
        </p:nvPicPr>
        <p:blipFill>
          <a:blip r:embed="rId1"/>
          <a:stretch/>
        </p:blipFill>
        <p:spPr>
          <a:xfrm>
            <a:off x="1922400" y="3559320"/>
            <a:ext cx="5010120" cy="24955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4"/>
          <p:cNvSpPr/>
          <p:nvPr/>
        </p:nvSpPr>
        <p:spPr>
          <a:xfrm>
            <a:off x="1922400" y="616572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тримання портрету відбит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545080"/>
          </a:xfrm>
          <a:prstGeom prst="rect">
            <a:avLst/>
          </a:prstGeom>
          <a:ln w="0">
            <a:noFill/>
          </a:ln>
        </p:spPr>
      </p:pic>
      <p:sp>
        <p:nvSpPr>
          <p:cNvPr id="301" name="TextBox 2"/>
          <p:cNvSpPr/>
          <p:nvPr/>
        </p:nvSpPr>
        <p:spPr>
          <a:xfrm>
            <a:off x="1008000" y="61358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ласифікація методів і засобів захисту інформа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"/>
          <p:cNvSpPr/>
          <p:nvPr/>
        </p:nvSpPr>
        <p:spPr>
          <a:xfrm>
            <a:off x="539640" y="765000"/>
            <a:ext cx="82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ереваги програмних засобів захист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та тиражуванн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учкість (можливість налаштування на різні умови застосування, що враховують специфіку загроз інформаційній безпеці конкретних інформаційних систем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та застосуванн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чно необмежені можливості  розвитку шляхом внесення змін для врахування нових загроз безпеці інформації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1116000" y="836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Економічна доцільність розроб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11280" y="1773360"/>
          <a:ext cx="7993080" cy="368460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начення для нової розроб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начення для анало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бівартість, гр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капітальних вкладень, гр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експлуатаційних витрат, грн/рі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104760"/>
            <a:ext cx="77724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порівняння відбиткі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06" name="Group 6"/>
          <p:cNvGrpSpPr/>
          <p:nvPr/>
        </p:nvGrpSpPr>
        <p:grpSpPr>
          <a:xfrm>
            <a:off x="1260360" y="1125360"/>
            <a:ext cx="3456000" cy="5328000"/>
            <a:chOff x="1260360" y="1125360"/>
            <a:chExt cx="3456000" cy="5328000"/>
          </a:xfrm>
        </p:grpSpPr>
        <p:sp>
          <p:nvSpPr>
            <p:cNvPr id="307" name="AutoShape 7"/>
            <p:cNvSpPr/>
            <p:nvPr/>
          </p:nvSpPr>
          <p:spPr>
            <a:xfrm>
              <a:off x="2257200" y="1125360"/>
              <a:ext cx="1595160" cy="271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ПОЧАТОК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AutoShape 8"/>
            <p:cNvSpPr/>
            <p:nvPr/>
          </p:nvSpPr>
          <p:spPr>
            <a:xfrm>
              <a:off x="2257200" y="1560240"/>
              <a:ext cx="1595160" cy="271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едення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браже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AutoShape 9"/>
            <p:cNvSpPr/>
            <p:nvPr/>
          </p:nvSpPr>
          <p:spPr>
            <a:xfrm>
              <a:off x="2257200" y="2049480"/>
              <a:ext cx="1595160" cy="271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ибірка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тало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AutoShape 10"/>
            <p:cNvSpPr/>
            <p:nvPr/>
          </p:nvSpPr>
          <p:spPr>
            <a:xfrm>
              <a:off x="2257200" y="2484360"/>
              <a:ext cx="1595160" cy="271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Порівняння нахилу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й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відбитку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AutoShape 11"/>
            <p:cNvSpPr/>
            <p:nvPr/>
          </p:nvSpPr>
          <p:spPr>
            <a:xfrm>
              <a:off x="2057760" y="2864880"/>
              <a:ext cx="1993680" cy="7066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хил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л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й однаков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и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AutoShape 12"/>
            <p:cNvSpPr/>
            <p:nvPr/>
          </p:nvSpPr>
          <p:spPr>
            <a:xfrm>
              <a:off x="2057760" y="3680640"/>
              <a:ext cx="1993680" cy="326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Порівняння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о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форматив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 зонам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AutoShape 13"/>
            <p:cNvSpPr/>
            <p:nvPr/>
          </p:nvSpPr>
          <p:spPr>
            <a:xfrm>
              <a:off x="2092680" y="4115520"/>
              <a:ext cx="1927440" cy="7610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Позитивни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й результат порівняння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3387240" y="5040000"/>
              <a:ext cx="1262520" cy="32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Відби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тки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ентич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1526040" y="5040000"/>
              <a:ext cx="1329120" cy="32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в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ення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відбитку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другого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пальц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3387240" y="5637960"/>
              <a:ext cx="1262520" cy="32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Відбитки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 не 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ентич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17"/>
            <p:cNvSpPr/>
            <p:nvPr/>
          </p:nvSpPr>
          <p:spPr>
            <a:xfrm>
              <a:off x="2190600" y="6181560"/>
              <a:ext cx="1927440" cy="271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Н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ЕЦ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8"/>
            <p:cNvSpPr/>
            <p:nvPr/>
          </p:nvSpPr>
          <p:spPr>
            <a:xfrm>
              <a:off x="3054600" y="13971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>
              <a:off x="3054600" y="183204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0"/>
            <p:cNvSpPr/>
            <p:nvPr/>
          </p:nvSpPr>
          <p:spPr>
            <a:xfrm>
              <a:off x="3054600" y="23212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3054600" y="275616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>
              <a:off x="3054600" y="357192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3"/>
            <p:cNvSpPr/>
            <p:nvPr/>
          </p:nvSpPr>
          <p:spPr>
            <a:xfrm>
              <a:off x="3054600" y="400680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4020480" y="449604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5"/>
            <p:cNvSpPr/>
            <p:nvPr/>
          </p:nvSpPr>
          <p:spPr>
            <a:xfrm>
              <a:off x="4141800" y="4496040"/>
              <a:ext cx="0" cy="54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6"/>
            <p:cNvSpPr/>
            <p:nvPr/>
          </p:nvSpPr>
          <p:spPr>
            <a:xfrm flipH="1">
              <a:off x="1908720" y="449604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7"/>
            <p:cNvSpPr/>
            <p:nvPr/>
          </p:nvSpPr>
          <p:spPr>
            <a:xfrm>
              <a:off x="1917000" y="4496040"/>
              <a:ext cx="0" cy="54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8"/>
            <p:cNvSpPr/>
            <p:nvPr/>
          </p:nvSpPr>
          <p:spPr>
            <a:xfrm>
              <a:off x="2190600" y="536616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9"/>
            <p:cNvSpPr/>
            <p:nvPr/>
          </p:nvSpPr>
          <p:spPr>
            <a:xfrm flipH="1">
              <a:off x="1260360" y="547488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0"/>
            <p:cNvSpPr/>
            <p:nvPr/>
          </p:nvSpPr>
          <p:spPr>
            <a:xfrm flipV="1">
              <a:off x="1260360" y="1451520"/>
              <a:ext cx="0" cy="402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1"/>
            <p:cNvSpPr/>
            <p:nvPr/>
          </p:nvSpPr>
          <p:spPr>
            <a:xfrm>
              <a:off x="1260360" y="1451520"/>
              <a:ext cx="17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32"/>
            <p:cNvSpPr/>
            <p:nvPr/>
          </p:nvSpPr>
          <p:spPr>
            <a:xfrm>
              <a:off x="4051800" y="5551920"/>
              <a:ext cx="756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3"/>
            <p:cNvSpPr/>
            <p:nvPr/>
          </p:nvSpPr>
          <p:spPr>
            <a:xfrm>
              <a:off x="4051800" y="536616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4"/>
            <p:cNvSpPr/>
            <p:nvPr/>
          </p:nvSpPr>
          <p:spPr>
            <a:xfrm flipH="1">
              <a:off x="3121200" y="547488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5"/>
            <p:cNvSpPr/>
            <p:nvPr/>
          </p:nvSpPr>
          <p:spPr>
            <a:xfrm>
              <a:off x="3121200" y="5474880"/>
              <a:ext cx="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6"/>
            <p:cNvSpPr/>
            <p:nvPr/>
          </p:nvSpPr>
          <p:spPr>
            <a:xfrm>
              <a:off x="4051800" y="5964120"/>
              <a:ext cx="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7"/>
            <p:cNvSpPr/>
            <p:nvPr/>
          </p:nvSpPr>
          <p:spPr>
            <a:xfrm flipH="1">
              <a:off x="3121200" y="607284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38"/>
            <p:cNvSpPr/>
            <p:nvPr/>
          </p:nvSpPr>
          <p:spPr>
            <a:xfrm>
              <a:off x="2656080" y="3463200"/>
              <a:ext cx="398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ТАК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39"/>
            <p:cNvSpPr/>
            <p:nvPr/>
          </p:nvSpPr>
          <p:spPr>
            <a:xfrm>
              <a:off x="3918960" y="3027960"/>
              <a:ext cx="398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40"/>
            <p:cNvSpPr/>
            <p:nvPr/>
          </p:nvSpPr>
          <p:spPr>
            <a:xfrm>
              <a:off x="3918960" y="4278600"/>
              <a:ext cx="398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ТАК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1"/>
            <p:cNvSpPr/>
            <p:nvPr/>
          </p:nvSpPr>
          <p:spPr>
            <a:xfrm>
              <a:off x="1792080" y="4278600"/>
              <a:ext cx="398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uk-UA" sz="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42"/>
            <p:cNvSpPr/>
            <p:nvPr/>
          </p:nvSpPr>
          <p:spPr>
            <a:xfrm>
              <a:off x="4051800" y="3216960"/>
              <a:ext cx="66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43"/>
            <p:cNvSpPr/>
            <p:nvPr/>
          </p:nvSpPr>
          <p:spPr>
            <a:xfrm>
              <a:off x="4716360" y="3215520"/>
              <a:ext cx="0" cy="233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4"/>
            <p:cNvSpPr/>
            <p:nvPr/>
          </p:nvSpPr>
          <p:spPr>
            <a:xfrm flipH="1">
              <a:off x="4043880" y="5548320"/>
              <a:ext cx="66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Rectangle 45"/>
          <p:cNvSpPr/>
          <p:nvPr/>
        </p:nvSpPr>
        <p:spPr>
          <a:xfrm>
            <a:off x="1692360" y="547560"/>
            <a:ext cx="259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лгоритм ідентифікаці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46" descr=""/>
          <p:cNvPicPr/>
          <p:nvPr/>
        </p:nvPicPr>
        <p:blipFill>
          <a:blip r:embed="rId1"/>
          <a:stretch/>
        </p:blipFill>
        <p:spPr>
          <a:xfrm>
            <a:off x="4140360" y="620640"/>
            <a:ext cx="1368360" cy="4618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47"/>
          <p:cNvSpPr/>
          <p:nvPr/>
        </p:nvSpPr>
        <p:spPr>
          <a:xfrm>
            <a:off x="3348000" y="404640"/>
            <a:ext cx="3094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рівняння портреті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8"/>
          <p:cNvSpPr/>
          <p:nvPr/>
        </p:nvSpPr>
        <p:spPr>
          <a:xfrm>
            <a:off x="4067280" y="1125360"/>
            <a:ext cx="21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Х1 і Х2 – матриці кутів нахил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вох портреті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49" descr=""/>
          <p:cNvPicPr/>
          <p:nvPr/>
        </p:nvPicPr>
        <p:blipFill>
          <a:blip r:embed="rId2"/>
          <a:stretch/>
        </p:blipFill>
        <p:spPr>
          <a:xfrm>
            <a:off x="7093080" y="1557360"/>
            <a:ext cx="1079280" cy="62388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0"/>
          <p:cNvSpPr/>
          <p:nvPr/>
        </p:nvSpPr>
        <p:spPr>
          <a:xfrm>
            <a:off x="6516720" y="1125360"/>
            <a:ext cx="230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атематичне очікуванн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атриц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ртре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1"/>
          <p:cNvSpPr/>
          <p:nvPr/>
        </p:nvSpPr>
        <p:spPr>
          <a:xfrm>
            <a:off x="4956120" y="404640"/>
            <a:ext cx="37926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исперсія матриці портре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52" descr=""/>
          <p:cNvPicPr/>
          <p:nvPr/>
        </p:nvPicPr>
        <p:blipFill>
          <a:blip r:embed="rId3"/>
          <a:stretch/>
        </p:blipFill>
        <p:spPr>
          <a:xfrm>
            <a:off x="6012000" y="620640"/>
            <a:ext cx="1701720" cy="433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3" descr=""/>
          <p:cNvPicPr/>
          <p:nvPr/>
        </p:nvPicPr>
        <p:blipFill>
          <a:blip r:embed="rId4"/>
          <a:stretch/>
        </p:blipFill>
        <p:spPr>
          <a:xfrm>
            <a:off x="5651640" y="2284560"/>
            <a:ext cx="3240000" cy="17920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4"/>
          <p:cNvSpPr/>
          <p:nvPr/>
        </p:nvSpPr>
        <p:spPr>
          <a:xfrm>
            <a:off x="5720400" y="3979080"/>
            <a:ext cx="31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 порівняння однакових відбитків 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інтенсивністю зашумлення 1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55" descr=""/>
          <p:cNvPicPr/>
          <p:nvPr/>
        </p:nvPicPr>
        <p:blipFill>
          <a:blip r:embed="rId5"/>
          <a:stretch/>
        </p:blipFill>
        <p:spPr>
          <a:xfrm>
            <a:off x="5435640" y="4545000"/>
            <a:ext cx="3456000" cy="19083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6"/>
          <p:cNvSpPr/>
          <p:nvPr/>
        </p:nvSpPr>
        <p:spPr>
          <a:xfrm>
            <a:off x="5802480" y="6400080"/>
            <a:ext cx="28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 порівняння різних відбитків 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інтенсивністю зашумлення 1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63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3384720" cy="5932440"/>
          </a:xfrm>
          <a:prstGeom prst="rect">
            <a:avLst/>
          </a:prstGeom>
          <a:ln w="0">
            <a:noFill/>
          </a:ln>
        </p:spPr>
      </p:pic>
      <p:sp>
        <p:nvSpPr>
          <p:cNvPr id="358" name="TextBox 64"/>
          <p:cNvSpPr/>
          <p:nvPr/>
        </p:nvSpPr>
        <p:spPr>
          <a:xfrm>
            <a:off x="611280" y="6308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лгоритм захисту пап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2133720"/>
          <a:ext cx="4763880" cy="4389480"/>
        </p:xfrm>
        <a:graphic>
          <a:graphicData uri="http://schemas.openxmlformats.org/drawingml/2006/table">
            <a:tbl>
              <a:tblPr/>
              <a:tblGrid>
                <a:gridCol w="780840"/>
                <a:gridCol w="1887840"/>
                <a:gridCol w="2095200"/>
              </a:tblGrid>
              <a:tr h="5158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зва продук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новні переваг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новне призначе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8082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sual C+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ніверсальність. Найбільша швидкість роботи додатку. Необмежена функціональніст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ворення компонентів додатку для виконання критичних по швидкості процесів, забезпечення функціональності, яка не допустима в інших засобах розроб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0653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lp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сокий рівень об'єктної моделі. Висока швидкість обробки даних. Інтеграція об'єктно–орієнтованої мови програмування з операційною системою Window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ворення додатків масштабу підприємства. Створення додатків з великим рівнем важкості розроб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360" name="TextBox 66"/>
          <p:cNvSpPr/>
          <p:nvPr/>
        </p:nvSpPr>
        <p:spPr>
          <a:xfrm>
            <a:off x="4284720" y="1484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рівняння мов програмув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67"/>
          <p:cNvSpPr/>
          <p:nvPr/>
        </p:nvSpPr>
        <p:spPr>
          <a:xfrm>
            <a:off x="3780000" y="5493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еалізації програми вибрана мова програмуванн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68"/>
          <p:cNvSpPr/>
          <p:nvPr/>
        </p:nvSpPr>
        <p:spPr>
          <a:xfrm>
            <a:off x="3348000" y="-1000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Реалізація захисту пап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1908000" y="18900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пробування розробленої програми. Закриття доступ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Рисунок 4" descr="1"/>
          <p:cNvPicPr/>
          <p:nvPr/>
        </p:nvPicPr>
        <p:blipFill>
          <a:blip r:embed="rId1"/>
          <a:srcRect l="47648" t="29641" r="16823" b="19577"/>
          <a:stretch/>
        </p:blipFill>
        <p:spPr>
          <a:xfrm>
            <a:off x="404640" y="1085760"/>
            <a:ext cx="8209080" cy="52516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5" descr="2"/>
          <p:cNvPicPr/>
          <p:nvPr/>
        </p:nvPicPr>
        <p:blipFill>
          <a:blip r:embed="rId2"/>
          <a:srcRect l="41279" t="21885" r="8879" b="15236"/>
          <a:stretch/>
        </p:blipFill>
        <p:spPr>
          <a:xfrm>
            <a:off x="404640" y="1085760"/>
            <a:ext cx="8174160" cy="52516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6" descr="4"/>
          <p:cNvPicPr/>
          <p:nvPr/>
        </p:nvPicPr>
        <p:blipFill>
          <a:blip r:embed="rId3"/>
          <a:srcRect l="40966" t="22160" r="8746" b="15512"/>
          <a:stretch/>
        </p:blipFill>
        <p:spPr>
          <a:xfrm>
            <a:off x="419040" y="1085760"/>
            <a:ext cx="8212320" cy="52117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7" descr="6"/>
          <p:cNvPicPr/>
          <p:nvPr/>
        </p:nvPicPr>
        <p:blipFill>
          <a:blip r:embed="rId4"/>
          <a:srcRect l="50780" t="30197" r="13862" b="19390"/>
          <a:stretch/>
        </p:blipFill>
        <p:spPr>
          <a:xfrm>
            <a:off x="388800" y="1085760"/>
            <a:ext cx="8159760" cy="524520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8" descr="8"/>
          <p:cNvPicPr/>
          <p:nvPr/>
        </p:nvPicPr>
        <p:blipFill>
          <a:blip r:embed="rId5"/>
          <a:srcRect l="32245" t="22160" r="32317" b="27426"/>
          <a:stretch/>
        </p:blipFill>
        <p:spPr>
          <a:xfrm>
            <a:off x="412920" y="1117440"/>
            <a:ext cx="8181720" cy="52372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9" descr="17"/>
          <p:cNvPicPr/>
          <p:nvPr/>
        </p:nvPicPr>
        <p:blipFill>
          <a:blip r:embed="rId6"/>
          <a:srcRect l="32098" t="21885" r="32394" b="26870"/>
          <a:stretch/>
        </p:blipFill>
        <p:spPr>
          <a:xfrm>
            <a:off x="388800" y="1138320"/>
            <a:ext cx="8182080" cy="52369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0" descr="9"/>
          <p:cNvPicPr/>
          <p:nvPr/>
        </p:nvPicPr>
        <p:blipFill>
          <a:blip r:embed="rId7"/>
          <a:srcRect l="29436" t="0" r="0" b="8721"/>
          <a:stretch/>
        </p:blipFill>
        <p:spPr>
          <a:xfrm>
            <a:off x="449280" y="1149480"/>
            <a:ext cx="8209080" cy="52257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1" descr="10"/>
          <p:cNvPicPr/>
          <p:nvPr/>
        </p:nvPicPr>
        <p:blipFill>
          <a:blip r:embed="rId8"/>
          <a:srcRect l="33960" t="4712" r="1091" b="13293"/>
          <a:stretch/>
        </p:blipFill>
        <p:spPr>
          <a:xfrm>
            <a:off x="450720" y="1149480"/>
            <a:ext cx="821052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3"/>
          <p:cNvSpPr/>
          <p:nvPr/>
        </p:nvSpPr>
        <p:spPr>
          <a:xfrm>
            <a:off x="1793880" y="3319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пробування розробленої прог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блокування пап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Рисунок 4" descr="11"/>
          <p:cNvPicPr/>
          <p:nvPr/>
        </p:nvPicPr>
        <p:blipFill>
          <a:blip r:embed="rId1"/>
          <a:srcRect l="36357" t="28558" r="28236" b="15994"/>
          <a:stretch/>
        </p:blipFill>
        <p:spPr>
          <a:xfrm>
            <a:off x="762120" y="1193760"/>
            <a:ext cx="7823160" cy="51912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5" descr="12"/>
          <p:cNvPicPr/>
          <p:nvPr/>
        </p:nvPicPr>
        <p:blipFill>
          <a:blip r:embed="rId2"/>
          <a:srcRect l="36357" t="30472" r="28236" b="18839"/>
          <a:stretch/>
        </p:blipFill>
        <p:spPr>
          <a:xfrm>
            <a:off x="762120" y="1231920"/>
            <a:ext cx="7823160" cy="51912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6" descr="13"/>
          <p:cNvPicPr/>
          <p:nvPr/>
        </p:nvPicPr>
        <p:blipFill>
          <a:blip r:embed="rId3"/>
          <a:srcRect l="36357" t="31024" r="28703" b="18282"/>
          <a:stretch/>
        </p:blipFill>
        <p:spPr>
          <a:xfrm>
            <a:off x="762120" y="1208160"/>
            <a:ext cx="7823160" cy="51847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7" descr="14"/>
          <p:cNvPicPr/>
          <p:nvPr/>
        </p:nvPicPr>
        <p:blipFill>
          <a:blip r:embed="rId4"/>
          <a:srcRect l="36357" t="29641" r="28078" b="16900"/>
          <a:stretch/>
        </p:blipFill>
        <p:spPr>
          <a:xfrm>
            <a:off x="762120" y="1231920"/>
            <a:ext cx="7823160" cy="51832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8" descr="15"/>
          <p:cNvPicPr/>
          <p:nvPr/>
        </p:nvPicPr>
        <p:blipFill>
          <a:blip r:embed="rId5"/>
          <a:srcRect l="36357" t="31024" r="29016" b="18282"/>
          <a:stretch/>
        </p:blipFill>
        <p:spPr>
          <a:xfrm>
            <a:off x="762120" y="1193760"/>
            <a:ext cx="7823160" cy="51847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9" descr="16"/>
          <p:cNvPicPr/>
          <p:nvPr/>
        </p:nvPicPr>
        <p:blipFill>
          <a:blip r:embed="rId6"/>
          <a:srcRect l="36357" t="31029" r="28703" b="18558"/>
          <a:stretch/>
        </p:blipFill>
        <p:spPr>
          <a:xfrm>
            <a:off x="762120" y="1200240"/>
            <a:ext cx="782316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6:53:21Z</dcterms:created>
  <dc:creator>ivan</dc:creator>
  <dc:description/>
  <dc:language>en-US</dc:language>
  <cp:lastModifiedBy>Владимир</cp:lastModifiedBy>
  <dcterms:modified xsi:type="dcterms:W3CDTF">2015-06-20T18:23:47Z</dcterms:modified>
  <cp:revision>57</cp:revision>
  <dc:subject/>
  <dc:title>Анализ отечественного опыта совместного использования криптографических и биометрических механизмов защиты информации,  предложения по разработке национальных и международных биометрических стандартов </dc:title>
</cp:coreProperties>
</file>