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96E-BD86-423E-8529-0B662EB9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556-1C98-444C-90C8-BCB23958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618-CEF6-43B9-B375-40CFFA97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1FC-9BCD-43E8-9338-2A2C4769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83D-D1F3-4F17-B0A0-89B3A13C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7430-AB28-4930-85B7-05949E1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E633-972D-4CEB-9076-9E350210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855-6DEC-4208-BD3A-02CB660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7B5-C0B4-4669-AF34-EE2794B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822-289B-4225-923F-2FFAAEA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6370-FE07-4963-9094-B2A2927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1DB-80BA-45FA-A6FA-6519931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FBD-F935-4115-8E1C-7E7CC43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72E3-DAD2-4912-98A9-E637C2F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059-4DF9-469E-B452-E76142F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60B-65B5-42A1-9453-54F3A6D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CE98-C1D3-4AAE-9B67-62E85CFE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055-8C3B-4ABE-A477-EBEB4FC6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7D0-F1A1-42CC-A5DC-898E603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2DD-3076-4AD1-8E48-A469501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2AE-C2CE-4868-A3E1-8F793F65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977-680E-49D1-97B2-A38FBEB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F78-1DF1-40ED-A017-2DAE45A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0D0-07C2-4FF2-84F6-8121770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64E-F653-4F23-AD38-ABDF00C97B86}" type="slidenum">
              <a:rPr b="0" lang="ru-RU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712-B99D-4478-BEC4-76C486615354}" type="slidenum">
              <a:rPr b="0" lang="ru-RU" sz="1200" spc="-1" strike="noStrike">
                <a:solidFill>
                  <a:srgbClr val="4049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8360" y="2421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ІТ-менеджменту в організаційних змі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803120" y="4149720"/>
            <a:ext cx="36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ст. гр. 3М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ко О.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е.н., доц. кафедри П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плигін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852200" y="2852640"/>
            <a:ext cx="542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8360" y="213372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а тема є найбільш актуальною на сьогоднішній день, оскільки інформаційні технології це не тільки запорука успіху та конкурентоспроможності фірми, але і деколи виступає як засіб виживання в умовах жорсткої конкуренці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39640" y="1125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 дипломн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 робо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аналіз використання інформаційних технологій на підприємстві П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озробка пропозицій та рекомендацій щодо його покращ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29920" y="3573360"/>
            <a:ext cx="833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кт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же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ає інформаційне забезпе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89960" y="5084640"/>
            <a:ext cx="85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ізми реалізації інформаційн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ості в управлінні ПАТ «Укртелек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45440" cy="164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563840" y="148428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ії переробки інформаційних ресур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1006560"/>
          <a:ext cx="7848360" cy="5519520"/>
        </p:xfrm>
        <a:graphic>
          <a:graphicData uri="http://schemas.openxmlformats.org/drawingml/2006/table">
            <a:tbl>
              <a:tblPr/>
              <a:tblGrid>
                <a:gridCol w="2455920"/>
                <a:gridCol w="2697120"/>
                <a:gridCol w="2695320"/>
              </a:tblGrid>
              <a:tr h="44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ішнє серед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і сторони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кі сторони (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йбільш розгалужена мережа філ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ликий досвід роботи на ринку послу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Широкий асортимент продукції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безпечує майже всіма видами комунікаційних послу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ласна розгалужена мережа сервісних центрів з обслуговування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начна частка морально та фізично застарілого обладн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обхідність надавати нерентабельні по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кладна організаційна структура управлі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є серед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ливості 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ози (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23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 новітніх технологій в сфері фіксовано телефонного зв’яз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новлення та покращення асортименту і якості продукції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гресивна політика конкурентів в ІТ – област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никнення на ринок нових конкурентів, які будуть пропонувати більш дешевші по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9"/>
          <p:cNvSpPr/>
          <p:nvPr/>
        </p:nvSpPr>
        <p:spPr>
          <a:xfrm>
            <a:off x="2622240" y="6112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T –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із ПА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ртеле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074040" y="76500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 Підприєм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yg-1c-old20090803.png"/>
          <p:cNvPicPr/>
          <p:nvPr/>
        </p:nvPicPr>
        <p:blipFill>
          <a:blip r:embed="rId1"/>
          <a:stretch/>
        </p:blipFill>
        <p:spPr>
          <a:xfrm>
            <a:off x="1258920" y="1341360"/>
            <a:ext cx="67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95280" y="476280"/>
            <a:ext cx="3529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6" descr="C:\Users\oleg\Desktop\intest-simulations-excel-2003.png"/>
          <p:cNvPicPr/>
          <p:nvPr/>
        </p:nvPicPr>
        <p:blipFill>
          <a:blip r:embed="rId1"/>
          <a:srcRect l="0" t="3528" r="0" b="0"/>
          <a:stretch/>
        </p:blipFill>
        <p:spPr>
          <a:xfrm>
            <a:off x="179280" y="1125360"/>
            <a:ext cx="4321440" cy="2880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C:\Users\oleg\Desktop\Access3.jpg"/>
          <p:cNvPicPr/>
          <p:nvPr/>
        </p:nvPicPr>
        <p:blipFill>
          <a:blip r:embed="rId2"/>
          <a:stretch/>
        </p:blipFill>
        <p:spPr>
          <a:xfrm>
            <a:off x="2627280" y="4602240"/>
            <a:ext cx="3529080" cy="2255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C:\Users\oleg\Desktop\Time-Meter-for-MS-Outlook_2.png"/>
          <p:cNvPicPr/>
          <p:nvPr/>
        </p:nvPicPr>
        <p:blipFill>
          <a:blip r:embed="rId3"/>
          <a:stretch/>
        </p:blipFill>
        <p:spPr>
          <a:xfrm>
            <a:off x="4716360" y="1125360"/>
            <a:ext cx="4140360" cy="2880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5148360" y="512640"/>
            <a:ext cx="35272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2484360" y="3933720"/>
            <a:ext cx="3888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фейс пакета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Рисунок 12" descr="C:\Users\oleg\Desktop\12.jpg"/>
          <p:cNvPicPr/>
          <p:nvPr/>
        </p:nvPicPr>
        <p:blipFill>
          <a:blip r:embed="rId1"/>
          <a:stretch/>
        </p:blipFill>
        <p:spPr>
          <a:xfrm>
            <a:off x="324000" y="1413000"/>
            <a:ext cx="8530920" cy="5182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1908360" y="836640"/>
            <a:ext cx="64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структура ПАТ «Укртеле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7ca5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998280" y="112536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технічні параметри програмного забезпе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16000" y="1844640"/>
          <a:ext cx="7129440" cy="4114800"/>
        </p:xfrm>
        <a:graphic>
          <a:graphicData uri="http://schemas.openxmlformats.org/drawingml/2006/table">
            <a:tbl>
              <a:tblPr/>
              <a:tblGrid>
                <a:gridCol w="1425600"/>
                <a:gridCol w="1425600"/>
                <a:gridCol w="1425600"/>
                <a:gridCol w="1425600"/>
                <a:gridCol w="1427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бсолютне значення параме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ефіцієнт вагомості парам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ількість ф-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ількість опер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ількість режим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ількість критерії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Наявність шабло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1:39:05Z</dcterms:created>
  <dc:creator>oleg</dc:creator>
  <dc:description/>
  <dc:language>en-US</dc:language>
  <cp:lastModifiedBy>oleg</cp:lastModifiedBy>
  <dcterms:modified xsi:type="dcterms:W3CDTF">2015-03-30T06:03:15Z</dcterms:modified>
  <cp:revision>27</cp:revision>
  <dc:subject/>
  <dc:title>Слайд 1</dc:title>
</cp:coreProperties>
</file>