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6D0-BF00-4D56-AAC2-C56E7CCB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D47-86C1-479A-A448-76EB394D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C79D-BAE6-4379-A8A5-C9AE87F9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5A5-0B79-4E49-8286-EBBA9A9D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2CF0-B74A-4C07-8FEC-C12426D1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008D-9521-4A98-950C-E348937F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B7C9-57BE-4DE1-B644-3D392046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3F57-CADF-4598-9ABC-654A701E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BC63-5495-45C5-9052-22030BE2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88E6-26AA-4204-8268-494F2AD0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1853-1F91-4438-8396-E2ACC3A1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F09-58D0-4232-81B0-13B5B037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8794-B3A7-4507-94A6-388E0E1C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5C30-17C8-4167-A661-71AA786E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587B-ED20-4A2D-8C68-FD36367F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2D2A-5B29-49F5-A341-370468FF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1D9C-4940-4754-AE3D-8CB79C87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719-48FC-4E83-AEF1-19AB51BF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AD8B-2133-42BC-8491-E404C4F3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444-B48E-4BB8-877C-80298EF8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591-C2F0-49E1-9747-972E0ADA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5D40-B2A4-4A40-B87D-B10C484E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894-199E-4CF3-8E05-988FEA51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D64-2AAA-4535-B847-2B956945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924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37F4-0013-46B2-A83F-5A2165DC8CC2}" type="slidenum">
              <a:rPr b="0" lang="ru-RU" sz="1200" spc="-1" strike="noStrike">
                <a:solidFill>
                  <a:srgbClr val="4049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924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AE81-B2C8-4815-9CED-B9D14BC4495E}" type="slidenum">
              <a:rPr b="0" lang="ru-RU" sz="1200" spc="-1" strike="noStrike">
                <a:solidFill>
                  <a:srgbClr val="4049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7ca54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68360" y="2421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ІТ-менеджменту в організаційних змі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4803120" y="4149720"/>
            <a:ext cx="369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в:ст. гр. 3М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мко О.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ий керівн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е.н., доц. кафедри П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плигіна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7ca54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1852200" y="2852640"/>
            <a:ext cx="542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7ca54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68360" y="213372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ана тема є найбільш актуальною на сьогоднішній день, оскільки інформаційні технології це не тільки запорука успіху та конкурентоспроможності фірми, але і деколи виступає як засіб виживання в умовах жорсткої конкуренці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7ca54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539640" y="112536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ю  дипломно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 робот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аналіз використання інформаційних технологій на підприємстві ПА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кртелеком»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розробка пропозицій та рекомендацій щодо його покращ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29920" y="3573360"/>
            <a:ext cx="833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кто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л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ження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тупає інформаційне забезпеч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кртелеко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89960" y="5084640"/>
            <a:ext cx="852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ом дослідження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ізми реалізації інформаційно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льності в управлінні ПАТ «Укртелеко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7ca5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7345440" cy="16462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1563840" y="1484280"/>
            <a:ext cx="62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ії переробки інформаційних ресур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7ca54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1006560"/>
          <a:ext cx="7848360" cy="5519520"/>
        </p:xfrm>
        <a:graphic>
          <a:graphicData uri="http://schemas.openxmlformats.org/drawingml/2006/table">
            <a:tbl>
              <a:tblPr/>
              <a:tblGrid>
                <a:gridCol w="2455920"/>
                <a:gridCol w="2697120"/>
                <a:gridCol w="2695320"/>
              </a:tblGrid>
              <a:tr h="44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утрішнє середови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ьні сторони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абкі сторони (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24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айбільш розгалужена мережа філі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еликий досвід роботи на ринку послу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Широкий асортимент продукції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Забезпечує майже всіма видами комунікаційних послу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Власна розгалужена мережа сервісних центрів з обслуговування споживач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Значна частка морально та фізично застарілого обладнанн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Необхідність надавати нерентабельні послуг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кладна організаційна структура управлінн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є середови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ливості (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ози (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233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провадження новітніх технологій в сфері фіксовано телефонного зв’яз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новлення та покращення асортименту і якості продукції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Агресивна політика конкурентів в ІТ – області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оникнення на ринок нових конкурентів, які будуть пропонувати більш дешевші послуг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sp>
        <p:nvSpPr>
          <p:cNvPr id="114" name="TextBox 9"/>
          <p:cNvSpPr/>
          <p:nvPr/>
        </p:nvSpPr>
        <p:spPr>
          <a:xfrm>
            <a:off x="2622240" y="611280"/>
            <a:ext cx="38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OT –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наліз ПА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кртелек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7ca54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3074040" y="765000"/>
            <a:ext cx="26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С Підприєм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7" descr="yg-1c-old20090803.png"/>
          <p:cNvPicPr/>
          <p:nvPr/>
        </p:nvPicPr>
        <p:blipFill>
          <a:blip r:embed="rId1"/>
          <a:stretch/>
        </p:blipFill>
        <p:spPr>
          <a:xfrm>
            <a:off x="1258920" y="1341360"/>
            <a:ext cx="670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7ca54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395280" y="476280"/>
            <a:ext cx="3529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фейс пакета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6" descr="C:\Users\oleg\Desktop\intest-simulations-excel-2003.png"/>
          <p:cNvPicPr/>
          <p:nvPr/>
        </p:nvPicPr>
        <p:blipFill>
          <a:blip r:embed="rId1"/>
          <a:srcRect l="0" t="3528" r="0" b="0"/>
          <a:stretch/>
        </p:blipFill>
        <p:spPr>
          <a:xfrm>
            <a:off x="179280" y="1125360"/>
            <a:ext cx="4321440" cy="2880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8" descr="C:\Users\oleg\Desktop\Access3.jpg"/>
          <p:cNvPicPr/>
          <p:nvPr/>
        </p:nvPicPr>
        <p:blipFill>
          <a:blip r:embed="rId2"/>
          <a:stretch/>
        </p:blipFill>
        <p:spPr>
          <a:xfrm>
            <a:off x="2627280" y="4602240"/>
            <a:ext cx="3529080" cy="22557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9" descr="C:\Users\oleg\Desktop\Time-Meter-for-MS-Outlook_2.png"/>
          <p:cNvPicPr/>
          <p:nvPr/>
        </p:nvPicPr>
        <p:blipFill>
          <a:blip r:embed="rId3"/>
          <a:stretch/>
        </p:blipFill>
        <p:spPr>
          <a:xfrm>
            <a:off x="4716360" y="1125360"/>
            <a:ext cx="4140360" cy="2880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0"/>
          <p:cNvSpPr/>
          <p:nvPr/>
        </p:nvSpPr>
        <p:spPr>
          <a:xfrm>
            <a:off x="5148360" y="512640"/>
            <a:ext cx="35272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фейс пакет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2484360" y="3933720"/>
            <a:ext cx="3888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фейс пакета Out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7ca54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Рисунок 12" descr="C:\Users\oleg\Desktop\12.jpg"/>
          <p:cNvPicPr/>
          <p:nvPr/>
        </p:nvPicPr>
        <p:blipFill>
          <a:blip r:embed="rId1"/>
          <a:stretch/>
        </p:blipFill>
        <p:spPr>
          <a:xfrm>
            <a:off x="324000" y="1413000"/>
            <a:ext cx="8530920" cy="5182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3"/>
          <p:cNvSpPr/>
          <p:nvPr/>
        </p:nvSpPr>
        <p:spPr>
          <a:xfrm>
            <a:off x="1908360" y="836640"/>
            <a:ext cx="64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йна структура ПАТ «Укртелек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7ca54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998280" y="1125360"/>
            <a:ext cx="78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технічні параметри програмного забезпеч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16000" y="1844640"/>
          <a:ext cx="7129440" cy="4114800"/>
        </p:xfrm>
        <a:graphic>
          <a:graphicData uri="http://schemas.openxmlformats.org/drawingml/2006/table">
            <a:tbl>
              <a:tblPr/>
              <a:tblGrid>
                <a:gridCol w="1425600"/>
                <a:gridCol w="1425600"/>
                <a:gridCol w="1425600"/>
                <a:gridCol w="1425600"/>
                <a:gridCol w="14270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бсолютне значення парамет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ефіцієнт вагомості параме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щ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і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Кількість ф-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Кількість операці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Кількість режим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Кількість критерії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Наявність шаблон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21:39:05Z</dcterms:created>
  <dc:creator>oleg</dc:creator>
  <dc:description/>
  <dc:language>en-US</dc:language>
  <cp:lastModifiedBy>oleg</cp:lastModifiedBy>
  <dcterms:modified xsi:type="dcterms:W3CDTF">2015-03-30T06:03:15Z</dcterms:modified>
  <cp:revision>27</cp:revision>
  <dc:subject/>
  <dc:title>Слайд 1</dc:title>
</cp:coreProperties>
</file>