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C66-116F-45A0-9C0C-4EEA4EAD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E25-C341-44ED-8FB2-9107BD9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4F9-CF5B-4C03-810E-547B4C48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940-F412-4DA7-B5C6-C66A85E3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7794-1F0B-43E9-B0B0-2BB5167A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531D-BB8A-41D1-9890-444AD805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FCE8-8F57-4783-9743-B9D5AB50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A361-075E-46DA-8EC6-2853ED62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F95-5EF9-4507-9AE2-B88F0B2C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9DC7-3DD9-4CAE-96F7-36A50E2E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8799-4A4D-451E-9A0C-B7E4B99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0AB-BBBD-4AA0-B508-A929A2AF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5840-A1C1-465D-8938-FB05E53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8729-53DF-4897-ACC8-D588760D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0B0D-F3D4-4FA7-BD67-5400E7D4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6F12-2A9E-4CC5-A3AD-41EE50EA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8E9-6D03-41C5-8B81-45BEE093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A24-8D65-4A82-8389-097255D4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261-73E6-40AC-BB1C-075F91AA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36B-589D-4DB1-9BDA-06D47117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101-30BB-4DFC-B5C2-EA3F5AFE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114-65C0-45EE-96A2-139FE439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E4A-8B17-4773-AF79-127E1196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B3C-F783-47C5-8234-8B703342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0FF7-B3D3-4AC0-9FDC-004D884A0B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6DBD-7AA2-4ABD-83F6-FFDED8A706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2471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Tahoma"/>
              </a:rPr>
              <a:t>Розробка моделі інтернет-маркетингу на підприємстві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339800"/>
            <a:ext cx="7416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навець: слухач гр. 2М-13 Костюк Богдан Миколайови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Керівник: к.е.н., доцент Безсмертна Оксана Владиславі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626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ahoma"/>
              </a:rPr>
              <a:t>Таблиця 3 – Якісна оцінка показників сайту ПрАТ “ТОК “Судак” та конкурентів</a:t>
            </a: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Скриншот 30.03.2015 08:39"/>
          <p:cNvPicPr/>
          <p:nvPr/>
        </p:nvPicPr>
        <p:blipFill>
          <a:blip r:embed="rId1"/>
          <a:stretch/>
        </p:blipFill>
        <p:spPr>
          <a:xfrm>
            <a:off x="1012680" y="2276640"/>
            <a:ext cx="788040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501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Рисунок 7 – Структура управління ПрАТ “ТОК “Судак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5883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Таблиця 4 – Запропонована модель інтернет-маркетин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Скриншот 30.03.2015 08:41"/>
          <p:cNvPicPr/>
          <p:nvPr/>
        </p:nvPicPr>
        <p:blipFill>
          <a:blip r:embed="rId1"/>
          <a:stretch/>
        </p:blipFill>
        <p:spPr>
          <a:xfrm>
            <a:off x="681120" y="2332080"/>
            <a:ext cx="81388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5949720"/>
            <a:ext cx="597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333399"/>
                </a:solidFill>
                <a:latin typeface="Tahoma"/>
              </a:rPr>
              <a:t>ДЯКУЮ ЗА УВАГУ!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90520" y="43920"/>
            <a:ext cx="5505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СЛАВА УКРАЇНІ!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56000" y="878040"/>
            <a:ext cx="45212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6920" y="475920"/>
            <a:ext cx="741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Метою робот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є вивчення застосування моделей інтернет-маркетингу у віртуальному бізнесі й адаптація їх для українських підприєм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ahoma"/>
              </a:rPr>
              <a:t>Для досягнення цієї мети поставлені наступні задачі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розглянути теоретичні аспекти інтернет-маркетинг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описати методичні підходи до аналізу оцінки моделі інтернет-маркетингу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здійснити аналіз виробничої та фінансової діяльності підприємств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провести комплексне дослідження діяльності підприємства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ahoma"/>
              </a:rPr>
              <a:t>спробувати запропонувати практичні рекомендації щодо ефективності управління стратегічним розвитком підприєм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Принципові галузі застосування Інтернету в маркетинговій діяльності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ережевий зв’яз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Інформація про ри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купка й продаж через інтер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еклама товарів у мереж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Сервіс і післяпродажне обслуговуванн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-1000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Складові інтернет-маркетинг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анерна рек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Контекстна рек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еєстрація в каталог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еклама на дошках оголош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озсилання новин серв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артнерські прогр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шукова оптимізаці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едметом діяльності ПрАТ “ТОК “Судак” є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лікарняних закладі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гальна медична практи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готелів і подібних засобів тимчасового розміщенн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ресторанів, надання послуг мобільного харчуванн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роздрібна торгівля в неспеціалізованих магазинах переважно продуктами харчування, напоями та тютюновими виробам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туристичних агенті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яльність туристичних операторі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Таблиця 1 – Аналіз коефіцієнтів рентабельності ПрАТ “ТОК “Судак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Скриншот 30.03.2015 08:32"/>
          <p:cNvPicPr/>
          <p:nvPr/>
        </p:nvPicPr>
        <p:blipFill>
          <a:blip r:embed="rId1"/>
          <a:stretch/>
        </p:blipFill>
        <p:spPr>
          <a:xfrm>
            <a:off x="1187280" y="1916280"/>
            <a:ext cx="7561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1800" y="65160"/>
            <a:ext cx="4786560" cy="653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08720" y="115920"/>
            <a:ext cx="3230640" cy="4046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8000" y="4365720"/>
            <a:ext cx="3671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ahoma"/>
              </a:rPr>
              <a:t>Зображення стартових сторінок сайту ПрАТ “ТОК “Судак” та конкуренті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19640" y="115920"/>
            <a:ext cx="3603600" cy="3228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44480" y="3097080"/>
            <a:ext cx="3827520" cy="335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4794120" cy="2625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148360" y="3357720"/>
            <a:ext cx="34923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ahoma"/>
              </a:rPr>
              <a:t>Таблиця 2 – Аналітичні показники відвідування сайту ПрАТ “ТОК “Судак” та конкуренті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Скриншот 30.03.2015 08:34"/>
          <p:cNvPicPr/>
          <p:nvPr/>
        </p:nvPicPr>
        <p:blipFill>
          <a:blip r:embed="rId1"/>
          <a:stretch/>
        </p:blipFill>
        <p:spPr>
          <a:xfrm>
            <a:off x="611280" y="2462040"/>
            <a:ext cx="813744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20:23:41Z</dcterms:created>
  <dc:creator>IronChampion</dc:creator>
  <dc:description/>
  <dc:language>en-US</dc:language>
  <cp:lastModifiedBy>IronChampion</cp:lastModifiedBy>
  <dcterms:modified xsi:type="dcterms:W3CDTF">2015-03-30T05:48:35Z</dcterms:modified>
  <cp:revision>2</cp:revision>
  <dc:subject/>
  <dc:title>Розробка моделі інтернет-маркетингу на підприємстві</dc:title>
</cp:coreProperties>
</file>