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526-5531-4198-A63E-6D279100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B4C-3572-4651-AFAB-87AC5E0F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FC3-A2B7-4E8C-B86D-39C39101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162-25EF-40D9-BFBE-D0328232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697-D7EB-4C77-8C1F-3FC3474A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662-719C-4E8E-8CFF-2DA3566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AB0D-9BCE-4191-AE86-F085C507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DD4-C0C5-4888-9EF5-435BFEB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DAF-16A7-43CC-AF9C-F54C3BC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EFD-5A91-4598-8E19-AAC3683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F921-9687-499C-ABA6-AC7D140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E88-7A9D-415D-B520-CCDA05E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D170-1374-4EF8-ADC4-46523C9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5AE2-A8AA-45C4-829F-55FEFFF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CCDA-D56F-458B-86A0-F441C428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87D9-4AAE-4F3E-9EB7-01373D1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F9A-7D0C-4276-9D5E-405CDFE6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F54-305C-481D-ACD1-387D640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748-8FBC-43BA-814F-B4463F5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128-117E-4970-BD8D-03FCF7E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988-1A04-4B3C-97F1-3ABC469B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5EA-EE36-4741-B70B-33C8523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BC1-FD9C-45D4-B7EB-A8E6AD3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B03-632B-483D-ABFC-1807B90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52B-A552-4576-BB63-FF84A3327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E7E-E236-4CD0-A320-902F2FDDFA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4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ahoma"/>
              </a:rPr>
              <a:t>Розробка моделі інтернет-маркетингу на підприємств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33980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вець: слухач гр. 2М-13 Костюк Богдан Миколайови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ерівник: к.е.н., доцент Безсмертна Оксана Владиславі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626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Таблиця 3 – Якісна оцінка показників сайту ПрАТ “ТОК “Судак” та конкурентів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Скриншот 30.03.2015 08:39"/>
          <p:cNvPicPr/>
          <p:nvPr/>
        </p:nvPicPr>
        <p:blipFill>
          <a:blip r:embed="rId1"/>
          <a:stretch/>
        </p:blipFill>
        <p:spPr>
          <a:xfrm>
            <a:off x="1012680" y="2276640"/>
            <a:ext cx="78804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501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Рисунок 7 – Структура управління ПрАТ “ТОК “Судак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588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Таблиця 4 – Запропонована модель інтернет-маркетин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Скриншот 30.03.2015 08:41"/>
          <p:cNvPicPr/>
          <p:nvPr/>
        </p:nvPicPr>
        <p:blipFill>
          <a:blip r:embed="rId1"/>
          <a:stretch/>
        </p:blipFill>
        <p:spPr>
          <a:xfrm>
            <a:off x="681120" y="2332080"/>
            <a:ext cx="81388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5949720"/>
            <a:ext cx="597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333399"/>
                </a:solidFill>
                <a:latin typeface="Tahoma"/>
              </a:rPr>
              <a:t>ДЯКУЮ ЗА УВАГУ!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90520" y="43920"/>
            <a:ext cx="550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СЛАВА УКРАЇНІ!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56000" y="878040"/>
            <a:ext cx="45212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6920" y="475920"/>
            <a:ext cx="741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Метою робот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є вивчення застосування моделей інтернет-маркетингу у віртуальному бізнесі й адаптація їх для українських підприєм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ahoma"/>
              </a:rPr>
              <a:t>Для досягнення цієї мети поставлені наступні задачі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розглянути теоретичні аспекти інтернет-маркетинг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описати методичні підходи до аналізу оцінки моделі інтернет-маркетингу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здійснити аналіз виробничої та фінансової діяльності підприємств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провести комплексне дослідження діяльності підприємства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спробувати запропонувати практичні рекомендації щодо ефективності управління стратегічним розвитком підприєм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Принципові галузі застосування Інтернету в маркетинговій діяльності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ережевий зв’яз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Інформація про ри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упка й продаж через інтер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клама товарів у мереж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ервіс і післяпродажне обслуговуван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-100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Складові інтернет-маркетинг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анерна 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нтекстна 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єстрація в каталог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клама на дошках оголош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зсилання новин серв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артнерські прогр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шукова оптимізаці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едметом діяльності ПрАТ “ТОК “Судак” є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лікарняних закладі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гальна медична практ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готелів і подібних засобів тимчасового розміщенн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ресторанів, надання послуг мобільного харчуванн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роздрібна торгівля в неспеціалізованих магазинах переважно продуктами харчування, напоями та тютюновими виробам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туристичних агенті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туристичних операторі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Таблиця 1 – Аналіз коефіцієнтів рентабельності ПрАТ “ТОК “Судак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Скриншот 30.03.2015 08:32"/>
          <p:cNvPicPr/>
          <p:nvPr/>
        </p:nvPicPr>
        <p:blipFill>
          <a:blip r:embed="rId1"/>
          <a:stretch/>
        </p:blipFill>
        <p:spPr>
          <a:xfrm>
            <a:off x="1187280" y="1916280"/>
            <a:ext cx="7561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1800" y="65160"/>
            <a:ext cx="4786560" cy="653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08720" y="115920"/>
            <a:ext cx="3230640" cy="4046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8000" y="4365720"/>
            <a:ext cx="3671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Зображення стартових сторінок сайту ПрАТ “ТОК “Судак” та конкуренті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603600" cy="32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44480" y="3097080"/>
            <a:ext cx="3827520" cy="335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4794120" cy="262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148360" y="3357720"/>
            <a:ext cx="34923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Таблиця 2 – Аналітичні показники відвідування сайту ПрАТ “ТОК “Судак” та конкуренті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Скриншот 30.03.2015 08:34"/>
          <p:cNvPicPr/>
          <p:nvPr/>
        </p:nvPicPr>
        <p:blipFill>
          <a:blip r:embed="rId1"/>
          <a:stretch/>
        </p:blipFill>
        <p:spPr>
          <a:xfrm>
            <a:off x="611280" y="2462040"/>
            <a:ext cx="813744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0:23:41Z</dcterms:created>
  <dc:creator>IronChampion</dc:creator>
  <dc:description/>
  <dc:language>en-US</dc:language>
  <cp:lastModifiedBy>IronChampion</cp:lastModifiedBy>
  <dcterms:modified xsi:type="dcterms:W3CDTF">2015-03-30T05:48:35Z</dcterms:modified>
  <cp:revision>2</cp:revision>
  <dc:subject/>
  <dc:title>Розробка моделі інтернет-маркетингу на підприємстві</dc:title>
</cp:coreProperties>
</file>