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F5E-9C47-443D-9351-42E70B00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2B7-BB4D-4AD4-808D-007F8C77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90D-2130-4387-A484-3F41C2E0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7AD-48A8-4305-9F38-AF68F432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407-E8D5-4365-B032-C579DC8D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3B1-E940-47CF-9EF3-8F99F8F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309-64C5-4FF4-B4D4-1D554D72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D30-E5EA-4468-9915-367A5A73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D0D-2586-4051-A9C0-627B9D3A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1FB-F86B-4E29-B901-67D0878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6CE-525B-4D66-9FA5-18749CF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746-9594-427C-B870-3DD0ADE8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2B3-263F-49BD-B65E-C5F8201B15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Додаток В</a:t>
            </a:r>
            <a:br>
              <a:rPr sz="1800"/>
            </a:br>
            <a:r>
              <a:rPr b="0" lang="uk-UA" sz="1400" spc="-1" strike="noStrike">
                <a:solidFill>
                  <a:srgbClr val="b7e7ff"/>
                </a:solidFill>
                <a:latin typeface="Arial"/>
              </a:rPr>
              <a:t>Ілюстративний  матеріал до дипломної роботи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Управл</a:t>
            </a:r>
            <a:r>
              <a:rPr b="0" lang="uk-UA" sz="2000" spc="-1" strike="noStrike">
                <a:solidFill>
                  <a:srgbClr val="b7e7ff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ня ризиком ліквідності АТ «Дельта банк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ерівник:к.е.н., доц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ілоконь Т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конав:студент гр.1м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ушнір В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3"/>
          <p:cNvSpPr/>
          <p:nvPr/>
        </p:nvSpPr>
        <p:spPr>
          <a:xfrm>
            <a:off x="6553080" y="5991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9A4-862C-451B-9F09-CBF36646E9BB}" type="slidenum">
              <a:rPr b="0" lang="ru-RU" sz="1200" spc="-1" strike="noStrike">
                <a:solidFill>
                  <a:srgbClr val="bcbcb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1"/>
          <p:cNvSpPr/>
          <p:nvPr/>
        </p:nvSpPr>
        <p:spPr>
          <a:xfrm>
            <a:off x="2664000" y="1665360"/>
            <a:ext cx="3139920" cy="4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Директор Департа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кругленный прямоугольник 13"/>
          <p:cNvSpPr/>
          <p:nvPr/>
        </p:nvSpPr>
        <p:spPr>
          <a:xfrm>
            <a:off x="612720" y="3363840"/>
            <a:ext cx="211140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Управління бізнесу зарплатно - карткових проекті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Скругленный прямоугольник 14"/>
          <p:cNvSpPr/>
          <p:nvPr/>
        </p:nvSpPr>
        <p:spPr>
          <a:xfrm>
            <a:off x="2847960" y="3363840"/>
            <a:ext cx="29606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Управління бізнесу авто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Скругленный прямоугольник 22"/>
          <p:cNvSpPr/>
          <p:nvPr/>
        </p:nvSpPr>
        <p:spPr>
          <a:xfrm>
            <a:off x="2881440" y="4365720"/>
            <a:ext cx="289404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Менеджери по автокредитуванн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кругленный прямоугольник 31"/>
          <p:cNvSpPr/>
          <p:nvPr/>
        </p:nvSpPr>
        <p:spPr>
          <a:xfrm>
            <a:off x="611280" y="4365720"/>
            <a:ext cx="209700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Менеджери по зарплатно - картковим проек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кругленный прямоугольник 112"/>
          <p:cNvSpPr/>
          <p:nvPr/>
        </p:nvSpPr>
        <p:spPr>
          <a:xfrm>
            <a:off x="5987880" y="3363840"/>
            <a:ext cx="2279880" cy="64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Управління іпотечного бізнес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кругленный прямоугольник 1"/>
          <p:cNvSpPr/>
          <p:nvPr/>
        </p:nvSpPr>
        <p:spPr>
          <a:xfrm>
            <a:off x="2664000" y="2422440"/>
            <a:ext cx="3139920" cy="45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Замісник  директора Департа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81"/>
          <p:cNvSpPr/>
          <p:nvPr/>
        </p:nvSpPr>
        <p:spPr>
          <a:xfrm>
            <a:off x="4164120" y="2124000"/>
            <a:ext cx="0" cy="2984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81"/>
          <p:cNvSpPr/>
          <p:nvPr/>
        </p:nvSpPr>
        <p:spPr>
          <a:xfrm>
            <a:off x="4187880" y="2895480"/>
            <a:ext cx="0" cy="46836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81"/>
          <p:cNvSpPr/>
          <p:nvPr/>
        </p:nvSpPr>
        <p:spPr>
          <a:xfrm flipH="1">
            <a:off x="1677960" y="2981160"/>
            <a:ext cx="240192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181"/>
          <p:cNvSpPr/>
          <p:nvPr/>
        </p:nvSpPr>
        <p:spPr>
          <a:xfrm flipH="1">
            <a:off x="4079880" y="2981160"/>
            <a:ext cx="313848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181"/>
          <p:cNvSpPr/>
          <p:nvPr/>
        </p:nvSpPr>
        <p:spPr>
          <a:xfrm>
            <a:off x="1596960" y="3052800"/>
            <a:ext cx="0" cy="3110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ая соединительная линия 181"/>
          <p:cNvSpPr/>
          <p:nvPr/>
        </p:nvSpPr>
        <p:spPr>
          <a:xfrm>
            <a:off x="7143840" y="3076560"/>
            <a:ext cx="0" cy="28728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ая соединительная линия 181"/>
          <p:cNvSpPr/>
          <p:nvPr/>
        </p:nvSpPr>
        <p:spPr>
          <a:xfrm>
            <a:off x="1603440" y="4032360"/>
            <a:ext cx="0" cy="3110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181"/>
          <p:cNvSpPr/>
          <p:nvPr/>
        </p:nvSpPr>
        <p:spPr>
          <a:xfrm>
            <a:off x="4187880" y="4005360"/>
            <a:ext cx="0" cy="36036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22"/>
          <p:cNvSpPr/>
          <p:nvPr/>
        </p:nvSpPr>
        <p:spPr>
          <a:xfrm>
            <a:off x="5987880" y="4343400"/>
            <a:ext cx="2279880" cy="59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Менеджери по іпотечному бізнес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ая соединительная линия 181"/>
          <p:cNvSpPr/>
          <p:nvPr/>
        </p:nvSpPr>
        <p:spPr>
          <a:xfrm>
            <a:off x="7053120" y="4008600"/>
            <a:ext cx="0" cy="3348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94"/>
          <p:cNvSpPr/>
          <p:nvPr/>
        </p:nvSpPr>
        <p:spPr>
          <a:xfrm>
            <a:off x="4264200" y="2332080"/>
            <a:ext cx="4356000" cy="326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Скругленный прямоугольник 8206"/>
          <p:cNvSpPr/>
          <p:nvPr/>
        </p:nvSpPr>
        <p:spPr>
          <a:xfrm>
            <a:off x="200160" y="2332080"/>
            <a:ext cx="3693960" cy="326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390600" y="208080"/>
            <a:ext cx="8508960" cy="1504800"/>
          </a:xfrm>
          <a:prstGeom prst="rect">
            <a:avLst/>
          </a:prstGeom>
          <a:ln w="0">
            <a:noFill/>
          </a:ln>
        </p:spPr>
      </p:pic>
      <p:pic>
        <p:nvPicPr>
          <p:cNvPr id="193" name="Схема 4" descr=""/>
          <p:cNvPicPr/>
          <p:nvPr/>
        </p:nvPicPr>
        <p:blipFill>
          <a:blip r:embed="rId3"/>
          <a:stretch/>
        </p:blipFill>
        <p:spPr>
          <a:xfrm>
            <a:off x="755640" y="1079640"/>
            <a:ext cx="702324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1"/>
          <p:cNvSpPr/>
          <p:nvPr/>
        </p:nvSpPr>
        <p:spPr>
          <a:xfrm>
            <a:off x="2411280" y="1341360"/>
            <a:ext cx="3140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Директор Департа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Скругленный прямоугольник 9"/>
          <p:cNvSpPr/>
          <p:nvPr/>
        </p:nvSpPr>
        <p:spPr>
          <a:xfrm>
            <a:off x="4756320" y="2684520"/>
            <a:ext cx="342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Начальник  регіонального управлінння альтернативних каналів прод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13"/>
          <p:cNvSpPr/>
          <p:nvPr/>
        </p:nvSpPr>
        <p:spPr>
          <a:xfrm>
            <a:off x="1352520" y="3981600"/>
            <a:ext cx="2111400" cy="65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Управління бізнеса зарплатно  - карткових проекті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14"/>
          <p:cNvSpPr/>
          <p:nvPr/>
        </p:nvSpPr>
        <p:spPr>
          <a:xfrm>
            <a:off x="503280" y="4757760"/>
            <a:ext cx="2960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Управління бізнеса авто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21"/>
          <p:cNvSpPr/>
          <p:nvPr/>
        </p:nvSpPr>
        <p:spPr>
          <a:xfrm>
            <a:off x="4756320" y="3378240"/>
            <a:ext cx="17110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Відділи споживчого кредитування</a:t>
            </a: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22"/>
          <p:cNvSpPr/>
          <p:nvPr/>
        </p:nvSpPr>
        <p:spPr>
          <a:xfrm>
            <a:off x="4756320" y="4765680"/>
            <a:ext cx="28936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Менеджери по авто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Скругленный прямоугольник 31"/>
          <p:cNvSpPr/>
          <p:nvPr/>
        </p:nvSpPr>
        <p:spPr>
          <a:xfrm>
            <a:off x="4765680" y="4062240"/>
            <a:ext cx="2452680" cy="57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Менеджери по зарплатно-картковим проект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77"/>
          <p:cNvSpPr/>
          <p:nvPr/>
        </p:nvSpPr>
        <p:spPr>
          <a:xfrm>
            <a:off x="3463920" y="5008680"/>
            <a:ext cx="800280" cy="936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503280" y="1908000"/>
            <a:ext cx="1141200" cy="40644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00a4"/>
                </a:solidFill>
                <a:latin typeface="Arial"/>
              </a:rPr>
              <a:t>Головний Офі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6729480" y="1862280"/>
            <a:ext cx="2090520" cy="40608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0000a4"/>
                </a:solidFill>
                <a:latin typeface="Arial"/>
              </a:rPr>
              <a:t>Регіональне управлі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кругленный прямоугольник 112"/>
          <p:cNvSpPr/>
          <p:nvPr/>
        </p:nvSpPr>
        <p:spPr>
          <a:xfrm>
            <a:off x="1801800" y="3328920"/>
            <a:ext cx="16621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Управління іпотечного бі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113"/>
          <p:cNvSpPr/>
          <p:nvPr/>
        </p:nvSpPr>
        <p:spPr>
          <a:xfrm>
            <a:off x="3463920" y="3511440"/>
            <a:ext cx="77472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169"/>
          <p:cNvSpPr/>
          <p:nvPr/>
        </p:nvSpPr>
        <p:spPr>
          <a:xfrm>
            <a:off x="3463920" y="4237200"/>
            <a:ext cx="80028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81"/>
          <p:cNvSpPr/>
          <p:nvPr/>
        </p:nvSpPr>
        <p:spPr>
          <a:xfrm>
            <a:off x="5668920" y="3189240"/>
            <a:ext cx="0" cy="1890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1"/>
          <p:cNvSpPr/>
          <p:nvPr/>
        </p:nvSpPr>
        <p:spPr>
          <a:xfrm>
            <a:off x="507960" y="2652840"/>
            <a:ext cx="3140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a4"/>
                </a:solidFill>
                <a:latin typeface="Arial"/>
              </a:rPr>
              <a:t>Замісник директора ДАК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181"/>
          <p:cNvSpPr/>
          <p:nvPr/>
        </p:nvSpPr>
        <p:spPr>
          <a:xfrm>
            <a:off x="3648240" y="2809800"/>
            <a:ext cx="61596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181"/>
          <p:cNvSpPr/>
          <p:nvPr/>
        </p:nvSpPr>
        <p:spPr>
          <a:xfrm>
            <a:off x="2676600" y="3110040"/>
            <a:ext cx="0" cy="1886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181"/>
          <p:cNvSpPr/>
          <p:nvPr/>
        </p:nvSpPr>
        <p:spPr>
          <a:xfrm>
            <a:off x="1542960" y="3116160"/>
            <a:ext cx="0" cy="86544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81"/>
          <p:cNvSpPr/>
          <p:nvPr/>
        </p:nvSpPr>
        <p:spPr>
          <a:xfrm flipH="1">
            <a:off x="929880" y="3116160"/>
            <a:ext cx="1800" cy="16416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ая соединительная линия 181"/>
          <p:cNvSpPr/>
          <p:nvPr/>
        </p:nvSpPr>
        <p:spPr>
          <a:xfrm>
            <a:off x="6662880" y="3201840"/>
            <a:ext cx="0" cy="86040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ая соединительная линия 181"/>
          <p:cNvSpPr/>
          <p:nvPr/>
        </p:nvSpPr>
        <p:spPr>
          <a:xfrm>
            <a:off x="7334280" y="3201840"/>
            <a:ext cx="0" cy="155592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ая соединительная линия 181"/>
          <p:cNvSpPr/>
          <p:nvPr/>
        </p:nvSpPr>
        <p:spPr>
          <a:xfrm>
            <a:off x="3981600" y="1798560"/>
            <a:ext cx="0" cy="31428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181"/>
          <p:cNvSpPr/>
          <p:nvPr/>
        </p:nvSpPr>
        <p:spPr>
          <a:xfrm>
            <a:off x="1986120" y="2036880"/>
            <a:ext cx="4555800" cy="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181"/>
          <p:cNvSpPr/>
          <p:nvPr/>
        </p:nvSpPr>
        <p:spPr>
          <a:xfrm>
            <a:off x="1932120" y="2111400"/>
            <a:ext cx="0" cy="22068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181"/>
          <p:cNvSpPr/>
          <p:nvPr/>
        </p:nvSpPr>
        <p:spPr>
          <a:xfrm>
            <a:off x="6541920" y="2133720"/>
            <a:ext cx="1800" cy="222120"/>
          </a:xfrm>
          <a:prstGeom prst="line">
            <a:avLst/>
          </a:prstGeom>
          <a:ln w="9360">
            <a:solidFill>
              <a:srgbClr val="a5c6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"/>
          <p:cNvSpPr/>
          <p:nvPr/>
        </p:nvSpPr>
        <p:spPr>
          <a:xfrm>
            <a:off x="755640" y="228600"/>
            <a:ext cx="8056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Шляхи зменьшення ризику ліквідності АТ «Дельта бан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250920" y="1811160"/>
            <a:ext cx="85406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Дотримуватись нормативів капіталу та нормативів ліквідності бан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більшити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частку власного капітал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 2401310 тис. грн.,  що призведе до зб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ільшенн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казника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адекватності основного капітал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о 13,10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показник 2012 р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равління та вище керівництво повинно нести найбільшу відповідальність за процес управління ризиком ліквідності бан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Під час оцінки ризику ліквідності необхідно проводити незалежну оцінку стратегій,процедур та принципів, що стосується управління ліквідніст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Спеціалістам, що відповідають за ліквідність банку, кредитну політику, різноманітні ризики,також потрібно вивчати кредитоспроможність позичальників та надавати свої рекомендації щодо обмеження ризиків в кредитній політиц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-Постійно потрібно розробляти та вдосконалювати стратегії банківського маркетингу, розкривати цілі та завдання кожному співробітнику та стратегію забезпечення ліквідністю для оперативного реагування на будь-які  несприятливі факто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ворити  та розвивати  новий напрямок в сфері надання фінансових послуг -«видео-банкінг», задля збільшення прибутків та задоволення потреб та вимог сучасних користувачів банківських послуг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Мета дослідження,об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єкт, предмет дослідження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ета: Аналіз теоретичних та практичних  аспектів управління ризиком ліквідності бан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кт дослідження: Платоспроможність та ліквідність бан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едмет дослідження: методи управління ризиком ліквідності бан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методи оцінки ліквідності банку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Ліквідність банку – це його здатність своєчасно виконувати свої зоб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Organization Chart 6"/>
          <p:cNvGrpSpPr/>
          <p:nvPr/>
        </p:nvGrpSpPr>
        <p:grpSpPr>
          <a:xfrm>
            <a:off x="755640" y="3357720"/>
            <a:ext cx="7450920" cy="3204000"/>
            <a:chOff x="755640" y="3357720"/>
            <a:chExt cx="7450920" cy="320400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464800" y="3655440"/>
              <a:ext cx="641520" cy="2608200"/>
            </a:xfrm>
            <a:prstGeom prst="bentConnector3">
              <a:avLst>
                <a:gd name="adj1" fmla="val 1785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V="1">
              <a:off x="4481280" y="4638960"/>
              <a:ext cx="2880" cy="641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" name="_s1030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856240" y="3655440"/>
              <a:ext cx="641520" cy="2608200"/>
            </a:xfrm>
            <a:prstGeom prst="bentConnector3">
              <a:avLst>
                <a:gd name="adj1" fmla="val 1785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" name="_s1031"/>
            <p:cNvSpPr/>
            <p:nvPr/>
          </p:nvSpPr>
          <p:spPr>
            <a:xfrm>
              <a:off x="3363480" y="33577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Найпоширеніші методи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оцінки ліквідності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_s1032"/>
            <p:cNvSpPr/>
            <p:nvPr/>
          </p:nvSpPr>
          <p:spPr>
            <a:xfrm>
              <a:off x="755640" y="52801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порівняння поточного стану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ліквідності з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нормативними значеннями,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аналіз динаміки за попередні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300" spc="-1" strike="noStrike">
                  <a:solidFill>
                    <a:srgbClr val="ffffff"/>
                  </a:solidFill>
                  <a:latin typeface="Arial"/>
                </a:rPr>
                <a:t>роки</a:t>
              </a: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3363480" y="52801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Порівняння фінінсових активів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та зобов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’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зань за строками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ї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настання,оцінка можливосте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банку бути ліквіідним в час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вому інтервал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_s1034"/>
            <p:cNvSpPr/>
            <p:nvPr/>
          </p:nvSpPr>
          <p:spPr>
            <a:xfrm>
              <a:off x="5971320" y="5280120"/>
              <a:ext cx="2235240" cy="1281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Оцінка ліквідності банку з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врахуванням настання кризов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явищу діяльності банку  в різ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мереж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WordArt 17"/>
          <p:cNvSpPr txBox="1"/>
          <p:nvPr/>
        </p:nvSpPr>
        <p:spPr>
          <a:xfrm>
            <a:off x="371520" y="4853160"/>
            <a:ext cx="27716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єфіцієнтний аналіз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8"/>
          <p:cNvSpPr txBox="1"/>
          <p:nvPr/>
        </p:nvSpPr>
        <p:spPr>
          <a:xfrm>
            <a:off x="6588000" y="4919760"/>
            <a:ext cx="12020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ес-тест</a:t>
            </a:r>
            <a:endParaRPr b="0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3922560" y="4869000"/>
            <a:ext cx="151308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P-аналіз</a:t>
            </a:r>
            <a:endParaRPr b="0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Порівняльний аналіз активу банку за </a:t>
            </a:r>
            <a:br>
              <a:rPr sz="2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2012-2014рік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Диаграмма 4" descr=""/>
          <p:cNvPicPr/>
          <p:nvPr/>
        </p:nvPicPr>
        <p:blipFill>
          <a:blip r:embed="rId2"/>
          <a:stretch/>
        </p:blipFill>
        <p:spPr>
          <a:xfrm>
            <a:off x="0" y="1125360"/>
            <a:ext cx="4176720" cy="36007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3" descr=""/>
          <p:cNvPicPr/>
          <p:nvPr/>
        </p:nvPicPr>
        <p:blipFill>
          <a:blip r:embed="rId3"/>
          <a:stretch/>
        </p:blipFill>
        <p:spPr>
          <a:xfrm>
            <a:off x="5254560" y="1125360"/>
            <a:ext cx="3889440" cy="374508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3" descr=""/>
          <p:cNvPicPr/>
          <p:nvPr/>
        </p:nvPicPr>
        <p:blipFill>
          <a:blip r:embed="rId4"/>
          <a:stretch/>
        </p:blipFill>
        <p:spPr>
          <a:xfrm>
            <a:off x="2916360" y="4076640"/>
            <a:ext cx="4103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Порівняльний аналіз  пасивів</a:t>
            </a:r>
            <a:br>
              <a:rPr sz="2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 банку за 2012-2014р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Диаграмма 3" descr=""/>
          <p:cNvPicPr/>
          <p:nvPr/>
        </p:nvPicPr>
        <p:blipFill>
          <a:blip r:embed="rId2"/>
          <a:stretch/>
        </p:blipFill>
        <p:spPr>
          <a:xfrm>
            <a:off x="-108000" y="1413000"/>
            <a:ext cx="3780000" cy="316836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3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887640" cy="360036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3" descr=""/>
          <p:cNvPicPr/>
          <p:nvPr/>
        </p:nvPicPr>
        <p:blipFill>
          <a:blip r:embed="rId4"/>
          <a:stretch/>
        </p:blipFill>
        <p:spPr>
          <a:xfrm>
            <a:off x="2484360" y="3716280"/>
            <a:ext cx="3960720" cy="33130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3780000" y="3500280"/>
            <a:ext cx="1452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b7e7ff"/>
                </a:solidFill>
                <a:latin typeface="Arial"/>
              </a:rPr>
              <a:t>2014 рік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40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Аналіз миттєвої ліквідності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Rectangle 141"/>
          <p:cNvSpPr/>
          <p:nvPr/>
        </p:nvSpPr>
        <p:spPr>
          <a:xfrm>
            <a:off x="0" y="44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4724280"/>
          <a:ext cx="312408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724280"/>
                    <a:ext cx="3124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8360" y="5084640"/>
          <a:ext cx="300024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5084640"/>
                    <a:ext cx="3000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8360" y="5516640"/>
          <a:ext cx="30002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5516640"/>
                    <a:ext cx="3000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59280" y="6093000"/>
          <a:ext cx="123480" cy="15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6093000"/>
                    <a:ext cx="1234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1232280"/>
            <a:ext cx="89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2.5 – Фінансові показники АТ «Дельта банк» для розрахунку нормативу миттєвої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ліквідност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Н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773360"/>
          <a:ext cx="6264000" cy="2884320"/>
        </p:xfrm>
        <a:graphic>
          <a:graphicData uri="http://schemas.openxmlformats.org/drawingml/2006/table">
            <a:tbl>
              <a:tblPr/>
              <a:tblGrid>
                <a:gridCol w="2933640"/>
                <a:gridCol w="1168200"/>
                <a:gridCol w="1082880"/>
                <a:gridCol w="182520"/>
                <a:gridCol w="896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показник (в тис. гр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12.12.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івка в кас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11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43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27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юр.осіб на вимо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28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7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63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фіз.осіб на вимо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3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86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36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 нормативу Н4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змін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98160" y="40809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600" y="540324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6080" y="5804280"/>
            <a:ext cx="27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ормативному значенні Н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9600" y="6020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20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Аналіз поточної ліквідності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Rectangle 322"/>
          <p:cNvSpPr/>
          <p:nvPr/>
        </p:nvSpPr>
        <p:spPr>
          <a:xfrm>
            <a:off x="0" y="53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23"/>
          <p:cNvSpPr/>
          <p:nvPr/>
        </p:nvSpPr>
        <p:spPr>
          <a:xfrm>
            <a:off x="0" y="588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435640" y="2532240"/>
          <a:ext cx="3600360" cy="36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532240"/>
                    <a:ext cx="36003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435640" y="2997360"/>
          <a:ext cx="3708360" cy="36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2997360"/>
                    <a:ext cx="37083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435640" y="3429000"/>
          <a:ext cx="3708360" cy="37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3429000"/>
                    <a:ext cx="37083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8317080" y="4005360"/>
          <a:ext cx="123480" cy="15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17080" y="4005360"/>
                    <a:ext cx="1234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400" y="1267200"/>
            <a:ext cx="88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2.6 – Фінансові показники АТ «Дельта банк» для розрахунку нормативу поточної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ліквідност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Н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514520"/>
          <a:ext cx="5111640" cy="5343480"/>
        </p:xfrm>
        <a:graphic>
          <a:graphicData uri="http://schemas.openxmlformats.org/drawingml/2006/table">
            <a:tbl>
              <a:tblPr/>
              <a:tblGrid>
                <a:gridCol w="2406600"/>
                <a:gridCol w="942840"/>
                <a:gridCol w="382680"/>
                <a:gridCol w="549360"/>
                <a:gridCol w="830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показник (в тис. гр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 та їх еквівален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11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43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27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в банках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23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8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56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и надані клієнт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14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096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847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вестиційна нерухом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57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70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19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 папери в портфелі банку на прода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41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04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79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банкі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681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686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928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клієнті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983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264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278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залучені кош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1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ординований бо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47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76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гові цінні папери,емітовані банко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4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52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32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 нормативу Н5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змін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0" y="586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72080" y="393264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ормативному значенні Н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793400">
            <a:off x="8387640" y="39391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b7e7ff"/>
                </a:solidFill>
                <a:latin typeface="Arial"/>
              </a:rPr>
              <a:t>Управління ризиком ліквідності  банку</a:t>
            </a:r>
            <a:br>
              <a:rPr sz="1800"/>
            </a:br>
            <a:r>
              <a:rPr b="0" lang="uk-UA" sz="2800" spc="-1" strike="noStrike">
                <a:solidFill>
                  <a:srgbClr val="b7e7ff"/>
                </a:solidFill>
                <a:latin typeface="Arial"/>
              </a:rPr>
              <a:t>Аналіз короткострокової ліквідності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Rectangle 149"/>
          <p:cNvSpPr/>
          <p:nvPr/>
        </p:nvSpPr>
        <p:spPr>
          <a:xfrm>
            <a:off x="0" y="47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50"/>
          <p:cNvSpPr/>
          <p:nvPr/>
        </p:nvSpPr>
        <p:spPr>
          <a:xfrm>
            <a:off x="0" y="530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5157720"/>
          <a:ext cx="361008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157720"/>
                    <a:ext cx="3610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5734080"/>
          <a:ext cx="353376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734080"/>
                    <a:ext cx="3533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6165720"/>
          <a:ext cx="36194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165720"/>
                    <a:ext cx="36194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164360" y="6165720"/>
          <a:ext cx="123840" cy="152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4360" y="6165720"/>
                    <a:ext cx="12384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-195120" y="1195920"/>
            <a:ext cx="95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2.7 – Фінансові показники АТ «Дельта банк» для розрахунку норматив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откострокової ліквідност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Н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8000" y="1557360"/>
          <a:ext cx="5057640" cy="3585960"/>
        </p:xfrm>
        <a:graphic>
          <a:graphicData uri="http://schemas.openxmlformats.org/drawingml/2006/table">
            <a:tbl>
              <a:tblPr/>
              <a:tblGrid>
                <a:gridCol w="2267280"/>
                <a:gridCol w="886680"/>
                <a:gridCol w="904320"/>
                <a:gridCol w="784080"/>
                <a:gridCol w="2160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показник (в тис. грн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31.12.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1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43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827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ив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до запитання фіз. осі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30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86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36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до запитання  юр.осі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28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7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63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 папер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41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04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79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 нормативу Н6,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іка зміни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6,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840" y="5443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60919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ормативному значенн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0320" y="6091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772400" cy="61596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1"/>
          <p:cNvSpPr/>
          <p:nvPr/>
        </p:nvSpPr>
        <p:spPr>
          <a:xfrm>
            <a:off x="2700360" y="692280"/>
            <a:ext cx="4103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Загальні збори акціонер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кругленный прямоугольник 1"/>
          <p:cNvSpPr/>
          <p:nvPr/>
        </p:nvSpPr>
        <p:spPr>
          <a:xfrm>
            <a:off x="611280" y="1413000"/>
            <a:ext cx="1657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візійна комісі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Соединительная линия уступом 8"/>
          <p:cNvCxnSpPr/>
          <p:nvPr/>
        </p:nvCxnSpPr>
        <p:spPr>
          <a:xfrm flipV="1" rot="10800000">
            <a:off x="2267640" y="944280"/>
            <a:ext cx="432720" cy="721440"/>
          </a:xfrm>
          <a:prstGeom prst="bentConnector3">
            <a:avLst>
              <a:gd name="adj1" fmla="val 49958"/>
            </a:avLst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23" name="Скругленный прямоугольник 1"/>
          <p:cNvSpPr/>
          <p:nvPr/>
        </p:nvSpPr>
        <p:spPr>
          <a:xfrm>
            <a:off x="3132000" y="1484280"/>
            <a:ext cx="2232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постережна ра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1"/>
          <p:cNvSpPr/>
          <p:nvPr/>
        </p:nvSpPr>
        <p:spPr>
          <a:xfrm>
            <a:off x="6012000" y="1484280"/>
            <a:ext cx="1944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нутрішній ауди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Прямая со стрелкой 17"/>
          <p:cNvCxnSpPr/>
          <p:nvPr/>
        </p:nvCxnSpPr>
        <p:spPr>
          <a:xfrm>
            <a:off x="5364000" y="1736280"/>
            <a:ext cx="648360" cy="108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26" name="Скругленный прямоугольник 1"/>
          <p:cNvSpPr/>
          <p:nvPr/>
        </p:nvSpPr>
        <p:spPr>
          <a:xfrm>
            <a:off x="3276720" y="2421000"/>
            <a:ext cx="19429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ада директор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Прямая со стрелкой 29"/>
          <p:cNvCxnSpPr/>
          <p:nvPr/>
        </p:nvCxnSpPr>
        <p:spPr>
          <a:xfrm>
            <a:off x="4247640" y="1989000"/>
            <a:ext cx="1080" cy="43272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cxnSp>
        <p:nvCxnSpPr>
          <p:cNvPr id="128" name="Прямая со стрелкой 40"/>
          <p:cNvCxnSpPr/>
          <p:nvPr/>
        </p:nvCxnSpPr>
        <p:spPr>
          <a:xfrm>
            <a:off x="4140000" y="1197000"/>
            <a:ext cx="1080" cy="28800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29" name="Скругленный прямоугольник 1"/>
          <p:cNvSpPr/>
          <p:nvPr/>
        </p:nvSpPr>
        <p:spPr>
          <a:xfrm>
            <a:off x="611280" y="2421000"/>
            <a:ext cx="1890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Управління ризик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Прямая со стрелкой 47"/>
          <p:cNvCxnSpPr/>
          <p:nvPr/>
        </p:nvCxnSpPr>
        <p:spPr>
          <a:xfrm flipH="1">
            <a:off x="2501640" y="2708280"/>
            <a:ext cx="775440" cy="21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1" name="Скругленный прямоугольник 1"/>
          <p:cNvSpPr/>
          <p:nvPr/>
        </p:nvSpPr>
        <p:spPr>
          <a:xfrm>
            <a:off x="1187280" y="3284640"/>
            <a:ext cx="2305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Кредит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Прямая со стрелкой 52"/>
          <p:cNvCxnSpPr/>
          <p:nvPr/>
        </p:nvCxnSpPr>
        <p:spPr>
          <a:xfrm>
            <a:off x="1979280" y="2997360"/>
            <a:ext cx="1080" cy="28800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3" name="Скругленный прямоугольник 1"/>
          <p:cNvSpPr/>
          <p:nvPr/>
        </p:nvSpPr>
        <p:spPr>
          <a:xfrm>
            <a:off x="971640" y="3716280"/>
            <a:ext cx="26636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Комітет з питань управління активами та паси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Прямая со стрелкой 57"/>
          <p:cNvCxnSpPr/>
          <p:nvPr/>
        </p:nvCxnSpPr>
        <p:spPr>
          <a:xfrm>
            <a:off x="1115640" y="2997000"/>
            <a:ext cx="1080" cy="71964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5" name="Скругленный прямоугольник 1"/>
          <p:cNvSpPr/>
          <p:nvPr/>
        </p:nvSpPr>
        <p:spPr>
          <a:xfrm>
            <a:off x="611280" y="4221000"/>
            <a:ext cx="22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Тариф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Прямая со стрелкой 63"/>
          <p:cNvCxnSpPr/>
          <p:nvPr/>
        </p:nvCxnSpPr>
        <p:spPr>
          <a:xfrm>
            <a:off x="755280" y="2997000"/>
            <a:ext cx="1080" cy="12243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7" name="Скругленный прямоугольник 1"/>
          <p:cNvSpPr/>
          <p:nvPr/>
        </p:nvSpPr>
        <p:spPr>
          <a:xfrm>
            <a:off x="4716360" y="3213000"/>
            <a:ext cx="208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Голова ради директор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Прямая со стрелкой 66"/>
          <p:cNvCxnSpPr/>
          <p:nvPr/>
        </p:nvCxnSpPr>
        <p:spPr>
          <a:xfrm>
            <a:off x="5076360" y="2997000"/>
            <a:ext cx="1080" cy="2163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39" name="Скругленный прямоугольник 1"/>
          <p:cNvSpPr/>
          <p:nvPr/>
        </p:nvSpPr>
        <p:spPr>
          <a:xfrm>
            <a:off x="4500720" y="3716280"/>
            <a:ext cx="23032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Перший заступ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Прямая со стрелкой 70"/>
          <p:cNvCxnSpPr/>
          <p:nvPr/>
        </p:nvCxnSpPr>
        <p:spPr>
          <a:xfrm>
            <a:off x="4571640" y="2997000"/>
            <a:ext cx="1080" cy="71964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"/>
          <p:cNvSpPr/>
          <p:nvPr/>
        </p:nvSpPr>
        <p:spPr>
          <a:xfrm>
            <a:off x="3851280" y="4437000"/>
            <a:ext cx="22334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Заступ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1"/>
          <p:cNvSpPr/>
          <p:nvPr/>
        </p:nvSpPr>
        <p:spPr>
          <a:xfrm>
            <a:off x="6948360" y="4076640"/>
            <a:ext cx="19447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Члени рад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Прямая со стрелкой 88"/>
          <p:cNvCxnSpPr/>
          <p:nvPr/>
        </p:nvCxnSpPr>
        <p:spPr>
          <a:xfrm>
            <a:off x="4140000" y="2997000"/>
            <a:ext cx="1080" cy="1440360"/>
          </a:xfrm>
          <a:prstGeom prst="straightConnector1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cxnSp>
        <p:nvCxnSpPr>
          <p:cNvPr id="144" name="Shape 91"/>
          <p:cNvCxnSpPr/>
          <p:nvPr/>
        </p:nvCxnSpPr>
        <p:spPr>
          <a:xfrm flipH="1" rot="16200000">
            <a:off x="5022000" y="2330280"/>
            <a:ext cx="1296000" cy="2629800"/>
          </a:xfrm>
          <a:prstGeom prst="bentConnector2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  <p:sp>
        <p:nvSpPr>
          <p:cNvPr id="145" name="Скругленный прямоугольник 1"/>
          <p:cNvSpPr/>
          <p:nvPr/>
        </p:nvSpPr>
        <p:spPr>
          <a:xfrm>
            <a:off x="2124000" y="4941720"/>
            <a:ext cx="374328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400" spc="-1" strike="noStrike">
                <a:solidFill>
                  <a:srgbClr val="4d4d4d"/>
                </a:solidFill>
                <a:latin typeface="Arial"/>
              </a:rPr>
              <a:t>Департамен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539640" y="5300640"/>
            <a:ext cx="2664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бухгалтерського обліку, звітності та касових операці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Соединительная линия уступом 100"/>
          <p:cNvCxnSpPr/>
          <p:nvPr/>
        </p:nvCxnSpPr>
        <p:spPr>
          <a:xfrm flipV="1" rot="10800000">
            <a:off x="538920" y="5083560"/>
            <a:ext cx="1585080" cy="397800"/>
          </a:xfrm>
          <a:prstGeom prst="bentConnector3">
            <a:avLst>
              <a:gd name="adj1" fmla="val 114425"/>
            </a:avLst>
          </a:prstGeom>
          <a:ln w="9360">
            <a:solidFill>
              <a:srgbClr val="4b4b4b"/>
            </a:solidFill>
            <a:miter/>
          </a:ln>
        </p:spPr>
      </p:cxnSp>
      <p:sp>
        <p:nvSpPr>
          <p:cNvPr id="148" name="Скругленный прямоугольник 1"/>
          <p:cNvSpPr/>
          <p:nvPr/>
        </p:nvSpPr>
        <p:spPr>
          <a:xfrm>
            <a:off x="539640" y="5732640"/>
            <a:ext cx="266400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інвестиційного бізнес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Shape 106"/>
          <p:cNvCxnSpPr/>
          <p:nvPr/>
        </p:nvCxnSpPr>
        <p:spPr>
          <a:xfrm flipH="1" rot="16200000">
            <a:off x="232200" y="5535360"/>
            <a:ext cx="397800" cy="21636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0" name="Скругленный прямоугольник 1"/>
          <p:cNvSpPr/>
          <p:nvPr/>
        </p:nvSpPr>
        <p:spPr>
          <a:xfrm>
            <a:off x="539640" y="6021360"/>
            <a:ext cx="26640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клієнтської підтрим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Shape 111"/>
          <p:cNvCxnSpPr/>
          <p:nvPr/>
        </p:nvCxnSpPr>
        <p:spPr>
          <a:xfrm flipH="1" rot="16200000">
            <a:off x="268920" y="5859360"/>
            <a:ext cx="324720" cy="21636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2" name="Скругленный прямоугольник 1"/>
          <p:cNvSpPr/>
          <p:nvPr/>
        </p:nvSpPr>
        <p:spPr>
          <a:xfrm>
            <a:off x="539640" y="6308640"/>
            <a:ext cx="2664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продажу та розвитку регіональної мережі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Shape 119"/>
          <p:cNvCxnSpPr/>
          <p:nvPr/>
        </p:nvCxnSpPr>
        <p:spPr>
          <a:xfrm flipH="1" rot="16200000">
            <a:off x="232560" y="6183360"/>
            <a:ext cx="397440" cy="21636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4" name="Скругленный прямоугольник 1"/>
          <p:cNvSpPr/>
          <p:nvPr/>
        </p:nvSpPr>
        <p:spPr>
          <a:xfrm>
            <a:off x="3635280" y="5300640"/>
            <a:ext cx="230508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платіжни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Shape 123"/>
          <p:cNvCxnSpPr/>
          <p:nvPr/>
        </p:nvCxnSpPr>
        <p:spPr>
          <a:xfrm flipH="1" rot="16200000">
            <a:off x="3454920" y="5265360"/>
            <a:ext cx="21636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6" name="Скругленный прямоугольник 1"/>
          <p:cNvSpPr/>
          <p:nvPr/>
        </p:nvSpPr>
        <p:spPr>
          <a:xfrm>
            <a:off x="3635280" y="5661000"/>
            <a:ext cx="259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ризиків фізичних осі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Shape 128"/>
          <p:cNvCxnSpPr/>
          <p:nvPr/>
        </p:nvCxnSpPr>
        <p:spPr>
          <a:xfrm flipH="1" rot="16200000">
            <a:off x="3382560" y="5553360"/>
            <a:ext cx="36108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58" name="Скругленный прямоугольник 1"/>
          <p:cNvSpPr/>
          <p:nvPr/>
        </p:nvSpPr>
        <p:spPr>
          <a:xfrm>
            <a:off x="3635280" y="6021360"/>
            <a:ext cx="2592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розвитку бізнес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Shape 131"/>
          <p:cNvCxnSpPr/>
          <p:nvPr/>
        </p:nvCxnSpPr>
        <p:spPr>
          <a:xfrm flipH="1" rot="16200000">
            <a:off x="3382560" y="5913720"/>
            <a:ext cx="36108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60" name="Скругленный прямоугольник 1"/>
          <p:cNvSpPr/>
          <p:nvPr/>
        </p:nvSpPr>
        <p:spPr>
          <a:xfrm>
            <a:off x="3635280" y="6381720"/>
            <a:ext cx="259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розвитку мережі споживчого кредитуванн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Shape 134"/>
          <p:cNvCxnSpPr/>
          <p:nvPr/>
        </p:nvCxnSpPr>
        <p:spPr>
          <a:xfrm flipH="1" rot="16200000">
            <a:off x="3365280" y="6291720"/>
            <a:ext cx="39600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62" name="Скругленный прямоугольник 1"/>
          <p:cNvSpPr/>
          <p:nvPr/>
        </p:nvSpPr>
        <p:spPr>
          <a:xfrm>
            <a:off x="6443640" y="5084640"/>
            <a:ext cx="2521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маркетингу та рекл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Соединительная линия уступом 141"/>
          <p:cNvCxnSpPr/>
          <p:nvPr/>
        </p:nvCxnSpPr>
        <p:spPr>
          <a:xfrm>
            <a:off x="5940360" y="5013360"/>
            <a:ext cx="504000" cy="72000"/>
          </a:xfrm>
          <a:prstGeom prst="bentConnector3">
            <a:avLst>
              <a:gd name="adj1" fmla="val 49821"/>
            </a:avLst>
          </a:prstGeom>
          <a:ln w="9360">
            <a:solidFill>
              <a:srgbClr val="4b4b4b"/>
            </a:solidFill>
            <a:miter/>
          </a:ln>
        </p:spPr>
      </p:cxnSp>
      <p:sp>
        <p:nvSpPr>
          <p:cNvPr id="164" name="Скругленный прямоугольник 1"/>
          <p:cNvSpPr/>
          <p:nvPr/>
        </p:nvSpPr>
        <p:spPr>
          <a:xfrm>
            <a:off x="6443640" y="5516640"/>
            <a:ext cx="2521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альтернативних каналів продаж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Скругленный прямоугольник 1"/>
          <p:cNvSpPr/>
          <p:nvPr/>
        </p:nvSpPr>
        <p:spPr>
          <a:xfrm>
            <a:off x="6443640" y="5950080"/>
            <a:ext cx="2521080" cy="431640"/>
          </a:xfrm>
          <a:prstGeom prst="roundRect">
            <a:avLst>
              <a:gd name="adj" fmla="val 21074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Департамент контролю валютних операцій та кредитних ризикі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Shape 153"/>
          <p:cNvCxnSpPr/>
          <p:nvPr/>
        </p:nvCxnSpPr>
        <p:spPr>
          <a:xfrm flipH="1" rot="16200000">
            <a:off x="6172920" y="5427360"/>
            <a:ext cx="39744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cxnSp>
        <p:nvCxnSpPr>
          <p:cNvPr id="167" name="Shape 155"/>
          <p:cNvCxnSpPr/>
          <p:nvPr/>
        </p:nvCxnSpPr>
        <p:spPr>
          <a:xfrm flipH="1" rot="16200000">
            <a:off x="6136920" y="5823360"/>
            <a:ext cx="46908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sp>
        <p:nvSpPr>
          <p:cNvPr id="168" name="Скругленный прямоугольник 1"/>
          <p:cNvSpPr/>
          <p:nvPr/>
        </p:nvSpPr>
        <p:spPr>
          <a:xfrm>
            <a:off x="6443640" y="6489720"/>
            <a:ext cx="252108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e8ff"/>
              </a:gs>
              <a:gs pos="100000">
                <a:srgbClr val="edf8ff"/>
              </a:gs>
            </a:gsLst>
            <a:lin ang="16200000"/>
          </a:gradFill>
          <a:ln w="9360">
            <a:solidFill>
              <a:srgbClr val="a5c6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uk-UA" sz="1200" spc="-1" strike="noStrike">
                <a:solidFill>
                  <a:srgbClr val="4d4d4d"/>
                </a:solidFill>
                <a:latin typeface="Arial"/>
              </a:rPr>
              <a:t>та ін. 37 департаментів на управлі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Shape 159"/>
          <p:cNvCxnSpPr/>
          <p:nvPr/>
        </p:nvCxnSpPr>
        <p:spPr>
          <a:xfrm flipH="1" rot="16200000">
            <a:off x="6191640" y="6273360"/>
            <a:ext cx="359640" cy="143640"/>
          </a:xfrm>
          <a:prstGeom prst="bentConnector2">
            <a:avLst/>
          </a:prstGeom>
          <a:ln w="9360">
            <a:solidFill>
              <a:srgbClr val="4b4b4b"/>
            </a:solidFill>
            <a:miter/>
          </a:ln>
        </p:spPr>
      </p:cxnSp>
      <p:cxnSp>
        <p:nvCxnSpPr>
          <p:cNvPr id="170" name="Shape 161"/>
          <p:cNvCxnSpPr/>
          <p:nvPr/>
        </p:nvCxnSpPr>
        <p:spPr>
          <a:xfrm flipV="1" rot="10800000">
            <a:off x="3563280" y="4652640"/>
            <a:ext cx="288000" cy="289440"/>
          </a:xfrm>
          <a:prstGeom prst="bentConnector2">
            <a:avLst/>
          </a:prstGeom>
          <a:ln w="9360">
            <a:solidFill>
              <a:srgbClr val="4b4b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5:46:46Z</dcterms:created>
  <dc:creator>User</dc:creator>
  <dc:description/>
  <dc:language>en-US</dc:language>
  <cp:lastModifiedBy>User</cp:lastModifiedBy>
  <dcterms:modified xsi:type="dcterms:W3CDTF">2015-03-24T05:25:42Z</dcterms:modified>
  <cp:revision>32</cp:revision>
  <dc:subject/>
  <dc:title>Управління ризиком ліквідності АТ «Дельта банк»</dc:title>
</cp:coreProperties>
</file>