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0A1-7CAE-4EDF-87F9-40AAA89D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D9C-C3BA-437A-A4B8-1AEC5701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6C4-F60F-4683-A4D6-1E00D599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E08-7637-4CA0-9215-D1C30BFE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50FF0-F049-48A0-8E17-37B711CD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009F-73DE-4FFC-BC7E-E2A7B547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6C69-5264-4C99-B5E5-104EEF8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7B577-174A-4343-B097-BA46A50B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A3C6D-A1F3-4382-825D-91D2454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13BB3-FBB5-43A3-B18E-F8C91DE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35D3-63B0-48FD-9C6C-4D01B4B0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958-76A5-453F-978B-5F387778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DF4E6-82E3-43B3-BF62-55A9A86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1BED8-1C37-46CC-9C35-FAF296F3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89103-14A4-4CD7-8672-757452B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5D1B-239D-455C-A2AC-507DDD30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993CC-D80F-4944-86F4-FC721165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19D-45D9-4A60-81EF-C5EBD058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CA3-4CDB-4924-8FA4-73D38622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939-79B2-4E98-8BF8-5FE09596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83C-6AB9-4BD7-8ADF-BBCC269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8D0-64D1-41AA-9FC5-EBB18B3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047-7186-4766-A832-7EC504DD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5D0-7959-4ACF-B42A-EF3EFBCE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D1D7-8535-4416-AA18-DD5F7119D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81A-B5B8-4729-AF82-8898AF4098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РОЗРОБКА БАЗИ ДАНИХ ДЛЯ СКЛАДУ-МАГАЗИНУ МЕТАЛЕВО-ПЛАСТИКОВИХ ВИРОБІ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ВИГЛЯД ФОРМИ ДЛЯ АВТОРИЗАЦІЇ КОРИСТУВАЧ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631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ГЛЯД КОРИСТУВАЦЬКОГО МЕН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2951280" y="1700280"/>
            <a:ext cx="3133440" cy="1485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"/>
          <p:cNvPicPr/>
          <p:nvPr/>
        </p:nvPicPr>
        <p:blipFill>
          <a:blip r:embed="rId2"/>
          <a:srcRect l="0" t="0" r="0" b="31371"/>
          <a:stretch/>
        </p:blipFill>
        <p:spPr>
          <a:xfrm>
            <a:off x="1438200" y="4437000"/>
            <a:ext cx="6518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ВИГЛЯД СТВОРЕНОГО ЗВІТУ-ДОКУМЕНТ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93600" y="1905120"/>
            <a:ext cx="715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ЯКУЮ ЗА УВА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РИРІВНЕВА АРХІТЕКТУРА СУБД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Рисунок 19" descr=""/>
          <p:cNvPicPr/>
          <p:nvPr/>
        </p:nvPicPr>
        <p:blipFill>
          <a:blip r:embed="rId1"/>
          <a:srcRect l="36492" t="33691" r="37552" b="19355"/>
          <a:stretch/>
        </p:blipFill>
        <p:spPr>
          <a:xfrm>
            <a:off x="1979640" y="1557360"/>
            <a:ext cx="5792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3480" y="284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ЛАСИФІКАЦІЯ МОДЕЛЕЙ ДАН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Рисунок 18" descr=""/>
          <p:cNvPicPr/>
          <p:nvPr/>
        </p:nvPicPr>
        <p:blipFill>
          <a:blip r:embed="rId1"/>
          <a:srcRect l="33872" t="27239" r="33468" b="24375"/>
          <a:stretch/>
        </p:blipFill>
        <p:spPr>
          <a:xfrm>
            <a:off x="763560" y="1346040"/>
            <a:ext cx="762480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ЕЛЕМЕНТИ РЕЛЯЦІЙНОЇ МОДЕЛ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13502" t="48671" r="26833" b="20541"/>
          <a:stretch/>
        </p:blipFill>
        <p:spPr>
          <a:xfrm>
            <a:off x="1763640" y="1995480"/>
            <a:ext cx="6034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РЕЛЯЦІЙНІ КЛЮЧІ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13491" t="43647" r="22984" b="15349"/>
          <a:stretch/>
        </p:blipFill>
        <p:spPr>
          <a:xfrm>
            <a:off x="1547640" y="1930320"/>
            <a:ext cx="60343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ER-МОДЕЛЬ БАЗИ ДАНИХ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rcRect l="25043" t="23189" r="17093" b="20443"/>
          <a:stretch/>
        </p:blipFill>
        <p:spPr>
          <a:xfrm>
            <a:off x="1332000" y="1600200"/>
            <a:ext cx="6256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В’ЯЗУВАННЯ ТАБЛИЦ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Рисунок 247" descr=""/>
          <p:cNvPicPr/>
          <p:nvPr/>
        </p:nvPicPr>
        <p:blipFill>
          <a:blip r:embed="rId1"/>
          <a:srcRect l="42688" t="23353" r="15286" b="50688"/>
          <a:stretch/>
        </p:blipFill>
        <p:spPr>
          <a:xfrm>
            <a:off x="1743120" y="1905120"/>
            <a:ext cx="56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ХЕМА ДАНИХ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825480" y="1905120"/>
            <a:ext cx="749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ГЛЯД ВІКНА КОНСТРУКТОРА ТАБЛИЦЬ В MICROSOFT АС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13" descr=""/>
          <p:cNvPicPr/>
          <p:nvPr/>
        </p:nvPicPr>
        <p:blipFill>
          <a:blip r:embed="rId1"/>
          <a:stretch/>
        </p:blipFill>
        <p:spPr>
          <a:xfrm>
            <a:off x="2246400" y="190512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8:41:46Z</dcterms:created>
  <dc:creator>Admin</dc:creator>
  <dc:description/>
  <dc:language>en-US</dc:language>
  <cp:lastModifiedBy>Dj Serj Esenin</cp:lastModifiedBy>
  <dcterms:modified xsi:type="dcterms:W3CDTF">2015-03-23T22:02:48Z</dcterms:modified>
  <cp:revision>4</cp:revision>
  <dc:subject/>
  <dc:title>РОЗРОБКА БАЗИ ДАНИХ ДЛЯ СКЛАДУ-МАГАЗИНУ МЕТАЛЕВО-ПЛАСТИКОВИХ ВИРОБІВ </dc:title>
</cp:coreProperties>
</file>