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440-9CB1-4EC7-98C6-503518DD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1B0-FB95-4F76-BB09-EECD5490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ADF-DC89-443E-B952-87BC9CD8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089-7D1F-4FFD-8B6E-89C4E7CF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9924C-2A69-4EFC-9DF7-C4BC805E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FD2CD-9D51-416D-AB31-A2C158E4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FBD3D-42BC-4249-A288-5934F32E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E05E8-3CCC-48A2-A91E-514542F6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66FC6-83CE-4125-B720-D31B9E7B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BE5B4-5F59-45CA-A2DD-BC218717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7B089-0B5E-49BF-B5B0-1B9570D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BA5-F6A2-4E3F-9038-412A91C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6ED83-F967-41B7-8DAA-B555737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7BDA-ACC3-4A53-8E09-A60077F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A8BDE-BB51-4F8D-99B1-D5EA5AA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83707-9EB7-435D-A723-43E5B60E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9F8CA-3250-40C6-8A77-C4CE0251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7B1-F80E-465E-B716-15E12719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A07-36B9-4024-A98F-6E1D3BCD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2CC-F0DC-430B-A359-698F3E57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852-7D40-4E5E-B73F-72783AB2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5AF-D2A1-40D9-9074-77F74275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BDB-4D3B-41F4-BD64-A4EFCCF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707-0B24-4FE9-9B16-624B0B1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C773-F099-43FB-BE86-049889A51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EBE2-FD4D-405F-8A5D-724EF2C865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РОЗРОБКА БАЗИ ДАНИХ ДЛЯ СКЛАДУ-МАГАЗИНУ МЕТАЛЕВО-ПЛАСТИКОВИХ ВИРОБІ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ВИГЛЯД ФОРМИ ДЛЯ АВТОРИЗАЦІЇ КОРИСТУВАЧ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631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ГЛЯД КОРИСТУВАЦЬКОГО МЕН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2951280" y="1700280"/>
            <a:ext cx="3133440" cy="1485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"/>
          <p:cNvPicPr/>
          <p:nvPr/>
        </p:nvPicPr>
        <p:blipFill>
          <a:blip r:embed="rId2"/>
          <a:srcRect l="0" t="0" r="0" b="31371"/>
          <a:stretch/>
        </p:blipFill>
        <p:spPr>
          <a:xfrm>
            <a:off x="1438200" y="4437000"/>
            <a:ext cx="6518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ВИГЛЯД СТВОРЕНОГО ЗВІТУ-ДОКУМЕНТ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93600" y="1905120"/>
            <a:ext cx="715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ЯКУЮ ЗА УВА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РИРІВНЕВА АРХІТЕКТУРА СУБД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Рисунок 19" descr=""/>
          <p:cNvPicPr/>
          <p:nvPr/>
        </p:nvPicPr>
        <p:blipFill>
          <a:blip r:embed="rId1"/>
          <a:srcRect l="36492" t="33691" r="37552" b="19355"/>
          <a:stretch/>
        </p:blipFill>
        <p:spPr>
          <a:xfrm>
            <a:off x="1979640" y="1557360"/>
            <a:ext cx="5792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3480" y="284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ЛАСИФІКАЦІЯ МОДЕЛЕЙ ДАН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Рисунок 18" descr=""/>
          <p:cNvPicPr/>
          <p:nvPr/>
        </p:nvPicPr>
        <p:blipFill>
          <a:blip r:embed="rId1"/>
          <a:srcRect l="33872" t="27239" r="33468" b="24375"/>
          <a:stretch/>
        </p:blipFill>
        <p:spPr>
          <a:xfrm>
            <a:off x="763560" y="1346040"/>
            <a:ext cx="762480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ЕЛЕМЕНТИ РЕЛЯЦІЙНОЇ МОДЕЛ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13502" t="48671" r="26833" b="20541"/>
          <a:stretch/>
        </p:blipFill>
        <p:spPr>
          <a:xfrm>
            <a:off x="1763640" y="1995480"/>
            <a:ext cx="6034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РЕЛЯЦІЙНІ КЛЮЧІ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13491" t="43647" r="22984" b="15349"/>
          <a:stretch/>
        </p:blipFill>
        <p:spPr>
          <a:xfrm>
            <a:off x="1547640" y="1930320"/>
            <a:ext cx="60343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ER-МОДЕЛЬ БАЗИ ДАНИХ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rcRect l="25043" t="23189" r="17093" b="20443"/>
          <a:stretch/>
        </p:blipFill>
        <p:spPr>
          <a:xfrm>
            <a:off x="1332000" y="1600200"/>
            <a:ext cx="6256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В’ЯЗУВАННЯ ТАБЛИЦ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Рисунок 247" descr=""/>
          <p:cNvPicPr/>
          <p:nvPr/>
        </p:nvPicPr>
        <p:blipFill>
          <a:blip r:embed="rId1"/>
          <a:srcRect l="42688" t="23353" r="15286" b="50688"/>
          <a:stretch/>
        </p:blipFill>
        <p:spPr>
          <a:xfrm>
            <a:off x="1743120" y="1905120"/>
            <a:ext cx="56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ХЕМА ДАНИХ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825480" y="1905120"/>
            <a:ext cx="749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ГЛЯД ВІКНА КОНСТРУКТОРА ТАБЛИЦЬ В MICROSOFT АС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13" descr=""/>
          <p:cNvPicPr/>
          <p:nvPr/>
        </p:nvPicPr>
        <p:blipFill>
          <a:blip r:embed="rId1"/>
          <a:stretch/>
        </p:blipFill>
        <p:spPr>
          <a:xfrm>
            <a:off x="2246400" y="190512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8:41:46Z</dcterms:created>
  <dc:creator>Admin</dc:creator>
  <dc:description/>
  <dc:language>en-US</dc:language>
  <cp:lastModifiedBy>Dj Serj Esenin</cp:lastModifiedBy>
  <dcterms:modified xsi:type="dcterms:W3CDTF">2015-03-23T22:02:48Z</dcterms:modified>
  <cp:revision>4</cp:revision>
  <dc:subject/>
  <dc:title>РОЗРОБКА БАЗИ ДАНИХ ДЛЯ СКЛАДУ-МАГАЗИНУ МЕТАЛЕВО-ПЛАСТИКОВИХ ВИРОБІВ </dc:title>
</cp:coreProperties>
</file>