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735-1EDC-4D89-B0D9-4A5437AC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679-3A68-4BBA-98B7-BDA3BDB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172-F0B9-4350-A531-E466C89B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F23-1C0F-493D-8ADB-18CEDA60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800-9231-49B0-866F-C9D21BBE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323-C1F1-4AEE-8D51-F5BF558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D87-05D8-44BD-A8B9-3E7EE5E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1C3-4987-44E8-9929-164DB3F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1C8-BBB6-414A-8974-08F4027D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788-C276-46F0-8DD3-BF554AC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FCB-61F9-4BDD-87EB-6E2D969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A4D-B91A-4852-B6F3-ECC2CBD1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1305-06F8-40E6-8C0A-CF18F3F66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88640"/>
            <a:ext cx="8420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итут інтеграції навчання з виробництвом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обчислювальної техніки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0640" y="1915920"/>
            <a:ext cx="693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КРОПРОЦЕСОРНА СИСТЕМА КЕРУВАННЯ ТЕХНОЛОГІЧНОЮ ЛІНІЄЮ ОБРОБКИ ЛИСТОВОГО МЕТ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пломний проект за спеціальніст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7.050102 – Комп’ютерні системи та мереж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Розробив студент гр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-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обилянський Є.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 дипломного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.т.н., доц. каф. ОТ Гороховський О.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нниця  ВНТУ  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1"/>
          <p:cNvPicPr/>
          <p:nvPr/>
        </p:nvPicPr>
        <p:blipFill>
          <a:blip r:embed="rId1"/>
          <a:stretch/>
        </p:blipFill>
        <p:spPr>
          <a:xfrm>
            <a:off x="631800" y="824040"/>
            <a:ext cx="8418600" cy="547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741320" y="41652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лектрична схема зовнішних кіл системи ке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4"/>
          <p:cNvSpPr/>
          <p:nvPr/>
        </p:nvSpPr>
        <p:spPr>
          <a:xfrm>
            <a:off x="2073240" y="1268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1784520" y="1162080"/>
            <a:ext cx="6308640" cy="5689440"/>
            <a:chOff x="1784520" y="1162080"/>
            <a:chExt cx="6308640" cy="5689440"/>
          </a:xfrm>
        </p:grpSpPr>
        <p:sp>
          <p:nvSpPr>
            <p:cNvPr id="108" name="AutoShape 23"/>
            <p:cNvSpPr/>
            <p:nvPr/>
          </p:nvSpPr>
          <p:spPr>
            <a:xfrm>
              <a:off x="1784520" y="1162080"/>
              <a:ext cx="6308640" cy="56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4382280" y="1285560"/>
              <a:ext cx="98928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3887280" y="1780200"/>
              <a:ext cx="1978920" cy="8665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УЧНОЙ АВТОМА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6113880" y="2399400"/>
              <a:ext cx="136044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ЧАЛЬНЫЕ УСТАНОВКИ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5866560" y="3264480"/>
              <a:ext cx="160848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БРАБОТКА ПУНКТОВ МЕНЮ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NU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5495400" y="4130280"/>
              <a:ext cx="1980000" cy="86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ПОЛНЕНИЕ ПРОГРАММЫ В РЕЖИМЕ АВТОМАТ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VTOMAT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5495400" y="5119920"/>
              <a:ext cx="198000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ВОД ИНФОРМАЦИИ НА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LCD LCD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_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031840" y="2398680"/>
              <a:ext cx="136116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ЧАЛЬНЫЕ УСТАНОВКИ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2031840" y="3264120"/>
              <a:ext cx="1608120" cy="7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БРАБОТКА ПУНКТОВ МЕНЮ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NU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032920" y="4129920"/>
              <a:ext cx="1978920" cy="86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ПОЛНЕНИЕ ПРОГРАММЫ В РУЧНОМ РЕЖИМЕ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NUAL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032920" y="5119200"/>
              <a:ext cx="197892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ВОД ИНФОРМАЦИИ НА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LCD LCD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_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2031840" y="5985720"/>
              <a:ext cx="1978920" cy="49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БРАБОТКА ОШИБОК MA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AutoShape 11"/>
            <p:cNvCxnSpPr/>
            <p:nvPr/>
          </p:nvCxnSpPr>
          <p:spPr>
            <a:xfrm flipV="1" rot="10800000">
              <a:off x="2711880" y="2212920"/>
              <a:ext cx="1175040" cy="18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10"/>
            <p:cNvCxnSpPr/>
            <p:nvPr/>
          </p:nvCxnSpPr>
          <p:spPr>
            <a:xfrm>
              <a:off x="5866200" y="2213640"/>
              <a:ext cx="928440" cy="186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9"/>
            <p:cNvCxnSpPr/>
            <p:nvPr/>
          </p:nvCxnSpPr>
          <p:spPr>
            <a:xfrm>
              <a:off x="4876560" y="1656360"/>
              <a:ext cx="1080" cy="12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8"/>
            <p:cNvCxnSpPr/>
            <p:nvPr/>
          </p:nvCxnSpPr>
          <p:spPr>
            <a:xfrm>
              <a:off x="2712600" y="3141000"/>
              <a:ext cx="1440" cy="10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7"/>
            <p:cNvCxnSpPr/>
            <p:nvPr/>
          </p:nvCxnSpPr>
          <p:spPr>
            <a:xfrm>
              <a:off x="2713320" y="400068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6"/>
            <p:cNvCxnSpPr/>
            <p:nvPr/>
          </p:nvCxnSpPr>
          <p:spPr>
            <a:xfrm>
              <a:off x="2713320" y="498996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AutoShape 5"/>
            <p:cNvCxnSpPr/>
            <p:nvPr/>
          </p:nvCxnSpPr>
          <p:spPr>
            <a:xfrm>
              <a:off x="2702880" y="586620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4"/>
            <p:cNvCxnSpPr/>
            <p:nvPr/>
          </p:nvCxnSpPr>
          <p:spPr>
            <a:xfrm>
              <a:off x="6726960" y="4995360"/>
              <a:ext cx="144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3"/>
            <p:cNvCxnSpPr/>
            <p:nvPr/>
          </p:nvCxnSpPr>
          <p:spPr>
            <a:xfrm>
              <a:off x="6737040" y="400068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AutoShape 2"/>
            <p:cNvCxnSpPr/>
            <p:nvPr/>
          </p:nvCxnSpPr>
          <p:spPr>
            <a:xfrm>
              <a:off x="6756840" y="314172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0" name="Прямоугольник 27"/>
          <p:cNvSpPr/>
          <p:nvPr/>
        </p:nvSpPr>
        <p:spPr>
          <a:xfrm>
            <a:off x="3383280" y="404640"/>
            <a:ext cx="3317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2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роботи 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495360" y="274680"/>
            <a:ext cx="8915400" cy="62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повідь завершена,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31"/>
          <p:cNvSpPr/>
          <p:nvPr/>
        </p:nvSpPr>
        <p:spPr>
          <a:xfrm>
            <a:off x="1820520" y="252360"/>
            <a:ext cx="62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ханізми для механічної обробки листового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33"/>
          <p:cNvSpPr/>
          <p:nvPr/>
        </p:nvSpPr>
        <p:spPr>
          <a:xfrm>
            <a:off x="1039320" y="4715280"/>
            <a:ext cx="30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– Гільйотина з ЧП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5"/>
          <p:cNvSpPr/>
          <p:nvPr/>
        </p:nvSpPr>
        <p:spPr>
          <a:xfrm>
            <a:off x="5204880" y="457056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 – Гільйотинні гідравлічні ножиц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C12Y-4х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4"/>
          <p:cNvSpPr/>
          <p:nvPr/>
        </p:nvSpPr>
        <p:spPr>
          <a:xfrm>
            <a:off x="11736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1" descr="станок гильотинные ножницы по металу"/>
          <p:cNvPicPr/>
          <p:nvPr/>
        </p:nvPicPr>
        <p:blipFill>
          <a:blip r:embed="rId1"/>
          <a:stretch/>
        </p:blipFill>
        <p:spPr>
          <a:xfrm>
            <a:off x="631800" y="1319040"/>
            <a:ext cx="3627360" cy="2953080"/>
          </a:xfrm>
          <a:prstGeom prst="rect">
            <a:avLst/>
          </a:prstGeom>
          <a:ln w="0">
            <a:noFill/>
          </a:ln>
        </p:spPr>
      </p:pic>
      <p:pic>
        <p:nvPicPr>
          <p:cNvPr id="48" name="bf" descr="http://flagma.ua/gilotinnye-gidravlicheskie-nozhnicy-photo-o20121105-327025_big.jpg"/>
          <p:cNvPicPr/>
          <p:nvPr/>
        </p:nvPicPr>
        <p:blipFill>
          <a:blip r:embed="rId2"/>
          <a:srcRect l="0" t="0" r="0" b="8929"/>
          <a:stretch/>
        </p:blipFill>
        <p:spPr>
          <a:xfrm>
            <a:off x="5184720" y="996840"/>
            <a:ext cx="43052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33"/>
          <p:cNvSpPr/>
          <p:nvPr/>
        </p:nvSpPr>
        <p:spPr>
          <a:xfrm>
            <a:off x="338040" y="4969080"/>
            <a:ext cx="44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Гільйотинні ножиці марки Bayk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35"/>
          <p:cNvSpPr/>
          <p:nvPr/>
        </p:nvSpPr>
        <p:spPr>
          <a:xfrm>
            <a:off x="5651280" y="496908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я профілювання мет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4"/>
          <p:cNvSpPr/>
          <p:nvPr/>
        </p:nvSpPr>
        <p:spPr>
          <a:xfrm>
            <a:off x="11736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bf" descr="http://flagma.ua/gilotinnye-nozhnicy-baykal-photo-o20130919-398444_big.jpg"/>
          <p:cNvPicPr/>
          <p:nvPr/>
        </p:nvPicPr>
        <p:blipFill>
          <a:blip r:embed="rId1"/>
          <a:srcRect l="0" t="0" r="0" b="3005"/>
          <a:stretch/>
        </p:blipFill>
        <p:spPr>
          <a:xfrm>
            <a:off x="488880" y="1249200"/>
            <a:ext cx="4032360" cy="3260880"/>
          </a:xfrm>
          <a:prstGeom prst="rect">
            <a:avLst/>
          </a:prstGeom>
          <a:ln w="0">
            <a:noFill/>
          </a:ln>
        </p:spPr>
      </p:pic>
      <p:pic>
        <p:nvPicPr>
          <p:cNvPr id="53" name="bf" descr="http://flagma.ua/liniya-profilirovaniya-photo-o20111007-76882_big.jpg"/>
          <p:cNvPicPr/>
          <p:nvPr/>
        </p:nvPicPr>
        <p:blipFill>
          <a:blip r:embed="rId2"/>
          <a:srcRect l="0" t="0" r="0" b="3762"/>
          <a:stretch/>
        </p:blipFill>
        <p:spPr>
          <a:xfrm>
            <a:off x="5240160" y="1700280"/>
            <a:ext cx="4249800" cy="282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31"/>
          <p:cNvSpPr/>
          <p:nvPr/>
        </p:nvSpPr>
        <p:spPr>
          <a:xfrm>
            <a:off x="1820520" y="252360"/>
            <a:ext cx="62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ханізми для механічної обробки листового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31"/>
          <p:cNvSpPr/>
          <p:nvPr/>
        </p:nvSpPr>
        <p:spPr>
          <a:xfrm>
            <a:off x="1165680" y="142920"/>
            <a:ext cx="70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гальна структурна схема мікропроцесорної систе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ерування технологічною лінією обробки листового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4"/>
          <p:cNvSpPr/>
          <p:nvPr/>
        </p:nvSpPr>
        <p:spPr>
          <a:xfrm>
            <a:off x="11736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4"/>
          <p:cNvSpPr/>
          <p:nvPr/>
        </p:nvSpPr>
        <p:spPr>
          <a:xfrm>
            <a:off x="2865600" y="23004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992160" y="1125360"/>
            <a:ext cx="7701120" cy="4680000"/>
            <a:chOff x="992160" y="1125360"/>
            <a:chExt cx="7701120" cy="4680000"/>
          </a:xfrm>
        </p:grpSpPr>
        <p:sp>
          <p:nvSpPr>
            <p:cNvPr id="59" name="AutoShape 53"/>
            <p:cNvSpPr/>
            <p:nvPr/>
          </p:nvSpPr>
          <p:spPr>
            <a:xfrm>
              <a:off x="992160" y="1125360"/>
              <a:ext cx="7701120" cy="46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2"/>
            <p:cNvSpPr/>
            <p:nvPr/>
          </p:nvSpPr>
          <p:spPr>
            <a:xfrm>
              <a:off x="3408120" y="2332800"/>
              <a:ext cx="2566800" cy="90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КРОКОНТРОЛЛ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1"/>
            <p:cNvSpPr/>
            <p:nvPr/>
          </p:nvSpPr>
          <p:spPr>
            <a:xfrm>
              <a:off x="2954520" y="1275480"/>
              <a:ext cx="226548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ЛОК ПИТАНИЯ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C24V – 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0"/>
            <p:cNvSpPr/>
            <p:nvPr/>
          </p:nvSpPr>
          <p:spPr>
            <a:xfrm>
              <a:off x="1293480" y="2181240"/>
              <a:ext cx="166104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ВИАТУ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-9,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1142640" y="4446720"/>
              <a:ext cx="2265480" cy="75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CD 2 СТРОКИ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 16 СИМВОЛ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8"/>
            <p:cNvSpPr/>
            <p:nvPr/>
          </p:nvSpPr>
          <p:spPr>
            <a:xfrm>
              <a:off x="992160" y="3088080"/>
              <a:ext cx="2265120" cy="90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ЕТОДИ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НЮ, АВАРИЯ, РУЧНОЙ, АВТОМ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7"/>
            <p:cNvSpPr/>
            <p:nvPr/>
          </p:nvSpPr>
          <p:spPr>
            <a:xfrm>
              <a:off x="3860640" y="4446720"/>
              <a:ext cx="256716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ДОВАТЕЛЬНАЯ СВЯЗЬ RS4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6"/>
            <p:cNvSpPr/>
            <p:nvPr/>
          </p:nvSpPr>
          <p:spPr>
            <a:xfrm>
              <a:off x="6579720" y="4446720"/>
              <a:ext cx="165996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НК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5"/>
            <p:cNvSpPr/>
            <p:nvPr/>
          </p:nvSpPr>
          <p:spPr>
            <a:xfrm>
              <a:off x="6276960" y="1275480"/>
              <a:ext cx="151020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ХОДА 1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4"/>
            <p:cNvSpPr/>
            <p:nvPr/>
          </p:nvSpPr>
          <p:spPr>
            <a:xfrm>
              <a:off x="6276960" y="2332800"/>
              <a:ext cx="1510200" cy="90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ХОДА 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3"/>
            <p:cNvSpPr/>
            <p:nvPr/>
          </p:nvSpPr>
          <p:spPr>
            <a:xfrm>
              <a:off x="7938000" y="1275480"/>
              <a:ext cx="604440" cy="4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2"/>
            <p:cNvSpPr/>
            <p:nvPr/>
          </p:nvSpPr>
          <p:spPr>
            <a:xfrm>
              <a:off x="7938000" y="2483640"/>
              <a:ext cx="604440" cy="4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1"/>
            <p:cNvSpPr/>
            <p:nvPr/>
          </p:nvSpPr>
          <p:spPr>
            <a:xfrm>
              <a:off x="7938000" y="3842280"/>
              <a:ext cx="604440" cy="4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0"/>
            <p:cNvSpPr/>
            <p:nvPr/>
          </p:nvSpPr>
          <p:spPr>
            <a:xfrm>
              <a:off x="5672520" y="3842280"/>
              <a:ext cx="604080" cy="4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9"/>
            <p:cNvSpPr/>
            <p:nvPr/>
          </p:nvSpPr>
          <p:spPr>
            <a:xfrm>
              <a:off x="2048400" y="1427400"/>
              <a:ext cx="603000" cy="45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8"/>
            <p:cNvSpPr/>
            <p:nvPr/>
          </p:nvSpPr>
          <p:spPr>
            <a:xfrm>
              <a:off x="2653200" y="1728720"/>
              <a:ext cx="302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7"/>
            <p:cNvSpPr/>
            <p:nvPr/>
          </p:nvSpPr>
          <p:spPr>
            <a:xfrm>
              <a:off x="4465080" y="203076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6"/>
            <p:cNvSpPr/>
            <p:nvPr/>
          </p:nvSpPr>
          <p:spPr>
            <a:xfrm>
              <a:off x="2954520" y="2635200"/>
              <a:ext cx="4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"/>
            <p:cNvSpPr/>
            <p:nvPr/>
          </p:nvSpPr>
          <p:spPr>
            <a:xfrm>
              <a:off x="3257280" y="3691440"/>
              <a:ext cx="30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 flipV="1">
              <a:off x="3558960" y="3238200"/>
              <a:ext cx="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3408120" y="489960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3709800" y="3238200"/>
              <a:ext cx="0" cy="16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1"/>
            <p:cNvSpPr/>
            <p:nvPr/>
          </p:nvSpPr>
          <p:spPr>
            <a:xfrm flipV="1">
              <a:off x="4465080" y="3238200"/>
              <a:ext cx="0" cy="12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>
              <a:off x="5975280" y="429480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>
              <a:off x="5975280" y="27860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 flipV="1">
              <a:off x="5521680" y="1577520"/>
              <a:ext cx="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7"/>
            <p:cNvSpPr/>
            <p:nvPr/>
          </p:nvSpPr>
          <p:spPr>
            <a:xfrm>
              <a:off x="5521680" y="1577880"/>
              <a:ext cx="75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 flipV="1">
              <a:off x="7031880" y="3540960"/>
              <a:ext cx="0" cy="90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 flipH="1">
              <a:off x="5219640" y="3540960"/>
              <a:ext cx="181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 flipV="1">
              <a:off x="5220000" y="323820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8088840" y="429444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7787160" y="278604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7787160" y="15778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8" descr="http://www.gaw.ru/im/atmel/avr/atmega32_s.gif"/>
          <p:cNvPicPr/>
          <p:nvPr/>
        </p:nvPicPr>
        <p:blipFill>
          <a:blip r:embed="rId1"/>
          <a:stretch/>
        </p:blipFill>
        <p:spPr>
          <a:xfrm>
            <a:off x="2649600" y="662040"/>
            <a:ext cx="4535280" cy="61783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2546280" y="277920"/>
            <a:ext cx="4402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 схема мікроконтролера ATmega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CP.jpg"/>
          <p:cNvPicPr/>
          <p:nvPr/>
        </p:nvPicPr>
        <p:blipFill>
          <a:blip r:embed="rId1"/>
          <a:stretch/>
        </p:blipFill>
        <p:spPr>
          <a:xfrm>
            <a:off x="1258920" y="846000"/>
            <a:ext cx="7750080" cy="5535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1538280" y="294480"/>
            <a:ext cx="64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іальна схема кіл управління мікропроце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-531720" y="-33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IN.jpg"/>
          <p:cNvPicPr/>
          <p:nvPr/>
        </p:nvPicPr>
        <p:blipFill>
          <a:blip r:embed="rId1"/>
          <a:stretch/>
        </p:blipFill>
        <p:spPr>
          <a:xfrm>
            <a:off x="1133640" y="836640"/>
            <a:ext cx="7578720" cy="5256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6"/>
          <p:cNvSpPr/>
          <p:nvPr/>
        </p:nvSpPr>
        <p:spPr>
          <a:xfrm>
            <a:off x="2442960" y="47700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нципіальна схема вхідних кіл 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-650880" y="-3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OUT.jpg"/>
          <p:cNvPicPr/>
          <p:nvPr/>
        </p:nvPicPr>
        <p:blipFill>
          <a:blip r:embed="rId1"/>
          <a:stretch/>
        </p:blipFill>
        <p:spPr>
          <a:xfrm>
            <a:off x="2360520" y="620640"/>
            <a:ext cx="5040360" cy="5908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6"/>
          <p:cNvSpPr/>
          <p:nvPr/>
        </p:nvSpPr>
        <p:spPr>
          <a:xfrm>
            <a:off x="2161800" y="333360"/>
            <a:ext cx="55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нципіальна схема вихідних кіл 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7.JPG"/>
          <p:cNvPicPr/>
          <p:nvPr/>
        </p:nvPicPr>
        <p:blipFill>
          <a:blip r:embed="rId1"/>
          <a:stretch/>
        </p:blipFill>
        <p:spPr>
          <a:xfrm>
            <a:off x="566640" y="785880"/>
            <a:ext cx="8494920" cy="594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1784160" y="2628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лектрична схема внутрішніх кіл системи ке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1:48:10Z</dcterms:created>
  <dc:creator/>
  <dc:description/>
  <dc:language>en-US</dc:language>
  <cp:lastModifiedBy>Dart_Vader</cp:lastModifiedBy>
  <dcterms:modified xsi:type="dcterms:W3CDTF">2015-03-22T09:19:12Z</dcterms:modified>
  <cp:revision>133</cp:revision>
  <dc:subject/>
  <dc:title> Міністерство освіти і науки, молоді та спорту України Вінницький національний технічний університет Інститут інформаційних технологій та комп’ютерної інженерії Факультет комп’ютерних систем та мереж Кафедра обчислювальної техніки </dc:title>
</cp:coreProperties>
</file>