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7640-6500-425D-907C-32822C7C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CA4A-380B-41D9-AC5F-88CB016F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7BB-2463-4F87-93E7-F158FA09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B07-1276-4E3B-9715-9FB3D2EE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E57-681E-4AFB-9B85-8BAE16B0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E7D-5BBF-4D7D-8591-CBB91F6E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1B6-6787-417C-B82E-15FA2FE7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960-D28B-4FBA-AA43-56D7B497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3B6B-BE93-4C72-98A6-24FED291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E825-4C32-4551-9964-6597CE33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B93-28BE-4D4E-8357-44EBD6E6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7CB-DC22-4DD8-A4AE-33DB24E2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DE7D-0CDC-4A6F-B82B-9AAF5C602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88640"/>
            <a:ext cx="8420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ністерство освіти і науки України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ький національний технічний університет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ститут інтеграції навчання з виробництвом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обчислювальної техніки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0640" y="1915920"/>
            <a:ext cx="6933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ІКРОПРОЦЕСОРНА СИСТЕМА КЕРУВАННЯ ТЕХНОЛОГІЧНОЮ ЛІНІЄЮ ОБРОБКИ ЛИСТОВОГО МЕТ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ипломний проект за спеціальніст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7.050102 – Комп’ютерні системи та мереж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Розробив студент гр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-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обилянський Є.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ерівник дипломного проек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.т.н., доц. каф. ОТ Гороховський О.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інниця  ВНТУ  2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4" descr="1"/>
          <p:cNvPicPr/>
          <p:nvPr/>
        </p:nvPicPr>
        <p:blipFill>
          <a:blip r:embed="rId1"/>
          <a:stretch/>
        </p:blipFill>
        <p:spPr>
          <a:xfrm>
            <a:off x="631800" y="824040"/>
            <a:ext cx="8418600" cy="5472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1741320" y="416520"/>
            <a:ext cx="614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Електрична схема зовнішних кіл системи кер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4"/>
          <p:cNvSpPr/>
          <p:nvPr/>
        </p:nvSpPr>
        <p:spPr>
          <a:xfrm>
            <a:off x="2073240" y="12682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"/>
          <p:cNvGrpSpPr/>
          <p:nvPr/>
        </p:nvGrpSpPr>
        <p:grpSpPr>
          <a:xfrm>
            <a:off x="1784520" y="1162080"/>
            <a:ext cx="6308640" cy="5689440"/>
            <a:chOff x="1784520" y="1162080"/>
            <a:chExt cx="6308640" cy="5689440"/>
          </a:xfrm>
        </p:grpSpPr>
        <p:sp>
          <p:nvSpPr>
            <p:cNvPr id="108" name="AutoShape 23"/>
            <p:cNvSpPr/>
            <p:nvPr/>
          </p:nvSpPr>
          <p:spPr>
            <a:xfrm>
              <a:off x="1784520" y="1162080"/>
              <a:ext cx="6308640" cy="56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4382280" y="1285560"/>
              <a:ext cx="989280" cy="37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AIN.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1"/>
            <p:cNvSpPr/>
            <p:nvPr/>
          </p:nvSpPr>
          <p:spPr>
            <a:xfrm>
              <a:off x="3887280" y="1780200"/>
              <a:ext cx="1978920" cy="8665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РУЧНОЙ АВТОМА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0"/>
            <p:cNvSpPr/>
            <p:nvPr/>
          </p:nvSpPr>
          <p:spPr>
            <a:xfrm>
              <a:off x="6113880" y="2399400"/>
              <a:ext cx="1360440" cy="74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АЧАЛЬНЫЕ УСТАНОВКИ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A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.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9"/>
            <p:cNvSpPr/>
            <p:nvPr/>
          </p:nvSpPr>
          <p:spPr>
            <a:xfrm>
              <a:off x="5866560" y="3264480"/>
              <a:ext cx="1608480" cy="74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ОБРАБОТКА ПУНКТОВ МЕНЮ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ENU.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8"/>
            <p:cNvSpPr/>
            <p:nvPr/>
          </p:nvSpPr>
          <p:spPr>
            <a:xfrm>
              <a:off x="5495400" y="4130280"/>
              <a:ext cx="1980000" cy="86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ЫПОЛНЕНИЕ ПРОГРАММЫ В РЕЖИМЕ АВТОМАТ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VTOMAT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.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>
              <a:off x="5495400" y="5119920"/>
              <a:ext cx="1980000" cy="74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ЫВОД ИНФОРМАЦИИ НА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LCD LCD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_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8.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2031840" y="2398680"/>
              <a:ext cx="1361160" cy="74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АЧАЛЬНЫЕ УСТАНОВКИ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A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.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5"/>
            <p:cNvSpPr/>
            <p:nvPr/>
          </p:nvSpPr>
          <p:spPr>
            <a:xfrm>
              <a:off x="2031840" y="3264120"/>
              <a:ext cx="1608120" cy="74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ОБРАБОТКА ПУНКТОВ МЕНЮ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ENU.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2032920" y="4129920"/>
              <a:ext cx="1978920" cy="86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ЫПОЛНЕНИЕ ПРОГРАММЫ В РУЧНОМ РЕЖИМЕ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ANUAL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.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2032920" y="5119200"/>
              <a:ext cx="1978920" cy="74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ЫВОД ИНФОРМАЦИИ НА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LCD LCD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_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8.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2"/>
            <p:cNvSpPr/>
            <p:nvPr/>
          </p:nvSpPr>
          <p:spPr>
            <a:xfrm>
              <a:off x="2031840" y="5985720"/>
              <a:ext cx="1978920" cy="49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ОБРАБОТКА ОШИБОК MAIN.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0" name="AutoShape 11"/>
            <p:cNvCxnSpPr/>
            <p:nvPr/>
          </p:nvCxnSpPr>
          <p:spPr>
            <a:xfrm flipV="1" rot="10800000">
              <a:off x="2711880" y="2212920"/>
              <a:ext cx="1175040" cy="185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AutoShape 10"/>
            <p:cNvCxnSpPr/>
            <p:nvPr/>
          </p:nvCxnSpPr>
          <p:spPr>
            <a:xfrm>
              <a:off x="5866200" y="2213640"/>
              <a:ext cx="928440" cy="186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AutoShape 9"/>
            <p:cNvCxnSpPr/>
            <p:nvPr/>
          </p:nvCxnSpPr>
          <p:spPr>
            <a:xfrm>
              <a:off x="4876560" y="1656360"/>
              <a:ext cx="1080" cy="124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AutoShape 8"/>
            <p:cNvCxnSpPr/>
            <p:nvPr/>
          </p:nvCxnSpPr>
          <p:spPr>
            <a:xfrm>
              <a:off x="2712600" y="3141000"/>
              <a:ext cx="1440" cy="10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AutoShape 7"/>
            <p:cNvCxnSpPr/>
            <p:nvPr/>
          </p:nvCxnSpPr>
          <p:spPr>
            <a:xfrm>
              <a:off x="2713320" y="4000680"/>
              <a:ext cx="1080" cy="134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AutoShape 6"/>
            <p:cNvCxnSpPr/>
            <p:nvPr/>
          </p:nvCxnSpPr>
          <p:spPr>
            <a:xfrm>
              <a:off x="2713320" y="4989960"/>
              <a:ext cx="1080" cy="134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AutoShape 5"/>
            <p:cNvCxnSpPr/>
            <p:nvPr/>
          </p:nvCxnSpPr>
          <p:spPr>
            <a:xfrm>
              <a:off x="2702880" y="5866200"/>
              <a:ext cx="1080" cy="134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AutoShape 4"/>
            <p:cNvCxnSpPr/>
            <p:nvPr/>
          </p:nvCxnSpPr>
          <p:spPr>
            <a:xfrm>
              <a:off x="6726960" y="4995360"/>
              <a:ext cx="1440" cy="134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AutoShape 3"/>
            <p:cNvCxnSpPr/>
            <p:nvPr/>
          </p:nvCxnSpPr>
          <p:spPr>
            <a:xfrm>
              <a:off x="6737040" y="4000680"/>
              <a:ext cx="1080" cy="134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AutoShape 2"/>
            <p:cNvCxnSpPr/>
            <p:nvPr/>
          </p:nvCxnSpPr>
          <p:spPr>
            <a:xfrm>
              <a:off x="6756840" y="3141720"/>
              <a:ext cx="1080" cy="134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30" name="Прямоугольник 27"/>
          <p:cNvSpPr/>
          <p:nvPr/>
        </p:nvSpPr>
        <p:spPr>
          <a:xfrm>
            <a:off x="3383280" y="404640"/>
            <a:ext cx="3317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2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лгоритм роботи прог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Заголовок 1"/>
          <p:cNvSpPr/>
          <p:nvPr/>
        </p:nvSpPr>
        <p:spPr>
          <a:xfrm>
            <a:off x="495360" y="274680"/>
            <a:ext cx="8915400" cy="62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повідь завершена,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якую за ува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31"/>
          <p:cNvSpPr/>
          <p:nvPr/>
        </p:nvSpPr>
        <p:spPr>
          <a:xfrm>
            <a:off x="1820520" y="252360"/>
            <a:ext cx="628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еханізми для механічної обробки листового мет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33"/>
          <p:cNvSpPr/>
          <p:nvPr/>
        </p:nvSpPr>
        <p:spPr>
          <a:xfrm>
            <a:off x="1039320" y="4715280"/>
            <a:ext cx="30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 – Гільйотина з ЧП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35"/>
          <p:cNvSpPr/>
          <p:nvPr/>
        </p:nvSpPr>
        <p:spPr>
          <a:xfrm>
            <a:off x="5204880" y="4570560"/>
            <a:ext cx="428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2 – Гільйотинні гідравлічні ножиц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C12Y-4х2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44"/>
          <p:cNvSpPr/>
          <p:nvPr/>
        </p:nvSpPr>
        <p:spPr>
          <a:xfrm>
            <a:off x="117360" y="243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1" descr="станок гильотинные ножницы по металу"/>
          <p:cNvPicPr/>
          <p:nvPr/>
        </p:nvPicPr>
        <p:blipFill>
          <a:blip r:embed="rId1"/>
          <a:stretch/>
        </p:blipFill>
        <p:spPr>
          <a:xfrm>
            <a:off x="631800" y="1319040"/>
            <a:ext cx="3627360" cy="2953080"/>
          </a:xfrm>
          <a:prstGeom prst="rect">
            <a:avLst/>
          </a:prstGeom>
          <a:ln w="0">
            <a:noFill/>
          </a:ln>
        </p:spPr>
      </p:pic>
      <p:pic>
        <p:nvPicPr>
          <p:cNvPr id="48" name="bf" descr="http://flagma.ua/gilotinnye-gidravlicheskie-nozhnicy-photo-o20121105-327025_big.jpg"/>
          <p:cNvPicPr/>
          <p:nvPr/>
        </p:nvPicPr>
        <p:blipFill>
          <a:blip r:embed="rId2"/>
          <a:srcRect l="0" t="0" r="0" b="8929"/>
          <a:stretch/>
        </p:blipFill>
        <p:spPr>
          <a:xfrm>
            <a:off x="5184720" y="996840"/>
            <a:ext cx="430524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33"/>
          <p:cNvSpPr/>
          <p:nvPr/>
        </p:nvSpPr>
        <p:spPr>
          <a:xfrm>
            <a:off x="338040" y="4969080"/>
            <a:ext cx="44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3 – Гільйотинні ножиці марки Bayk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35"/>
          <p:cNvSpPr/>
          <p:nvPr/>
        </p:nvSpPr>
        <p:spPr>
          <a:xfrm>
            <a:off x="5651280" y="4969080"/>
            <a:ext cx="389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4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ія профілювання метал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44"/>
          <p:cNvSpPr/>
          <p:nvPr/>
        </p:nvSpPr>
        <p:spPr>
          <a:xfrm>
            <a:off x="117360" y="243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bf" descr="http://flagma.ua/gilotinnye-nozhnicy-baykal-photo-o20130919-398444_big.jpg"/>
          <p:cNvPicPr/>
          <p:nvPr/>
        </p:nvPicPr>
        <p:blipFill>
          <a:blip r:embed="rId1"/>
          <a:srcRect l="0" t="0" r="0" b="3005"/>
          <a:stretch/>
        </p:blipFill>
        <p:spPr>
          <a:xfrm>
            <a:off x="488880" y="1249200"/>
            <a:ext cx="4032360" cy="3260880"/>
          </a:xfrm>
          <a:prstGeom prst="rect">
            <a:avLst/>
          </a:prstGeom>
          <a:ln w="0">
            <a:noFill/>
          </a:ln>
        </p:spPr>
      </p:pic>
      <p:pic>
        <p:nvPicPr>
          <p:cNvPr id="53" name="bf" descr="http://flagma.ua/liniya-profilirovaniya-photo-o20111007-76882_big.jpg"/>
          <p:cNvPicPr/>
          <p:nvPr/>
        </p:nvPicPr>
        <p:blipFill>
          <a:blip r:embed="rId2"/>
          <a:srcRect l="0" t="0" r="0" b="3762"/>
          <a:stretch/>
        </p:blipFill>
        <p:spPr>
          <a:xfrm>
            <a:off x="5240160" y="1700280"/>
            <a:ext cx="4249800" cy="28274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31"/>
          <p:cNvSpPr/>
          <p:nvPr/>
        </p:nvSpPr>
        <p:spPr>
          <a:xfrm>
            <a:off x="1820520" y="252360"/>
            <a:ext cx="628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еханізми для механічної обробки листового мет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31"/>
          <p:cNvSpPr/>
          <p:nvPr/>
        </p:nvSpPr>
        <p:spPr>
          <a:xfrm>
            <a:off x="1165680" y="142920"/>
            <a:ext cx="70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гальна структурна схема мікропроцесорної систе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ерування технологічною лінією обробки листового мет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44"/>
          <p:cNvSpPr/>
          <p:nvPr/>
        </p:nvSpPr>
        <p:spPr>
          <a:xfrm>
            <a:off x="117360" y="243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4"/>
          <p:cNvSpPr/>
          <p:nvPr/>
        </p:nvSpPr>
        <p:spPr>
          <a:xfrm>
            <a:off x="2865600" y="230040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0"/>
          <p:cNvGrpSpPr/>
          <p:nvPr/>
        </p:nvGrpSpPr>
        <p:grpSpPr>
          <a:xfrm>
            <a:off x="992160" y="1125360"/>
            <a:ext cx="7701120" cy="4680000"/>
            <a:chOff x="992160" y="1125360"/>
            <a:chExt cx="7701120" cy="4680000"/>
          </a:xfrm>
        </p:grpSpPr>
        <p:sp>
          <p:nvSpPr>
            <p:cNvPr id="59" name="AutoShape 53"/>
            <p:cNvSpPr/>
            <p:nvPr/>
          </p:nvSpPr>
          <p:spPr>
            <a:xfrm>
              <a:off x="992160" y="1125360"/>
              <a:ext cx="7701120" cy="46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52"/>
            <p:cNvSpPr/>
            <p:nvPr/>
          </p:nvSpPr>
          <p:spPr>
            <a:xfrm>
              <a:off x="3408120" y="2332800"/>
              <a:ext cx="2566800" cy="90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ИКРОКОНТРОЛЛ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51"/>
            <p:cNvSpPr/>
            <p:nvPr/>
          </p:nvSpPr>
          <p:spPr>
            <a:xfrm>
              <a:off x="2954520" y="1275480"/>
              <a:ext cx="2265480" cy="75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ЛОК ПИТАНИЯ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C24V – 5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50"/>
            <p:cNvSpPr/>
            <p:nvPr/>
          </p:nvSpPr>
          <p:spPr>
            <a:xfrm>
              <a:off x="1293480" y="2181240"/>
              <a:ext cx="1661040" cy="75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ЛАВИАТУР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-9,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9"/>
            <p:cNvSpPr/>
            <p:nvPr/>
          </p:nvSpPr>
          <p:spPr>
            <a:xfrm>
              <a:off x="1142640" y="4446720"/>
              <a:ext cx="2265480" cy="75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CD 2 СТРОКИ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О 16 СИМВОЛ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48"/>
            <p:cNvSpPr/>
            <p:nvPr/>
          </p:nvSpPr>
          <p:spPr>
            <a:xfrm>
              <a:off x="992160" y="3088080"/>
              <a:ext cx="2265120" cy="90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ВЕТОДИ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НЮ, АВАРИЯ, РУЧНОЙ, АВТОМА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47"/>
            <p:cNvSpPr/>
            <p:nvPr/>
          </p:nvSpPr>
          <p:spPr>
            <a:xfrm>
              <a:off x="3860640" y="4446720"/>
              <a:ext cx="2567160" cy="75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ЛЕДОВАТЕЛЬНАЯ СВЯЗЬ RS48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46"/>
            <p:cNvSpPr/>
            <p:nvPr/>
          </p:nvSpPr>
          <p:spPr>
            <a:xfrm>
              <a:off x="6579720" y="4446720"/>
              <a:ext cx="1659960" cy="75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НКОД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5"/>
            <p:cNvSpPr/>
            <p:nvPr/>
          </p:nvSpPr>
          <p:spPr>
            <a:xfrm>
              <a:off x="6276960" y="1275480"/>
              <a:ext cx="1510200" cy="75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ХОДА 16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44"/>
            <p:cNvSpPr/>
            <p:nvPr/>
          </p:nvSpPr>
          <p:spPr>
            <a:xfrm>
              <a:off x="6276960" y="2332800"/>
              <a:ext cx="1510200" cy="90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ХОДА 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43"/>
            <p:cNvSpPr/>
            <p:nvPr/>
          </p:nvSpPr>
          <p:spPr>
            <a:xfrm>
              <a:off x="7938000" y="1275480"/>
              <a:ext cx="604440" cy="45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2"/>
            <p:cNvSpPr/>
            <p:nvPr/>
          </p:nvSpPr>
          <p:spPr>
            <a:xfrm>
              <a:off x="7938000" y="2483640"/>
              <a:ext cx="604440" cy="45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41"/>
            <p:cNvSpPr/>
            <p:nvPr/>
          </p:nvSpPr>
          <p:spPr>
            <a:xfrm>
              <a:off x="7938000" y="3842280"/>
              <a:ext cx="604440" cy="45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0"/>
            <p:cNvSpPr/>
            <p:nvPr/>
          </p:nvSpPr>
          <p:spPr>
            <a:xfrm>
              <a:off x="5672520" y="3842280"/>
              <a:ext cx="604080" cy="45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9"/>
            <p:cNvSpPr/>
            <p:nvPr/>
          </p:nvSpPr>
          <p:spPr>
            <a:xfrm>
              <a:off x="2048400" y="1427400"/>
              <a:ext cx="603000" cy="45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38"/>
            <p:cNvSpPr/>
            <p:nvPr/>
          </p:nvSpPr>
          <p:spPr>
            <a:xfrm>
              <a:off x="2653200" y="1728720"/>
              <a:ext cx="302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37"/>
            <p:cNvSpPr/>
            <p:nvPr/>
          </p:nvSpPr>
          <p:spPr>
            <a:xfrm>
              <a:off x="4465080" y="2030760"/>
              <a:ext cx="0" cy="3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6"/>
            <p:cNvSpPr/>
            <p:nvPr/>
          </p:nvSpPr>
          <p:spPr>
            <a:xfrm>
              <a:off x="2954520" y="2635200"/>
              <a:ext cx="45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5"/>
            <p:cNvSpPr/>
            <p:nvPr/>
          </p:nvSpPr>
          <p:spPr>
            <a:xfrm>
              <a:off x="3257280" y="3691440"/>
              <a:ext cx="30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4"/>
            <p:cNvSpPr/>
            <p:nvPr/>
          </p:nvSpPr>
          <p:spPr>
            <a:xfrm flipV="1">
              <a:off x="3558960" y="3238200"/>
              <a:ext cx="72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3408120" y="489960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 flipV="1">
              <a:off x="3709800" y="3238200"/>
              <a:ext cx="0" cy="166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1"/>
            <p:cNvSpPr/>
            <p:nvPr/>
          </p:nvSpPr>
          <p:spPr>
            <a:xfrm flipV="1">
              <a:off x="4465080" y="3238200"/>
              <a:ext cx="0" cy="12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0"/>
            <p:cNvSpPr/>
            <p:nvPr/>
          </p:nvSpPr>
          <p:spPr>
            <a:xfrm>
              <a:off x="5975280" y="4294800"/>
              <a:ext cx="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9"/>
            <p:cNvSpPr/>
            <p:nvPr/>
          </p:nvSpPr>
          <p:spPr>
            <a:xfrm>
              <a:off x="5975280" y="278604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8"/>
            <p:cNvSpPr/>
            <p:nvPr/>
          </p:nvSpPr>
          <p:spPr>
            <a:xfrm flipV="1">
              <a:off x="5521680" y="1577520"/>
              <a:ext cx="0" cy="75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7"/>
            <p:cNvSpPr/>
            <p:nvPr/>
          </p:nvSpPr>
          <p:spPr>
            <a:xfrm>
              <a:off x="5521680" y="1577880"/>
              <a:ext cx="75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 flipV="1">
              <a:off x="7031880" y="3540960"/>
              <a:ext cx="0" cy="90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5"/>
            <p:cNvSpPr/>
            <p:nvPr/>
          </p:nvSpPr>
          <p:spPr>
            <a:xfrm flipH="1">
              <a:off x="5219640" y="3540960"/>
              <a:ext cx="181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 flipV="1">
              <a:off x="5220000" y="3238200"/>
              <a:ext cx="0" cy="3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 flipV="1">
              <a:off x="8088840" y="4294440"/>
              <a:ext cx="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2"/>
            <p:cNvSpPr/>
            <p:nvPr/>
          </p:nvSpPr>
          <p:spPr>
            <a:xfrm>
              <a:off x="7787160" y="2786040"/>
              <a:ext cx="1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1"/>
            <p:cNvSpPr/>
            <p:nvPr/>
          </p:nvSpPr>
          <p:spPr>
            <a:xfrm>
              <a:off x="7787160" y="1577880"/>
              <a:ext cx="1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8" descr="http://www.gaw.ru/im/atmel/avr/atmega32_s.gif"/>
          <p:cNvPicPr/>
          <p:nvPr/>
        </p:nvPicPr>
        <p:blipFill>
          <a:blip r:embed="rId1"/>
          <a:stretch/>
        </p:blipFill>
        <p:spPr>
          <a:xfrm>
            <a:off x="2649600" y="662040"/>
            <a:ext cx="4535280" cy="61783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9"/>
          <p:cNvSpPr/>
          <p:nvPr/>
        </p:nvSpPr>
        <p:spPr>
          <a:xfrm>
            <a:off x="2546280" y="277920"/>
            <a:ext cx="44020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- схема мікроконтролера ATmega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4" descr="CP.jpg"/>
          <p:cNvPicPr/>
          <p:nvPr/>
        </p:nvPicPr>
        <p:blipFill>
          <a:blip r:embed="rId1"/>
          <a:stretch/>
        </p:blipFill>
        <p:spPr>
          <a:xfrm>
            <a:off x="1258920" y="846000"/>
            <a:ext cx="7750080" cy="5535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2"/>
          <p:cNvSpPr/>
          <p:nvPr/>
        </p:nvSpPr>
        <p:spPr>
          <a:xfrm>
            <a:off x="1538280" y="294480"/>
            <a:ext cx="64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ципіальна схема кіл управління мікропроцес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-531720" y="-336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IN.jpg"/>
          <p:cNvPicPr/>
          <p:nvPr/>
        </p:nvPicPr>
        <p:blipFill>
          <a:blip r:embed="rId1"/>
          <a:stretch/>
        </p:blipFill>
        <p:spPr>
          <a:xfrm>
            <a:off x="1133640" y="836640"/>
            <a:ext cx="7578720" cy="5256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6"/>
          <p:cNvSpPr/>
          <p:nvPr/>
        </p:nvSpPr>
        <p:spPr>
          <a:xfrm>
            <a:off x="2442960" y="477000"/>
            <a:ext cx="53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нципіальна схема вхідних кіл контро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-650880" y="-35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9" descr="OUT.jpg"/>
          <p:cNvPicPr/>
          <p:nvPr/>
        </p:nvPicPr>
        <p:blipFill>
          <a:blip r:embed="rId1"/>
          <a:stretch/>
        </p:blipFill>
        <p:spPr>
          <a:xfrm>
            <a:off x="2360520" y="620640"/>
            <a:ext cx="5040360" cy="59086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6"/>
          <p:cNvSpPr/>
          <p:nvPr/>
        </p:nvSpPr>
        <p:spPr>
          <a:xfrm>
            <a:off x="2161800" y="333360"/>
            <a:ext cx="55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нципіальна схема вихідних кіл контро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5" descr="7.JPG"/>
          <p:cNvPicPr/>
          <p:nvPr/>
        </p:nvPicPr>
        <p:blipFill>
          <a:blip r:embed="rId1"/>
          <a:stretch/>
        </p:blipFill>
        <p:spPr>
          <a:xfrm>
            <a:off x="566640" y="785880"/>
            <a:ext cx="8494920" cy="5940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9"/>
          <p:cNvSpPr/>
          <p:nvPr/>
        </p:nvSpPr>
        <p:spPr>
          <a:xfrm>
            <a:off x="1784160" y="2628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Електрична схема внутрішніх кіл системи кер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1:48:10Z</dcterms:created>
  <dc:creator/>
  <dc:description/>
  <dc:language>en-US</dc:language>
  <cp:lastModifiedBy>Dart_Vader</cp:lastModifiedBy>
  <dcterms:modified xsi:type="dcterms:W3CDTF">2015-03-22T09:19:12Z</dcterms:modified>
  <cp:revision>133</cp:revision>
  <dc:subject/>
  <dc:title> Міністерство освіти і науки, молоді та спорту України Вінницький національний технічний університет Інститут інформаційних технологій та комп’ютерної інженерії Факультет комп’ютерних систем та мереж Кафедра обчислювальної техніки </dc:title>
</cp:coreProperties>
</file>