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7947-1DF6-4E4C-83B6-DAA109A58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E4CC-2FE4-46E5-A1CC-697425C4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155F-C2EA-4A93-B41F-A49A1B591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C90E-7CA0-4EFE-A3BA-D19A66121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1AD7-BA6A-45FE-A1B4-B1C50E293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B343-9020-4D07-A3D7-EEBE5B04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0C9B-0BEF-4320-960C-4087D9AC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DF61-4688-4367-8EB6-E707A32E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DFD8-04A0-4951-A8F9-BF1A4D51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F0D8-C009-4A42-99A1-1719E260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6AEF-2F73-45D6-A925-CD5C54B6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2C36-7711-4883-9B72-FE61E857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E2F8-7B7F-4D76-906A-560FDCFC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E84E-451D-4C8B-B35E-34B6C48B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63AD-21FC-45A4-A204-CC2589EF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E461-327B-49B5-8E2E-C977D874C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0BC7-BEC5-496B-87D5-193AD58BB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0016-000F-4334-8E6D-E90D95D4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42BE-FE82-457A-8E28-5DAAF8BA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F6D6-5D98-4F09-AA9D-E2A251B5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09D4-C1FD-4E06-984D-4FD7DAFE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6B6B-02C6-47A7-9363-1B65CE6D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97EB-BE66-4EE6-9CC2-E94E6D91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FBDD-9D6E-46B3-BB58-A7F55894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7F19-129C-4BB5-A4B6-0FF4139B763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4269-84CF-44C0-BB7F-ACD330E0BF2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a.nauchebe.net/img/FFFFFB58i664.jpg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ТАННЯ ВСІМ ПРИСУТНІМ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90360" y="259056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ема дипломного проект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ОБКА ОБЧИСЛЮВАЛЬНОГО БЛОКУ ПРИСТРОЮ ВИМІРЮВАННЯ ПОТУЖНОСТІ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конав ст.гр.4К-13 Смішна В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НТУ 2015р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8001000" y="60199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lastslide"/>
          </p:cNvPr>
          <p:cNvSpPr/>
          <p:nvPr/>
        </p:nvSpPr>
        <p:spPr>
          <a:xfrm flipV="1">
            <a:off x="7162920" y="6019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6092" y="10800"/>
                </a:moveTo>
                <a:lnTo>
                  <a:pt x="5586" y="17806"/>
                </a:lnTo>
                <a:lnTo>
                  <a:pt x="5586" y="3794"/>
                </a:lnTo>
                <a:close/>
              </a:path>
              <a:path fill="darken" w="25186" h="21600">
                <a:moveTo>
                  <a:pt x="17937" y="3794"/>
                </a:moveTo>
                <a:lnTo>
                  <a:pt x="17937" y="17806"/>
                </a:lnTo>
                <a:lnTo>
                  <a:pt x="19599" y="17806"/>
                </a:lnTo>
                <a:lnTo>
                  <a:pt x="19599" y="3794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НЕ ЗАБЕЗПЕЧЕНН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робку та відлагодження програм-ного забезпечення проведено у сере-довищі AVR STUDIO. Моделювання роботи обчислювального блоку пристрою вимірювання потужності виконується в програмі моделювання Proteus 7 Professional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1676520" y="61722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11615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  <a:path fill="darken" w="30228" h="21600">
                <a:moveTo>
                  <a:pt x="8107" y="3794"/>
                </a:moveTo>
                <a:lnTo>
                  <a:pt x="9770" y="3794"/>
                </a:lnTo>
                <a:lnTo>
                  <a:pt x="9770" y="17806"/>
                </a:lnTo>
                <a:lnTo>
                  <a:pt x="8107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80010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lastslide"/>
          </p:cNvPr>
          <p:cNvSpPr/>
          <p:nvPr/>
        </p:nvSpPr>
        <p:spPr>
          <a:xfrm>
            <a:off x="70866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" action="ppaction://hlinkshowjump?jump=previousslide"/>
          </p:cNvPr>
          <p:cNvSpPr/>
          <p:nvPr/>
        </p:nvSpPr>
        <p:spPr>
          <a:xfrm>
            <a:off x="8380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НОВК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зроблено обчислювальний блок  пристрою вимірювання потужност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исано відповідне програмне забезпечення для мікроконтроле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дено тестування обчислювальний блок  пристрою вимірювання потужності пристро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далось розробити досить дешевий та обчислювальний блок  пристрою вимірювання потужност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1"/>
          </p:cNvPr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nextslide"/>
          </p:cNvPr>
          <p:cNvSpPr/>
          <p:nvPr/>
        </p:nvSpPr>
        <p:spPr>
          <a:xfrm>
            <a:off x="80010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firstslide"/>
          </p:cNvPr>
          <p:cNvSpPr/>
          <p:nvPr/>
        </p:nvSpPr>
        <p:spPr>
          <a:xfrm>
            <a:off x="1600200" y="62485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1625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9780" y="3794"/>
                </a:lnTo>
                <a:lnTo>
                  <a:pt x="9780" y="17806"/>
                </a:lnTo>
                <a:lnTo>
                  <a:pt x="8118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lastslide"/>
          </p:cNvPr>
          <p:cNvSpPr/>
          <p:nvPr/>
        </p:nvSpPr>
        <p:spPr>
          <a:xfrm>
            <a:off x="716292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previousslide"/>
          </p:cNvPr>
          <p:cNvSpPr/>
          <p:nvPr/>
        </p:nvSpPr>
        <p:spPr>
          <a:xfrm>
            <a:off x="8380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067760" y="2820240"/>
            <a:ext cx="7769880" cy="106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ДЯКУЮ ЗА УВАГУ!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" action="ppaction://hlinkshowjump?jump=previousslide"/>
          </p:cNvPr>
          <p:cNvSpPr/>
          <p:nvPr/>
        </p:nvSpPr>
        <p:spPr>
          <a:xfrm flipV="1">
            <a:off x="1066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19810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9103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7257" y="3794"/>
                </a:lnTo>
                <a:lnTo>
                  <a:pt x="7257" y="17806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ть технічної проблеми, що виникла на сучасному етапі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вень розвитку науки і техніки визначається рівнем розвитку вимірювальної техніки. Це ствердження випливає з ролі вимірювань як джерела найоб’єктивнішої інформації про навколишній матеріальний світ. У наш ч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снує багато пристроїв та методів для вимірю-вання потужності, але вони зазвичай дорогі або показують обмежену інформаці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previousslide"/>
          </p:cNvPr>
          <p:cNvSpPr/>
          <p:nvPr/>
        </p:nvSpPr>
        <p:spPr>
          <a:xfrm>
            <a:off x="990720" y="6172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10800"/>
                </a:moveTo>
                <a:lnTo>
                  <a:pt x="19599" y="3794"/>
                </a:lnTo>
                <a:lnTo>
                  <a:pt x="19599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8229600" y="60958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18288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lastslide"/>
          </p:cNvPr>
          <p:cNvSpPr/>
          <p:nvPr/>
        </p:nvSpPr>
        <p:spPr>
          <a:xfrm>
            <a:off x="72388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7902" y="10800"/>
                </a:moveTo>
                <a:lnTo>
                  <a:pt x="7396" y="17806"/>
                </a:lnTo>
                <a:lnTo>
                  <a:pt x="7396" y="3794"/>
                </a:lnTo>
                <a:close/>
              </a:path>
              <a:path fill="darken" w="28806" h="21600">
                <a:moveTo>
                  <a:pt x="19747" y="3794"/>
                </a:moveTo>
                <a:lnTo>
                  <a:pt x="19747" y="17806"/>
                </a:lnTo>
                <a:lnTo>
                  <a:pt x="21409" y="17806"/>
                </a:lnTo>
                <a:lnTo>
                  <a:pt x="21409" y="3794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ЗАДАЧІ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зробка схеми обчислювального блоку пристрою вимірювання потужност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зробка алгоритму функціонування обчислювального бло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зробка програмного забезпечення та моделювання роботи обчислювального блоку пристрою вимірювання потужност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99072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8305920" y="6172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1752480" y="62485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1625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9780" y="3794"/>
                </a:lnTo>
                <a:lnTo>
                  <a:pt x="9780" y="17806"/>
                </a:lnTo>
                <a:lnTo>
                  <a:pt x="8118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lastslide"/>
          </p:cNvPr>
          <p:cNvSpPr/>
          <p:nvPr/>
        </p:nvSpPr>
        <p:spPr>
          <a:xfrm>
            <a:off x="739152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кроконтролер сімейства AVR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76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mega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є високопродуктивним, малопотужним   8-розрядним мікроконтролером на основі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R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ширеної архітектур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C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иконуючи більшість інструкцій за 1 такт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mega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досягає потужності в 1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PS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 МГц. Це дозволяє оптимізувати енергоспоживання не лише самого мікроконтролера, але й розроблюваної на його основі системи, а також підтримувати гарний показник швидкоді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6" descr="12.jpg"/>
          <p:cNvPicPr/>
          <p:nvPr/>
        </p:nvPicPr>
        <p:blipFill>
          <a:blip r:embed="rId1"/>
          <a:srcRect l="13868" t="9044" r="18750" b="7522"/>
          <a:stretch/>
        </p:blipFill>
        <p:spPr>
          <a:xfrm>
            <a:off x="5867280" y="3886200"/>
            <a:ext cx="2935440" cy="242712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" action="ppaction://hlinkshowjump?jump=previousslide"/>
          </p:cNvPr>
          <p:cNvSpPr/>
          <p:nvPr/>
        </p:nvSpPr>
        <p:spPr>
          <a:xfrm>
            <a:off x="91440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7999560" y="6400800"/>
            <a:ext cx="687240" cy="457200"/>
          </a:xfrm>
          <a:custGeom>
            <a:avLst/>
            <a:gdLst>
              <a:gd name="textAreaLeft" fmla="*/ 29520 w 687240"/>
              <a:gd name="textAreaRight" fmla="*/ 657720 w 6872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459" h="21600">
                <a:moveTo>
                  <a:pt x="0" y="0"/>
                </a:moveTo>
                <a:lnTo>
                  <a:pt x="32459" y="0"/>
                </a:lnTo>
                <a:lnTo>
                  <a:pt x="32459" y="21600"/>
                </a:lnTo>
                <a:lnTo>
                  <a:pt x="0" y="21600"/>
                </a:lnTo>
                <a:close/>
              </a:path>
              <a:path fill="lightenLess" w="32459" h="21600">
                <a:moveTo>
                  <a:pt x="0" y="0"/>
                </a:moveTo>
                <a:lnTo>
                  <a:pt x="32459" y="0"/>
                </a:lnTo>
                <a:lnTo>
                  <a:pt x="31059" y="1400"/>
                </a:lnTo>
                <a:lnTo>
                  <a:pt x="1400" y="1400"/>
                </a:lnTo>
                <a:close/>
              </a:path>
              <a:path fill="darken" w="32459" h="21600">
                <a:moveTo>
                  <a:pt x="32459" y="0"/>
                </a:moveTo>
                <a:lnTo>
                  <a:pt x="32459" y="21600"/>
                </a:lnTo>
                <a:lnTo>
                  <a:pt x="31059" y="20200"/>
                </a:lnTo>
                <a:lnTo>
                  <a:pt x="31059" y="1400"/>
                </a:lnTo>
                <a:close/>
              </a:path>
              <a:path fill="darkenLess" w="32459" h="21600">
                <a:moveTo>
                  <a:pt x="324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59" y="20200"/>
                </a:lnTo>
                <a:close/>
              </a:path>
              <a:path fill="lighten" w="324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59" h="21600">
                <a:moveTo>
                  <a:pt x="9223" y="3794"/>
                </a:moveTo>
                <a:lnTo>
                  <a:pt x="23236" y="10800"/>
                </a:lnTo>
                <a:lnTo>
                  <a:pt x="9223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1752480" y="64008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0904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  <a:path fill="darken" w="28806" h="21600">
                <a:moveTo>
                  <a:pt x="7396" y="3794"/>
                </a:moveTo>
                <a:lnTo>
                  <a:pt x="9059" y="3794"/>
                </a:lnTo>
                <a:lnTo>
                  <a:pt x="9059" y="17806"/>
                </a:lnTo>
                <a:lnTo>
                  <a:pt x="7396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lastslide"/>
          </p:cNvPr>
          <p:cNvSpPr/>
          <p:nvPr/>
        </p:nvSpPr>
        <p:spPr>
          <a:xfrm>
            <a:off x="71629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труктурна схема МК сімейства AVR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514520" y="2362320"/>
          <a:ext cx="241776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2362320"/>
                    <a:ext cx="241776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о складу цих МК зазвичай входя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хема початкового запуску процесора (Res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енератор тактових імпульс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Центральний процес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м’ять програм (EEPROM і програмний інтерфей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м’ять даних 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соби вводу-виводу да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аймери, які фіксують кількість командних цикл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firstslide"/>
          </p:cNvPr>
          <p:cNvSpPr/>
          <p:nvPr/>
        </p:nvSpPr>
        <p:spPr>
          <a:xfrm>
            <a:off x="175248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1625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9780" y="3794"/>
                </a:lnTo>
                <a:lnTo>
                  <a:pt x="9780" y="17806"/>
                </a:lnTo>
                <a:lnTo>
                  <a:pt x="8118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83059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" action="ppaction://hlinkshowjump?jump=lastslide"/>
          </p:cNvPr>
          <p:cNvSpPr/>
          <p:nvPr/>
        </p:nvSpPr>
        <p:spPr>
          <a:xfrm>
            <a:off x="71629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91440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Функціональна схема обчислювального блоку пристрою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вимірювання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отужност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219320" y="2362320"/>
          <a:ext cx="66294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62320"/>
                    <a:ext cx="66294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>
            <a:hlinkClick r:id="" action="ppaction://hlinkshowjump?jump=firstslide"/>
          </p:cNvPr>
          <p:cNvSpPr/>
          <p:nvPr/>
        </p:nvSpPr>
        <p:spPr>
          <a:xfrm>
            <a:off x="18288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9103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7257" y="3794"/>
                </a:lnTo>
                <a:lnTo>
                  <a:pt x="7257" y="17806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8534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lastslide"/>
          </p:cNvPr>
          <p:cNvSpPr/>
          <p:nvPr/>
        </p:nvSpPr>
        <p:spPr>
          <a:xfrm>
            <a:off x="7467480" y="64008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7902" y="10800"/>
                </a:moveTo>
                <a:lnTo>
                  <a:pt x="7396" y="17806"/>
                </a:lnTo>
                <a:lnTo>
                  <a:pt x="7396" y="3794"/>
                </a:lnTo>
                <a:close/>
              </a:path>
              <a:path fill="darken" w="28806" h="21600">
                <a:moveTo>
                  <a:pt x="19747" y="3794"/>
                </a:moveTo>
                <a:lnTo>
                  <a:pt x="19747" y="17806"/>
                </a:lnTo>
                <a:lnTo>
                  <a:pt x="21409" y="17806"/>
                </a:lnTo>
                <a:lnTo>
                  <a:pt x="21409" y="3794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91440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функціональній схемі пристрою  зображе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ступні функціональні блоки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К, який забезпечує керування роботою всіх пристроїв схе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ок живлення, що забезпечує безперебійне живлення всіх компонентів схем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індикатори, які відображають парамет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182880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9103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7257" y="3794"/>
                </a:lnTo>
                <a:lnTo>
                  <a:pt x="7257" y="17806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80010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lastslide"/>
          </p:cNvPr>
          <p:cNvSpPr/>
          <p:nvPr/>
        </p:nvSpPr>
        <p:spPr>
          <a:xfrm>
            <a:off x="70866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previousslide"/>
          </p:cNvPr>
          <p:cNvSpPr/>
          <p:nvPr/>
        </p:nvSpPr>
        <p:spPr>
          <a:xfrm>
            <a:off x="99072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491720" y="834120"/>
            <a:ext cx="41223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Блок – схема алгоритму функціонування обчислювального блоку пристрою вимірювання потужності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3581280" cy="647712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4648320" y="6172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9094" y="10800"/>
                </a:moveTo>
                <a:lnTo>
                  <a:pt x="19599" y="3794"/>
                </a:lnTo>
                <a:lnTo>
                  <a:pt x="19599" y="17806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7249" y="3794"/>
                </a:lnTo>
                <a:lnTo>
                  <a:pt x="7249" y="17806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80010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" action="ppaction://hlinkshowjump?jump=lastslide"/>
          </p:cNvPr>
          <p:cNvSpPr/>
          <p:nvPr/>
        </p:nvSpPr>
        <p:spPr>
          <a:xfrm>
            <a:off x="72388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7902" y="10800"/>
                </a:moveTo>
                <a:lnTo>
                  <a:pt x="7396" y="17806"/>
                </a:lnTo>
                <a:lnTo>
                  <a:pt x="7396" y="3794"/>
                </a:lnTo>
                <a:close/>
              </a:path>
              <a:path fill="darken" w="28806" h="21600">
                <a:moveTo>
                  <a:pt x="19747" y="3794"/>
                </a:moveTo>
                <a:lnTo>
                  <a:pt x="19747" y="17806"/>
                </a:lnTo>
                <a:lnTo>
                  <a:pt x="21409" y="17806"/>
                </a:lnTo>
                <a:lnTo>
                  <a:pt x="21409" y="3794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previousslide"/>
          </p:cNvPr>
          <p:cNvSpPr/>
          <p:nvPr/>
        </p:nvSpPr>
        <p:spPr>
          <a:xfrm>
            <a:off x="54100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148400" y="844200"/>
            <a:ext cx="7455960" cy="11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кази мікропроцесорного блоку цифрового ватметра після опрацювання вхідного сигнал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1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6558120" cy="411480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4572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9103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7257" y="3794"/>
                </a:lnTo>
                <a:lnTo>
                  <a:pt x="7257" y="17806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8305920" y="57913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lastslide"/>
          </p:cNvPr>
          <p:cNvSpPr/>
          <p:nvPr/>
        </p:nvSpPr>
        <p:spPr>
          <a:xfrm>
            <a:off x="822960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LENTINA</cp:lastModifiedBy>
  <dcterms:modified xsi:type="dcterms:W3CDTF">2015-03-23T17:54:38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