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AED5-561B-4B3E-81A3-05E6F177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7323-961E-4D61-9DA9-C45872D4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1C78-CDB8-49AA-A42F-22127B50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6D51-8E3C-4DB5-B1FD-1114FDC6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C058-9CB7-480B-AB8C-4C51CE2D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FC17-DAD6-4639-977C-649BFB63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EECB-3DFD-4DA9-8C5A-286C04E5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55C6-116C-4942-B7D4-E638B6CD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CB72-5F4F-44FC-BB77-798C06AF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44C4-FF2F-498A-9355-4DFD2737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1A21-C022-4822-B347-3423DE5D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1C33-A4A5-4A50-821F-9FC08233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D65B-8D48-4FBF-84E3-0F93601F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B590-766D-44D8-997D-5A9DAAEE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C62D-1827-404E-8E40-3CCC1EAA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E103-D00A-48F1-88B0-23EB0398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A0FD-453A-4918-B823-F06465A7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6C52-0B4C-4336-B8FD-F3E9219C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47C8-5CFA-4292-8AF2-1B437FB4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655-72A2-41B2-9C77-32D00CCA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E743-741D-4E5A-8F4A-041F25DE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EC56-7FDD-4A24-AA77-F4C3AB1A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CC99-5C96-4ADB-8D52-5EE6A415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8560-37BE-4EDF-8519-FCAE3FBD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291A-0D96-4064-A543-EBE22EDB4A5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E6F0-3096-4F46-88A8-158C4548FEC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a.nauchebe.net/img/FFFFFB58i664.jpg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ТАННЯ ВСІМ ПРИСУТНІМ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90360" y="25905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ема дипломного проект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ОБКА ОБЧИСЛЮВАЛЬНОГО БЛОКУ ПРИСТРОЮ ВИМІРЮВАННЯ ПОТУЖНОСТ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конав ст.гр.4К-13 Смішна В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НТУ 2015р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80010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lastslide"/>
          </p:cNvPr>
          <p:cNvSpPr/>
          <p:nvPr/>
        </p:nvSpPr>
        <p:spPr>
          <a:xfrm flipV="1">
            <a:off x="71629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НЕ ЗАБЕЗПЕЧЕНН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робку та відлагодження програм-ного забезпечення проведено у сере-довищі AVR STUDIO. Моделювання роботи обчислювального блоку пристрою вимірювання потужності виконується в програмі моделювання Proteus 7 Professional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1676520" y="61722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1615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9770" y="3794"/>
                </a:lnTo>
                <a:lnTo>
                  <a:pt x="9770" y="17806"/>
                </a:lnTo>
                <a:lnTo>
                  <a:pt x="8107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lastslide"/>
          </p:cNvPr>
          <p:cNvSpPr/>
          <p:nvPr/>
        </p:nvSpPr>
        <p:spPr>
          <a:xfrm>
            <a:off x="7086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8380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К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зроблено обчислювальний блок  пристрою вимірювання потужност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сано відповідне програмне забезпечення для мікроконтроле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о тестування обчислювальний блок  пристрою вимірювання потужності пристро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далось розробити досить дешевий та обчислювальний блок  пристрою вимірювання потужно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1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160020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1625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9780" y="3794"/>
                </a:lnTo>
                <a:lnTo>
                  <a:pt x="9780" y="17806"/>
                </a:lnTo>
                <a:lnTo>
                  <a:pt x="811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lastslide"/>
          </p:cNvPr>
          <p:cNvSpPr/>
          <p:nvPr/>
        </p:nvSpPr>
        <p:spPr>
          <a:xfrm>
            <a:off x="71629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8380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067760" y="2820240"/>
            <a:ext cx="7769880" cy="10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 flipV="1">
            <a:off x="1066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19810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технічної проблеми, що виникла на сучасному етапі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вень розвитку науки і техніки визначається рівнем розвитку вимірювальної техніки. Це ствердження випливає з ролі вимірювань як джерела найоб’єктивнішої інформації про навколишній матеріальний світ. У наш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нує багато пристроїв та методів для вимірю-вання потужності, але вони зазвичай дорогі або показують обмежену інформаці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9907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18288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lastslide"/>
          </p:cNvPr>
          <p:cNvSpPr/>
          <p:nvPr/>
        </p:nvSpPr>
        <p:spPr>
          <a:xfrm>
            <a:off x="72388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7902" y="10800"/>
                </a:moveTo>
                <a:lnTo>
                  <a:pt x="7396" y="17806"/>
                </a:lnTo>
                <a:lnTo>
                  <a:pt x="7396" y="3794"/>
                </a:lnTo>
                <a:close/>
              </a:path>
              <a:path fill="darken" w="28806" h="21600">
                <a:moveTo>
                  <a:pt x="19747" y="3794"/>
                </a:moveTo>
                <a:lnTo>
                  <a:pt x="19747" y="17806"/>
                </a:lnTo>
                <a:lnTo>
                  <a:pt x="21409" y="17806"/>
                </a:lnTo>
                <a:lnTo>
                  <a:pt x="21409" y="379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ЗАДАЧІ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робка схеми обчислювального блоку пристрою вимірювання потужно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робка алгоритму функціонування обчислювального бло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робка програмного забезпечення та моделювання роботи обчислювального блоку пристрою вимірювання потужно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9907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175248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1625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9780" y="3794"/>
                </a:lnTo>
                <a:lnTo>
                  <a:pt x="9780" y="17806"/>
                </a:lnTo>
                <a:lnTo>
                  <a:pt x="811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lastslide"/>
          </p:cNvPr>
          <p:cNvSpPr/>
          <p:nvPr/>
        </p:nvSpPr>
        <p:spPr>
          <a:xfrm>
            <a:off x="73915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кроконтролер сімейства AVR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ega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є високопродуктивним, малопотужним   8-розрядним мікроконтролером на основі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R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ширеної архітектур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C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иконуючи більшість інструкцій за 1 так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ega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досягає потужності в 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PS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 МГц. Це дозволяє оптимізувати енергоспоживання не лише самого мікроконтролера, але й розроблюваної на його основі системи, а також підтримувати гарний показник швидкод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6" descr="12.jpg"/>
          <p:cNvPicPr/>
          <p:nvPr/>
        </p:nvPicPr>
        <p:blipFill>
          <a:blip r:embed="rId1"/>
          <a:srcRect l="13868" t="9044" r="18750" b="7522"/>
          <a:stretch/>
        </p:blipFill>
        <p:spPr>
          <a:xfrm>
            <a:off x="5867280" y="3886200"/>
            <a:ext cx="2935440" cy="242712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91440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7999560" y="6400800"/>
            <a:ext cx="687240" cy="457200"/>
          </a:xfrm>
          <a:custGeom>
            <a:avLst/>
            <a:gdLst>
              <a:gd name="textAreaLeft" fmla="*/ 29520 w 687240"/>
              <a:gd name="textAreaRight" fmla="*/ 657720 w 6872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459" h="21600">
                <a:moveTo>
                  <a:pt x="0" y="0"/>
                </a:moveTo>
                <a:lnTo>
                  <a:pt x="32459" y="0"/>
                </a:lnTo>
                <a:lnTo>
                  <a:pt x="32459" y="21600"/>
                </a:lnTo>
                <a:lnTo>
                  <a:pt x="0" y="21600"/>
                </a:lnTo>
                <a:close/>
              </a:path>
              <a:path fill="lightenLess" w="32459" h="21600">
                <a:moveTo>
                  <a:pt x="0" y="0"/>
                </a:moveTo>
                <a:lnTo>
                  <a:pt x="32459" y="0"/>
                </a:lnTo>
                <a:lnTo>
                  <a:pt x="31059" y="1400"/>
                </a:lnTo>
                <a:lnTo>
                  <a:pt x="1400" y="1400"/>
                </a:lnTo>
                <a:close/>
              </a:path>
              <a:path fill="darken" w="32459" h="21600">
                <a:moveTo>
                  <a:pt x="32459" y="0"/>
                </a:moveTo>
                <a:lnTo>
                  <a:pt x="32459" y="21600"/>
                </a:lnTo>
                <a:lnTo>
                  <a:pt x="31059" y="20200"/>
                </a:lnTo>
                <a:lnTo>
                  <a:pt x="31059" y="1400"/>
                </a:lnTo>
                <a:close/>
              </a:path>
              <a:path fill="darkenLess" w="32459" h="21600">
                <a:moveTo>
                  <a:pt x="32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59" y="20200"/>
                </a:lnTo>
                <a:close/>
              </a:path>
              <a:path fill="lighten" w="32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59" h="21600">
                <a:moveTo>
                  <a:pt x="9223" y="3794"/>
                </a:moveTo>
                <a:lnTo>
                  <a:pt x="23236" y="10800"/>
                </a:lnTo>
                <a:lnTo>
                  <a:pt x="9223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1752480" y="64008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0904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9059" y="3794"/>
                </a:lnTo>
                <a:lnTo>
                  <a:pt x="9059" y="17806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lastslide"/>
          </p:cNvPr>
          <p:cNvSpPr/>
          <p:nvPr/>
        </p:nvSpPr>
        <p:spPr>
          <a:xfrm>
            <a:off x="71629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труктурна схема МК сімейства AVR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14520" y="2362320"/>
          <a:ext cx="241776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2362320"/>
                    <a:ext cx="241776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 складу цих МК зазвичай входя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хема початкового запуску процесора (Re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енератор тактових імпуль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ентральний проце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м’ять програм (EEPROM і програмний інтерфей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м’ять даних 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соби вводу-виводу да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ймери, які фіксують кількість командних цик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1752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1625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9780" y="3794"/>
                </a:lnTo>
                <a:lnTo>
                  <a:pt x="9780" y="17806"/>
                </a:lnTo>
                <a:lnTo>
                  <a:pt x="811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3059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lastslide"/>
          </p:cNvPr>
          <p:cNvSpPr/>
          <p:nvPr/>
        </p:nvSpPr>
        <p:spPr>
          <a:xfrm>
            <a:off x="71629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91440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Функціональна схема обчислювального блоку пристрою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вимірювання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тужност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219320" y="2362320"/>
          <a:ext cx="66294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62320"/>
                    <a:ext cx="66294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18288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lastslide"/>
          </p:cNvPr>
          <p:cNvSpPr/>
          <p:nvPr/>
        </p:nvSpPr>
        <p:spPr>
          <a:xfrm>
            <a:off x="7467480" y="64008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7902" y="10800"/>
                </a:moveTo>
                <a:lnTo>
                  <a:pt x="7396" y="17806"/>
                </a:lnTo>
                <a:lnTo>
                  <a:pt x="7396" y="3794"/>
                </a:lnTo>
                <a:close/>
              </a:path>
              <a:path fill="darken" w="28806" h="21600">
                <a:moveTo>
                  <a:pt x="19747" y="3794"/>
                </a:moveTo>
                <a:lnTo>
                  <a:pt x="19747" y="17806"/>
                </a:lnTo>
                <a:lnTo>
                  <a:pt x="21409" y="17806"/>
                </a:lnTo>
                <a:lnTo>
                  <a:pt x="21409" y="379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91440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функціональній схемі пристрою  зображе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тупні функціональні блоки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К, який забезпечує керування роботою всіх пристроїв схе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живлення, що забезпечує безперебійне живлення всіх компонентів схе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індикатори, які відображають парамет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18288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lastslide"/>
          </p:cNvPr>
          <p:cNvSpPr/>
          <p:nvPr/>
        </p:nvSpPr>
        <p:spPr>
          <a:xfrm>
            <a:off x="7086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previousslide"/>
          </p:cNvPr>
          <p:cNvSpPr/>
          <p:nvPr/>
        </p:nvSpPr>
        <p:spPr>
          <a:xfrm>
            <a:off x="9907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491720" y="834120"/>
            <a:ext cx="41223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Блок – схема алгоритму функціонування обчислювального блоку пристрою вимірювання потужності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3581280" cy="647712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46483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9094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7249" y="3794"/>
                </a:lnTo>
                <a:lnTo>
                  <a:pt x="7249" y="17806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lastslide"/>
          </p:cNvPr>
          <p:cNvSpPr/>
          <p:nvPr/>
        </p:nvSpPr>
        <p:spPr>
          <a:xfrm>
            <a:off x="72388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7902" y="10800"/>
                </a:moveTo>
                <a:lnTo>
                  <a:pt x="7396" y="17806"/>
                </a:lnTo>
                <a:lnTo>
                  <a:pt x="7396" y="3794"/>
                </a:lnTo>
                <a:close/>
              </a:path>
              <a:path fill="darken" w="28806" h="21600">
                <a:moveTo>
                  <a:pt x="19747" y="3794"/>
                </a:moveTo>
                <a:lnTo>
                  <a:pt x="19747" y="17806"/>
                </a:lnTo>
                <a:lnTo>
                  <a:pt x="21409" y="17806"/>
                </a:lnTo>
                <a:lnTo>
                  <a:pt x="21409" y="379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54100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148400" y="844200"/>
            <a:ext cx="7455960" cy="11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кази мікропроцесорного блоку цифрового ватметра після опрацювання вхідного сигнал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1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558120" cy="411480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4572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8305920" y="57913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lastslide"/>
          </p:cNvPr>
          <p:cNvSpPr/>
          <p:nvPr/>
        </p:nvSpPr>
        <p:spPr>
          <a:xfrm>
            <a:off x="822960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ENTINA</cp:lastModifiedBy>
  <dcterms:modified xsi:type="dcterms:W3CDTF">2015-03-23T17:54:3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