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31D-3885-48C8-8EF1-C915A9CC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612-EDAF-42DB-AAE7-1E68593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9D3-9EE0-48B4-8A03-0E2723D7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EBF-7A14-4E97-9258-A90FBE52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79D-D241-4E26-A924-2D207C8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81D-92BB-4D15-ADAF-96BCE1B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D39-1121-4843-B33E-DC39199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355-B7DD-4390-AC95-604F932B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ABC-74AA-4302-95A5-3A27970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C27-5E5A-47EC-8CFF-A0F4F3FB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8E8-AADC-46D7-A9AA-CF2AF53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BC9-8329-456B-92E1-DC3C259E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AD5-ED87-4FCB-B956-F04B1C94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milnyk.osp-ua.info/index.php" TargetMode="External"/><Relationship Id="rId2" Type="http://schemas.openxmlformats.org/officeDocument/2006/relationships/hyperlink" Target="http://hmilnyk.osp-ua.info/index.php" TargetMode="External"/><Relationship Id="rId3" Type="http://schemas.openxmlformats.org/officeDocument/2006/relationships/hyperlink" Target="http://hmilnyk.osp-ua.info/index.php" TargetMode="External"/><Relationship Id="rId4" Type="http://schemas.openxmlformats.org/officeDocument/2006/relationships/hyperlink" Target="http://hmilnyk.osp-ua.info/?ch=5&amp;fl=pidpr" TargetMode="External"/><Relationship Id="rId5" Type="http://schemas.openxmlformats.org/officeDocument/2006/relationships/hyperlink" Target="http://hmilnyk.osp-ua.info/?ch=5&amp;fl=pidpr" TargetMode="External"/><Relationship Id="rId6" Type="http://schemas.openxmlformats.org/officeDocument/2006/relationships/hyperlink" Target="http://hmilnyk.osp-ua.info/?ch=5&amp;fl=pidpr" TargetMode="External"/><Relationship Id="rId7" Type="http://schemas.openxmlformats.org/officeDocument/2006/relationships/hyperlink" Target="http://yellow.com.ua/" TargetMode="External"/><Relationship Id="rId8" Type="http://schemas.openxmlformats.org/officeDocument/2006/relationships/hyperlink" Target="http://yellow.com.ua/" TargetMode="External"/><Relationship Id="rId9" Type="http://schemas.openxmlformats.org/officeDocument/2006/relationships/hyperlink" Target="http://yellow.com.ua/" TargetMode="External"/><Relationship Id="rId10" Type="http://schemas.openxmlformats.org/officeDocument/2006/relationships/hyperlink" Target="http://yellow.com.ua/" TargetMode="External"/><Relationship Id="rId11" Type="http://schemas.openxmlformats.org/officeDocument/2006/relationships/hyperlink" Target="http://yellow.com.ua/company.aspx?c=12472" TargetMode="External"/><Relationship Id="rId12" Type="http://schemas.openxmlformats.org/officeDocument/2006/relationships/hyperlink" Target="http://yellow.com.ua/company.aspx?c=12472" TargetMode="External"/><Relationship Id="rId13" Type="http://schemas.openxmlformats.org/officeDocument/2006/relationships/hyperlink" Target="http://yellow.com.ua/company.aspx?c=12472" TargetMode="External"/><Relationship Id="rId14" Type="http://schemas.openxmlformats.org/officeDocument/2006/relationships/hyperlink" Target="http://yellow.com.ua/company.aspx?c=12472" TargetMode="External"/><Relationship Id="rId15" Type="http://schemas.openxmlformats.org/officeDocument/2006/relationships/hyperlink" Target="http://yellow.com.ua/company.aspx?c=12472" TargetMode="External"/><Relationship Id="rId16" Type="http://schemas.openxmlformats.org/officeDocument/2006/relationships/hyperlink" Target="http://yellow.com.ua/company.aspx?c=12472" TargetMode="External"/><Relationship Id="rId17" Type="http://schemas.openxmlformats.org/officeDocument/2006/relationships/hyperlink" Target="http://project.ukrinform.ua/" TargetMode="External"/><Relationship Id="rId18" Type="http://schemas.openxmlformats.org/officeDocument/2006/relationships/hyperlink" Target="http://project.ukrinform.ua/" TargetMode="External"/><Relationship Id="rId19" Type="http://schemas.openxmlformats.org/officeDocument/2006/relationships/hyperlink" Target="http://project.ukrinform.ua/" TargetMode="Externa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9080" y="3808080"/>
            <a:ext cx="92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ВИЩЕННЯ ЕФЕКТИВНОСТІ РЕКЛАМНОЇ ДІЯЛЬНОСТ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ПРИЄМ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СОБАМИ ІНТЕРНЕТ-ТЕХНОЛОГ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6480" y="5029200"/>
            <a:ext cx="437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в: студент 1 курсу, групи МОі-14с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монс А. 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к.е.н., ст. викл. каф. МБІ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ронова Ю.В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720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50000">
              <a:srgbClr val="ffff99"/>
            </a:gs>
            <a:gs pos="100000">
              <a:srgbClr val="7daa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53360" y="303840"/>
            <a:ext cx="73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0 – Характеристика інтернет-реклами ПАТ «Х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ицька швейна фабрика «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609480"/>
          <a:ext cx="8215560" cy="6121440"/>
        </p:xfrm>
        <a:graphic>
          <a:graphicData uri="http://schemas.openxmlformats.org/drawingml/2006/table">
            <a:tbl>
              <a:tblPr/>
              <a:tblGrid>
                <a:gridCol w="1470240"/>
                <a:gridCol w="1828800"/>
                <a:gridCol w="2328840"/>
                <a:gridCol w="2587680"/>
              </a:tblGrid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сай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 сай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досту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іційний сайт м. Хмі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://hmilnyk.osp-ua.info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ndex.p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://hmilnyk.osp-ua.info/?ch=5&amp;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fl=pi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розділі «Економіка і бізнес», серед 69 перерахованих підприємств і організацій  міста наведено коротку інформацію про П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ог підприємств Укра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yellow.com.ua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yellow.com.ua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company.aspx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?c=12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 підприємств наведено коротк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лова У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project.ukrinform.ua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project.ukrinform.ua/company/quothmilnycka_shveina_fabryka_quotlileyaquot_62748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талозі підприємств України наведено коротк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ідний бізнес-каталог підприємств та організацій України «Бізнес-Гі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business-guide.com.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lileya.business-guide.com.ua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 наведено основн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 даних українських підприєм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a-region.com.ua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a-region.com.ua/00308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 описано основні види послуг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75280" cy="3733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67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59000" y="919080"/>
            <a:ext cx="6427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4160" y="1481040"/>
            <a:ext cx="6295680" cy="389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довження табл.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4960" y="29520"/>
            <a:ext cx="670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4 − Загальні показники комунікаційної ефективності електронного ресурс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434880"/>
          <a:ext cx="8228160" cy="6203880"/>
        </p:xfrm>
        <a:graphic>
          <a:graphicData uri="http://schemas.openxmlformats.org/drawingml/2006/table">
            <a:tbl>
              <a:tblPr/>
              <a:tblGrid>
                <a:gridCol w="457200"/>
                <a:gridCol w="1455840"/>
                <a:gridCol w="631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ч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імені сайту його тематичному спрямуванню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е знаходження ресурсу в мережі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ість доступу до ресурсу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лодобова робота сайту (цілодобове адмініструванн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ність завантаження та відтворення сторінок сай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ормаційне наповн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наданої інформації інтересам цільової аудиторі 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ю сай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граматичних та стилістичних помилок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ота й достовірність поданої інформації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єчасне періодичне оновлення даних (актуальність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додаткової інформ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іга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ічна структура організації сайту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ість посилань та їх відповідність зміс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учність та простота користування навігацією (відсутність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розумілої термінології, ясність призначення сторінок тощ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сть графіки та її завантаженн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ечність та прийнятність стилю і кольорів, їх відповідність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овим цілям підприєм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учність макету сторінок, ефективне використання простору сторін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ість сприйняття інтерфейсу та тексту (читабельні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рактив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контактної інформації, різні варіанти зв’яз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додаткових сервісів (форуми, чати, конференції, гостьові книги, опитування тощо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ога користувачам (віртуальні менеджери / продавці, дані 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ії щодо вибору товару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ість реагування на запити клієнтів (прийом замовлень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і на можливі запитанн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зні форми електронної комерції (варіанти оплати товару, його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304920"/>
          <a:ext cx="8686800" cy="6381720"/>
        </p:xfrm>
        <a:graphic>
          <a:graphicData uri="http://schemas.openxmlformats.org/drawingml/2006/table">
            <a:tbl>
              <a:tblPr/>
              <a:tblGrid>
                <a:gridCol w="1773360"/>
                <a:gridCol w="6913440"/>
              </a:tblGrid>
              <a:tr h="22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Актуаль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ня в Україні ринкових відносин здійснюється на засадах формування споживчо-орієнтованої економіки. Ключового значення для підвищення конкурентоздатності вітчизняних підприємств при цьому набуває активізація їх маркетингової діяльності, однією з найважливіших складових якої є реклама. На відміну від підприємств країн з розвинутою економікою, вітчизняні підприємства не мають достатнього досвіду і традицій щодо реклами, яка почала своє становлення як окрема сфера економіки лише із здобуттям Україною незалежності. Тому розробка методологічних та методичних засад рекламної діяльності набуває сьогодні значної актуальност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М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сконалення ефективності рекламної діяльності підприємства засобами Інтернет-технолог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дослідити теоретичні основи організації та управління рекламною діяльністю в умовах ринкового реформування економі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изначити економічний зміст, структуру, послідовність розробки та реалізації рекламної кампанії підприєм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проаналізувати особливості  інформаційного забезпечення рекламної  діяль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проаналізувати фінансово-господарську діяльність ПАТ «Хмiльницька швейна фабрика «Лiлея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дати оцінку ефективності рекламної діяльності підприємства ПАТ «Хмiльницька швейна фабрика «Лiлея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розробити рекомендації щодо удосконалення процесу управління рекламною діяльністю для підвищення ефективності господарю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Об’є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 управління маркетинговою та рекламною діяльністю підприєм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ні та прикладні підходи до управління рекламною діяльністю підприємств засобами Інтернет-технолог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64960" y="2284920"/>
            <a:ext cx="33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нок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−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Значення терміну «реклам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52280"/>
            <a:ext cx="5653080" cy="1932120"/>
            <a:chOff x="1295280" y="152280"/>
            <a:chExt cx="5653080" cy="193212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52280"/>
              <a:ext cx="5653080" cy="1932120"/>
              <a:chOff x="1295280" y="152280"/>
              <a:chExt cx="5653080" cy="1932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754920"/>
                <a:ext cx="1271880" cy="64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Значення терміну «реклама»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24080" y="152280"/>
                <a:ext cx="3824280" cy="60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РОДУКТ – це візуальне сприйняття споживачами рекламних звернень з екранів телевізорів та шпальт газет або слухове сприйняття з радіоприймачів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124080" y="952200"/>
                <a:ext cx="3824280" cy="42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РОЦЕС – це логічна послідовність етапів створення рекламного продукту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24080" y="1523880"/>
                <a:ext cx="3824280" cy="5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ІНФОРМАЦІЙНИЙ РЕСУРС ПІДПРИЄМСТВА – це інформаційні   потоки, спрямовані на формування поведінки споживачів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" name=""/>
              <p:cNvCxnSpPr/>
              <p:nvPr/>
            </p:nvCxnSpPr>
            <p:spPr>
              <a:xfrm>
                <a:off x="2837520" y="444600"/>
                <a:ext cx="1080" cy="143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"/>
              <p:cNvCxnSpPr/>
              <p:nvPr/>
            </p:nvCxnSpPr>
            <p:spPr>
              <a:xfrm>
                <a:off x="2567160" y="1073160"/>
                <a:ext cx="505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2837880" y="444600"/>
              <a:ext cx="234360" cy="1438200"/>
              <a:chOff x="2837880" y="444600"/>
              <a:chExt cx="234360" cy="1438200"/>
            </a:xfrm>
          </p:grpSpPr>
          <p:cxnSp>
            <p:nvCxnSpPr>
              <p:cNvPr id="55" name=""/>
              <p:cNvCxnSpPr/>
              <p:nvPr/>
            </p:nvCxnSpPr>
            <p:spPr>
              <a:xfrm>
                <a:off x="2837880" y="1882080"/>
                <a:ext cx="234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/>
              <p:nvPr/>
            </p:nvCxnSpPr>
            <p:spPr>
              <a:xfrm>
                <a:off x="2837880" y="444600"/>
                <a:ext cx="234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7" name=""/>
          <p:cNvSpPr/>
          <p:nvPr/>
        </p:nvSpPr>
        <p:spPr>
          <a:xfrm>
            <a:off x="3063600" y="2589840"/>
            <a:ext cx="32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 − Класифікація видів рекл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3048120"/>
          <a:ext cx="7848720" cy="3402000"/>
        </p:xfrm>
        <a:graphic>
          <a:graphicData uri="http://schemas.openxmlformats.org/drawingml/2006/table">
            <a:tbl>
              <a:tblPr/>
              <a:tblGrid>
                <a:gridCol w="1447920"/>
                <a:gridCol w="6400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фікацій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рек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ет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0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ормувальна,  нагадувальна,  спонукаль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редм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 товару,  реклама підприємства,  реклама події,  реклама ідеї,  реклама особ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уб’є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 імені виробника,  від уряду,  від приватної особи, від партій, організацій,  від торгового посеред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осі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візійна,  радіореклама,  газетна,  журнальна, зовнішня, на транспорті,  в місцях продажу,  пряма поштова,  сувенірна,  в довідниках,   друкована,  через Інтерн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б’є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поживча,  професійна,  торго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географічним охоплен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а,   регіональна,  національна, інтернаціональ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-152280"/>
            <a:ext cx="5334120" cy="32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3019320"/>
            <a:ext cx="6751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457200"/>
          <a:ext cx="73152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3152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2560" y="4569120"/>
            <a:ext cx="39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− Фактори, які впливають на величин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ого бюдже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3840" y="-1080"/>
            <a:ext cx="80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3 – Порівняльна характеристика програмних продуктів управління маркетингом та рекламо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255600"/>
          <a:ext cx="8472600" cy="6602400"/>
        </p:xfrm>
        <a:graphic>
          <a:graphicData uri="http://schemas.openxmlformats.org/drawingml/2006/table">
            <a:tbl>
              <a:tblPr/>
              <a:tblGrid>
                <a:gridCol w="858960"/>
                <a:gridCol w="2422440"/>
                <a:gridCol w="789120"/>
                <a:gridCol w="880920"/>
                <a:gridCol w="879480"/>
                <a:gridCol w="880920"/>
                <a:gridCol w="879480"/>
                <a:gridCol w="8812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, методи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"БЕСТ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keting-Exp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тег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ien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Expert-Маркет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лактика-Маркет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инку това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конкурентнозда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з і аналіз прод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изи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інський обл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ця з постійними кліє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ування маркетингов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іння рекламною діяльніст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ефективності рек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и маркетингу, що використовую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гментація ри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WOT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tfolio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AP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ь Розенбер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4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тегії Анзоф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0600" y="497520"/>
            <a:ext cx="69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4 − Основні фінансово-економічні показники діяльності підприємства, тис. гр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803160"/>
          <a:ext cx="9145440" cy="5556240"/>
        </p:xfrm>
        <a:graphic>
          <a:graphicData uri="http://schemas.openxmlformats.org/drawingml/2006/table">
            <a:tbl>
              <a:tblPr/>
              <a:tblGrid>
                <a:gridCol w="1687680"/>
                <a:gridCol w="996840"/>
                <a:gridCol w="852480"/>
                <a:gridCol w="866880"/>
                <a:gridCol w="1252440"/>
                <a:gridCol w="1176120"/>
                <a:gridCol w="1181160"/>
                <a:gridCol w="11318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        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нос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нос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истий дохід від реал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бівартість реалізовано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66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48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93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5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алов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інансовий результат від операційн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інансовий результат від звичайної діяльності до опода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Чист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алюта балан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лас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Залуче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040" y="716400"/>
            <a:ext cx="39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5 – Аналіз рентабельності підприєм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22400"/>
          <a:ext cx="9144000" cy="2805120"/>
        </p:xfrm>
        <a:graphic>
          <a:graphicData uri="http://schemas.openxmlformats.org/drawingml/2006/table">
            <a:tbl>
              <a:tblPr/>
              <a:tblGrid>
                <a:gridCol w="2016000"/>
                <a:gridCol w="1640160"/>
                <a:gridCol w="777600"/>
                <a:gridCol w="777960"/>
                <a:gridCol w="795240"/>
                <a:gridCol w="1568520"/>
                <a:gridCol w="15685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е зна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і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е влас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е продаж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і витр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94040" y="3839400"/>
            <a:ext cx="361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6 − Аналіз ліквідності підприєм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4224240"/>
          <a:ext cx="9142560" cy="2098800"/>
        </p:xfrm>
        <a:graphic>
          <a:graphicData uri="http://schemas.openxmlformats.org/drawingml/2006/table">
            <a:tbl>
              <a:tblPr/>
              <a:tblGrid>
                <a:gridCol w="2462040"/>
                <a:gridCol w="1441800"/>
                <a:gridCol w="782640"/>
                <a:gridCol w="664920"/>
                <a:gridCol w="943200"/>
                <a:gridCol w="1376280"/>
                <a:gridCol w="1471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е зна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покри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швидкої 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-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абсолютної 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ий оборотний капітал, 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daa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5200" y="410400"/>
            <a:ext cx="30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7 – Фактори впливу на поп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09760" y="0"/>
          <a:ext cx="5934240" cy="3335400"/>
        </p:xfrm>
        <a:graphic>
          <a:graphicData uri="http://schemas.openxmlformats.org/drawingml/2006/table">
            <a:tbl>
              <a:tblPr/>
              <a:tblGrid>
                <a:gridCol w="727200"/>
                <a:gridCol w="520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фак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споживач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іжна спроможність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ікування споживач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нових підприємств – конкурен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ельність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и на супутні тов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ці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е положення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пори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ткість рин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9960" y="3610800"/>
            <a:ext cx="225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8 – Матриця балі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90920" y="3398760"/>
          <a:ext cx="6553080" cy="3308400"/>
        </p:xfrm>
        <a:graphic>
          <a:graphicData uri="http://schemas.openxmlformats.org/drawingml/2006/table">
            <a:tbl>
              <a:tblPr/>
              <a:tblGrid>
                <a:gridCol w="855720"/>
                <a:gridCol w="887400"/>
                <a:gridCol w="877680"/>
                <a:gridCol w="881280"/>
                <a:gridCol w="882360"/>
                <a:gridCol w="878040"/>
                <a:gridCol w="12906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ям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алів, що надана напрямку експер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й б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0:55:06Z</dcterms:created>
  <dc:creator>Kote Koteee</dc:creator>
  <dc:description/>
  <dc:language>en-US</dc:language>
  <cp:lastModifiedBy>kote1985@outlook.com</cp:lastModifiedBy>
  <dcterms:modified xsi:type="dcterms:W3CDTF">2015-06-03T11:31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