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093-908F-4B5B-B1CE-C732ECD0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01F-0867-400C-9DEA-74ED8B56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CDF-DC9C-4660-AE13-97DBB10C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001-7991-40C4-B983-8106868A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90A-CFCB-4D44-8B8F-3531B825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E6D-B8D3-4D4E-A868-72F176E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6D5-2AA9-4108-8C88-42F390B0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94B-E0B7-41B7-ABB8-98BE65B3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3F4-D15E-42B9-B224-4311A238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AD4-FC33-4C0A-9A3C-9DE4697E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C88-D516-45A1-AE68-54CB5C9C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11C-ABB8-4C3E-B963-C28F1119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FCBE-0D2A-49B3-A286-0D86742AA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milnyk.osp-ua.info/index.php" TargetMode="External"/><Relationship Id="rId2" Type="http://schemas.openxmlformats.org/officeDocument/2006/relationships/hyperlink" Target="http://hmilnyk.osp-ua.info/index.php" TargetMode="External"/><Relationship Id="rId3" Type="http://schemas.openxmlformats.org/officeDocument/2006/relationships/hyperlink" Target="http://hmilnyk.osp-ua.info/index.php" TargetMode="External"/><Relationship Id="rId4" Type="http://schemas.openxmlformats.org/officeDocument/2006/relationships/hyperlink" Target="http://hmilnyk.osp-ua.info/?ch=5&amp;fl=pidpr" TargetMode="External"/><Relationship Id="rId5" Type="http://schemas.openxmlformats.org/officeDocument/2006/relationships/hyperlink" Target="http://hmilnyk.osp-ua.info/?ch=5&amp;fl=pidpr" TargetMode="External"/><Relationship Id="rId6" Type="http://schemas.openxmlformats.org/officeDocument/2006/relationships/hyperlink" Target="http://hmilnyk.osp-ua.info/?ch=5&amp;fl=pidpr" TargetMode="External"/><Relationship Id="rId7" Type="http://schemas.openxmlformats.org/officeDocument/2006/relationships/hyperlink" Target="http://yellow.com.ua/" TargetMode="External"/><Relationship Id="rId8" Type="http://schemas.openxmlformats.org/officeDocument/2006/relationships/hyperlink" Target="http://yellow.com.ua/" TargetMode="External"/><Relationship Id="rId9" Type="http://schemas.openxmlformats.org/officeDocument/2006/relationships/hyperlink" Target="http://yellow.com.ua/" TargetMode="External"/><Relationship Id="rId10" Type="http://schemas.openxmlformats.org/officeDocument/2006/relationships/hyperlink" Target="http://yellow.com.ua/" TargetMode="External"/><Relationship Id="rId11" Type="http://schemas.openxmlformats.org/officeDocument/2006/relationships/hyperlink" Target="http://yellow.com.ua/company.aspx?c=12472" TargetMode="External"/><Relationship Id="rId12" Type="http://schemas.openxmlformats.org/officeDocument/2006/relationships/hyperlink" Target="http://yellow.com.ua/company.aspx?c=12472" TargetMode="External"/><Relationship Id="rId13" Type="http://schemas.openxmlformats.org/officeDocument/2006/relationships/hyperlink" Target="http://yellow.com.ua/company.aspx?c=12472" TargetMode="External"/><Relationship Id="rId14" Type="http://schemas.openxmlformats.org/officeDocument/2006/relationships/hyperlink" Target="http://yellow.com.ua/company.aspx?c=12472" TargetMode="External"/><Relationship Id="rId15" Type="http://schemas.openxmlformats.org/officeDocument/2006/relationships/hyperlink" Target="http://yellow.com.ua/company.aspx?c=12472" TargetMode="External"/><Relationship Id="rId16" Type="http://schemas.openxmlformats.org/officeDocument/2006/relationships/hyperlink" Target="http://yellow.com.ua/company.aspx?c=12472" TargetMode="External"/><Relationship Id="rId17" Type="http://schemas.openxmlformats.org/officeDocument/2006/relationships/hyperlink" Target="http://project.ukrinform.ua/" TargetMode="External"/><Relationship Id="rId18" Type="http://schemas.openxmlformats.org/officeDocument/2006/relationships/hyperlink" Target="http://project.ukrinform.ua/" TargetMode="External"/><Relationship Id="rId19" Type="http://schemas.openxmlformats.org/officeDocument/2006/relationships/hyperlink" Target="http://project.ukrinform.ua/" TargetMode="External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99080" y="3808080"/>
            <a:ext cx="92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ВИЩЕННЯ ЕФЕКТИВНОСТІ РЕКЛАМНОЇ ДІЯЛЬНОСТІ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ПРИЄМ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СОБАМИ ІНТЕРНЕТ-ТЕХНОЛОГ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6480" y="5029200"/>
            <a:ext cx="437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иконав: студент 1 курсу, групи МОі-14с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монс А. 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: к.е.н., ст. викл. каф. МБІ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іронова Ю.В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720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aeb"/>
            </a:gs>
            <a:gs pos="50000">
              <a:srgbClr val="ffff99"/>
            </a:gs>
            <a:gs pos="100000">
              <a:srgbClr val="7daae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53360" y="303840"/>
            <a:ext cx="731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10 – Характеристика інтернет-реклами ПАТ «Х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ицька швейна фабрика «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я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609480"/>
          <a:ext cx="8215560" cy="6121440"/>
        </p:xfrm>
        <a:graphic>
          <a:graphicData uri="http://schemas.openxmlformats.org/drawingml/2006/table">
            <a:tbl>
              <a:tblPr/>
              <a:tblGrid>
                <a:gridCol w="1470240"/>
                <a:gridCol w="1828800"/>
                <a:gridCol w="2328840"/>
                <a:gridCol w="2587680"/>
              </a:tblGrid>
              <a:tr h="54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сай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 сай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досту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інфор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іційний сайт м. Хмі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://hmilnyk.osp-ua.info/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index.p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http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://hmilnyk.osp-ua.info/?ch=5&amp;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fl=pid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розділі «Економіка і бізнес», серед 69 перерахованих підприємств і організацій  міста наведено коротку інформацію про П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ог підприємств Украі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http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://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yellow.com.ua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http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://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yellow.com.ua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/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company.aspx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?c=12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 підприємств наведено коротку інформацію про П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лова У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http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://</a:t>
                      </a:r>
                      <a:r>
                        <a:rPr b="0" lang="uk-UA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project.ukrinform.ua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project.ukrinform.ua/company/quothmilnycka_shveina_fabryka_quotlileyaquot_62748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талозі підприємств України наведено коротку інформацію про П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ідний бізнес-каталог підприємств та організацій України «Бізнес-Гі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business-guide.com.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lileya.business-guide.com.ua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 наведено основну інформацію про П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а даних українських підприєм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ua-region.com.ua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ua-region.com.ua/00308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 описано основні види послуг П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4e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75280" cy="3733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675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4e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59000" y="919080"/>
            <a:ext cx="6427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4e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24160" y="1481040"/>
            <a:ext cx="6295680" cy="389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одовження табл.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4960" y="29520"/>
            <a:ext cx="670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14 − Загальні показники комунікаційної ефективності електронного ресурс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" y="434880"/>
          <a:ext cx="8228160" cy="6203880"/>
        </p:xfrm>
        <a:graphic>
          <a:graphicData uri="http://schemas.openxmlformats.org/drawingml/2006/table">
            <a:tbl>
              <a:tblPr/>
              <a:tblGrid>
                <a:gridCol w="457200"/>
                <a:gridCol w="1455840"/>
                <a:gridCol w="631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іч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ість імені сайту його тематичному спрямуванню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е знаходження ресурсу в мережі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идкість доступу до ресурсу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лодобова робота сайту (цілодобове адміністрування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ність завантаження та відтворення сторінок сай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формаційне наповн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ість наданої інформації інтересам цільової аудиторі т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ченню сайт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граматичних та стилістичних помилок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ота й достовірність поданої інформації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єчасне періодичне оновлення даних (актуальність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вність додаткової інформ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ігаці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ічна структура організації сайту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ість посилань та їх відповідність зміст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учність та простота користування навігацією (відсутність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розумілої термінології, ясність призначення сторінок тощ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зай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ість графіки та її завантаженн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ечність та прийнятність стилю і кольорів, їх відповідність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овим цілям підприємств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учність макету сторінок, ефективне використання простору сторінк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ість сприйняття інтерфейсу та тексту (читабельні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терактив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вність контактної інформації, різні варіанти зв’язк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вність додаткових сервісів (форуми, чати, конференції, гостьові книги, опитування тощо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мога користувачам (віртуальні менеджери / продавці, дані т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ії щодо вибору товару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идкість реагування на запити клієнтів (прийом замовлень,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і на можливі запитання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зні форми електронної комерції (варіанти оплати товару, його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imes New Roman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28600" y="304920"/>
          <a:ext cx="8686800" cy="6381720"/>
        </p:xfrm>
        <a:graphic>
          <a:graphicData uri="http://schemas.openxmlformats.org/drawingml/2006/table">
            <a:tbl>
              <a:tblPr/>
              <a:tblGrid>
                <a:gridCol w="1773360"/>
                <a:gridCol w="6913440"/>
              </a:tblGrid>
              <a:tr h="22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Актуаль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9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ення в Україні ринкових відносин здійснюється на засадах формування споживчо-орієнтованої економіки. Ключового значення для підвищення конкурентоздатності вітчизняних підприємств при цьому набуває активізація їх маркетингової діяльності, однією з найважливіших складових якої є реклама. На відміну від підприємств країн з розвинутою економікою, вітчизняні підприємства не мають достатнього досвіду і традицій щодо реклами, яка почала своє становлення як окрема сфера економіки лише із здобуттям Україною незалежності. Тому розробка методологічних та методичних засад рекламної діяльності набуває сьогодні значної актуальності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М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9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сконалення ефективності рекламної діяльності підприємства засобами Інтернет-технологі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Зав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9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дослідити теоретичні основи організації та управління рекламною діяльністю в умовах ринкового реформування економі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визначити економічний зміст, структуру, послідовність розробки та реалізації рекламної кампанії підприєм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проаналізувати особливості  інформаційного забезпечення рекламної  діяльност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проаналізувати фінансово-господарську діяльність ПАТ «Хмiльницька швейна фабрика «Лiлея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дати оцінку ефективності рекламної діяльності підприємства ПАТ «Хмiльницька швейна фабрика «Лiлея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розробити рекомендації щодо удосконалення процесу управління рекламною діяльністю для підвищення ефективності господарю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Об’є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9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с управління маркетинговою та рекламною діяльністю підприєм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9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ні та прикладні підходи до управління рекламною діяльністю підприємств засобами Інтернет-технологі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aeb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64960" y="2284920"/>
            <a:ext cx="33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нок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−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Значення терміну «реклам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52280"/>
            <a:ext cx="5653080" cy="1932120"/>
            <a:chOff x="1295280" y="152280"/>
            <a:chExt cx="5653080" cy="193212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52280"/>
              <a:ext cx="5653080" cy="1932120"/>
              <a:chOff x="1295280" y="152280"/>
              <a:chExt cx="5653080" cy="1932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754920"/>
                <a:ext cx="1271880" cy="64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Значення терміну «реклама»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24080" y="152280"/>
                <a:ext cx="3824280" cy="60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ПРОДУКТ – це візуальне сприйняття споживачами рекламних звернень з екранів телевізорів та шпальт газет або слухове сприйняття з радіоприймачів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124080" y="952200"/>
                <a:ext cx="3824280" cy="42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ПРОЦЕС – це логічна послідовність етапів створення рекламного продукту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124080" y="1523880"/>
                <a:ext cx="3824280" cy="56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Times New Roman"/>
                  </a:rPr>
                  <a:t>ІНФОРМАЦІЙНИЙ РЕСУРС ПІДПРИЄМСТВА – це інформаційні   потоки, спрямовані на формування поведінки споживачів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2" name=""/>
              <p:cNvCxnSpPr/>
              <p:nvPr/>
            </p:nvCxnSpPr>
            <p:spPr>
              <a:xfrm>
                <a:off x="2837520" y="444600"/>
                <a:ext cx="1080" cy="143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"/>
              <p:cNvCxnSpPr/>
              <p:nvPr/>
            </p:nvCxnSpPr>
            <p:spPr>
              <a:xfrm>
                <a:off x="2567160" y="1073160"/>
                <a:ext cx="5054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54" name=""/>
            <p:cNvGrpSpPr/>
            <p:nvPr/>
          </p:nvGrpSpPr>
          <p:grpSpPr>
            <a:xfrm>
              <a:off x="2837880" y="444600"/>
              <a:ext cx="234360" cy="1438200"/>
              <a:chOff x="2837880" y="444600"/>
              <a:chExt cx="234360" cy="1438200"/>
            </a:xfrm>
          </p:grpSpPr>
          <p:cxnSp>
            <p:nvCxnSpPr>
              <p:cNvPr id="55" name=""/>
              <p:cNvCxnSpPr/>
              <p:nvPr/>
            </p:nvCxnSpPr>
            <p:spPr>
              <a:xfrm>
                <a:off x="2837880" y="1882080"/>
                <a:ext cx="234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" name=""/>
              <p:cNvCxnSpPr/>
              <p:nvPr/>
            </p:nvCxnSpPr>
            <p:spPr>
              <a:xfrm>
                <a:off x="2837880" y="444600"/>
                <a:ext cx="234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57" name=""/>
          <p:cNvSpPr/>
          <p:nvPr/>
        </p:nvSpPr>
        <p:spPr>
          <a:xfrm>
            <a:off x="3063600" y="2589840"/>
            <a:ext cx="32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1 − Класифікація видів рекл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3048120"/>
          <a:ext cx="7848720" cy="3402000"/>
        </p:xfrm>
        <a:graphic>
          <a:graphicData uri="http://schemas.openxmlformats.org/drawingml/2006/table">
            <a:tbl>
              <a:tblPr/>
              <a:tblGrid>
                <a:gridCol w="1447920"/>
                <a:gridCol w="6400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фікаційні 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рекл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мето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0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формувальна,  нагадувальна,  спонукаль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предм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 товару,  реклама підприємства,  реклама події,  реклама ідеї,  реклама особ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уб’єк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 імені виробника,  від уряду,  від приватної особи, від партій, організацій,  від торгового посередн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осі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візійна,  радіореклама,  газетна,  журнальна, зовнішня, на транспорті,  в місцях продажу,  пряма поштова,  сувенірна,  в довідниках,   друкована,  через Інтерне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б’єк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поживча,  професійна,  торго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географічним охопленн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ва,   регіональна,  національна, інтернаціональ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-152280"/>
            <a:ext cx="5334120" cy="324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3019320"/>
            <a:ext cx="6751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aeb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7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66680" y="457200"/>
          <a:ext cx="731520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3152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2560" y="4569120"/>
            <a:ext cx="39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− Фактори, які впливають на величин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ого бюджет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73840" y="-1080"/>
            <a:ext cx="80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3 – Порівняльна характеристика програмних продуктів управління маркетингом та рекламо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255600"/>
          <a:ext cx="8472600" cy="6602400"/>
        </p:xfrm>
        <a:graphic>
          <a:graphicData uri="http://schemas.openxmlformats.org/drawingml/2006/table">
            <a:tbl>
              <a:tblPr/>
              <a:tblGrid>
                <a:gridCol w="858960"/>
                <a:gridCol w="2422440"/>
                <a:gridCol w="789120"/>
                <a:gridCol w="880920"/>
                <a:gridCol w="879480"/>
                <a:gridCol w="880920"/>
                <a:gridCol w="879480"/>
                <a:gridCol w="88128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і, методи маркетин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"БЕСТ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кетинг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rketing-Exp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атегі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lient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Expert-Маркет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лактика-Маркет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і маркетин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із ринку това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із конкурентноздат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ноз і аналіз прод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із ризик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інський обл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ця з постійними кліє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ування маркетингової діяль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іння рекламною діяльніст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із ефективності рекл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и маркетингу, що використовую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гментація рин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WOT-аналі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tfolio-аналі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AP-аналі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ель Розенбер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4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атегії Анзоф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юджет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0600" y="497520"/>
            <a:ext cx="69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4 − Основні фінансово-економічні показники діяльності підприємства, тис. гр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803160"/>
          <a:ext cx="9145440" cy="5556240"/>
        </p:xfrm>
        <a:graphic>
          <a:graphicData uri="http://schemas.openxmlformats.org/drawingml/2006/table">
            <a:tbl>
              <a:tblPr/>
              <a:tblGrid>
                <a:gridCol w="1687680"/>
                <a:gridCol w="996840"/>
                <a:gridCol w="852480"/>
                <a:gridCol w="866880"/>
                <a:gridCol w="1252440"/>
                <a:gridCol w="1176120"/>
                <a:gridCol w="1181160"/>
                <a:gridCol w="113184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 2013 р. від 2012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         2014 р. від 2013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нос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нос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Чистий дохід від реалі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обівартість реалізованої продук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66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48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93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5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аловий приб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інансовий результат від операційної діяль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Не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інансовий результат від звичайної діяльності до оподат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8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Чистий приб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алюта балан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Власний капі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Залучений капі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5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7040" y="716400"/>
            <a:ext cx="39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5 – Аналіз рентабельності підприєм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022400"/>
          <a:ext cx="9144000" cy="2805120"/>
        </p:xfrm>
        <a:graphic>
          <a:graphicData uri="http://schemas.openxmlformats.org/drawingml/2006/table">
            <a:tbl>
              <a:tblPr/>
              <a:tblGrid>
                <a:gridCol w="2016000"/>
                <a:gridCol w="1640160"/>
                <a:gridCol w="777600"/>
                <a:gridCol w="777960"/>
                <a:gridCol w="795240"/>
                <a:gridCol w="1568520"/>
                <a:gridCol w="15685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е зна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абсолютне 2013 р. від 2012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абсолютне 2014 р. від 2013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036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рентабельності актив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036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рентабельносте власного капіт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036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рентабельносте продаж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036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рентабельності витр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194040" y="3839400"/>
            <a:ext cx="361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6 − Аналіз ліквідності підприєм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4224240"/>
          <a:ext cx="9142560" cy="2098800"/>
        </p:xfrm>
        <a:graphic>
          <a:graphicData uri="http://schemas.openxmlformats.org/drawingml/2006/table">
            <a:tbl>
              <a:tblPr/>
              <a:tblGrid>
                <a:gridCol w="2462040"/>
                <a:gridCol w="1441800"/>
                <a:gridCol w="782640"/>
                <a:gridCol w="664920"/>
                <a:gridCol w="943200"/>
                <a:gridCol w="1376280"/>
                <a:gridCol w="1471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е знач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абсолютне 2013 р. від 2012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хилення абсолютне 2014 р. від 2013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покри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швидкої ліквід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-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фіцієнт абсолютної ліквід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ий оборотний капітал, 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0 збіль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daae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15200" y="410400"/>
            <a:ext cx="309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7 – Фактори впливу на поп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09760" y="0"/>
          <a:ext cx="5934240" cy="3335400"/>
        </p:xfrm>
        <a:graphic>
          <a:graphicData uri="http://schemas.openxmlformats.org/drawingml/2006/table">
            <a:tbl>
              <a:tblPr/>
              <a:tblGrid>
                <a:gridCol w="727200"/>
                <a:gridCol w="520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факт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споживач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іжна спроможність споживач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ікування споживач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нових підприємств – конкурен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ельність споживач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и на супутні това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остання ці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е положення споживач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на пори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ткість рин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9960" y="3610800"/>
            <a:ext cx="225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8 – Матриця балі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90920" y="3398760"/>
          <a:ext cx="6553080" cy="3308400"/>
        </p:xfrm>
        <a:graphic>
          <a:graphicData uri="http://schemas.openxmlformats.org/drawingml/2006/table">
            <a:tbl>
              <a:tblPr/>
              <a:tblGrid>
                <a:gridCol w="855720"/>
                <a:gridCol w="887400"/>
                <a:gridCol w="877680"/>
                <a:gridCol w="881280"/>
                <a:gridCol w="882360"/>
                <a:gridCol w="878040"/>
                <a:gridCol w="12906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ям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алів, що надана напрямку експер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ій б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0:55:06Z</dcterms:created>
  <dc:creator>Kote Koteee</dc:creator>
  <dc:description/>
  <dc:language>en-US</dc:language>
  <cp:lastModifiedBy>kote1985@outlook.com</cp:lastModifiedBy>
  <dcterms:modified xsi:type="dcterms:W3CDTF">2015-06-03T11:31:5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