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109-AE40-4EA2-80B5-98754175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FDC-FDA6-4319-A23E-053DDA78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35899-1CD6-4CFA-9350-7CC807FE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94E5-D225-4C12-8D2E-8774A1BC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8DE0-85D0-4777-ABAC-90FC76BC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C7BA7-8439-4615-87D5-4A25733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BD3D6-2CEA-45D8-B12F-83F479A4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ACB31-D19F-46E2-97A4-E8C09175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E52C8-8B01-4D9B-987F-4D8AF23E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733EC-BF41-49A4-94BB-CB8E8CA4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0528F-8003-4BD2-B28E-D9D50FC3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9B1A5-3D8D-46AA-A77E-F78EB83A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596-55EB-45CA-B267-E7A006EF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352DD-0310-4253-B70D-76BA965E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A7A5B-D42D-45BF-852F-CE76B50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C5C71-B9CE-48A7-B836-B4EC4BA8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DE017-981C-41B2-BDF0-AABA3590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8A4AB-B3BD-449B-B112-365C1A5C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53C2E-2377-46AC-9EE2-F98C188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BB28F-2A4A-4D3E-9802-FF9DC2D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474F3-7A89-4412-984F-3424BBC5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EBF18-D93C-4516-B651-B7F4C73F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7CCBF-4268-4CC1-AC66-AC1CE452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162-A60C-4D53-AC23-5B4F311C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FB491-C3DA-4892-B32B-9ECF8E71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DE119-5779-4AAA-86A4-2F28F443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9570-AFB0-4960-96E1-4B68F88F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0E928-4C3D-4E72-A45B-82B2CE42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25E72-337E-4ED7-8007-76E87A0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BF99D-8BC2-4174-89DA-06239379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570EA-8270-4CF3-8EC6-8FF7D8E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69A28-F1F1-4D52-AD67-E3A4C4F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7DC6E-E45C-4AF8-AEA3-F0018E9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D1FE-7D8D-49A2-9E30-6C5F8F7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9FA7-CEC4-4237-9BC6-79F0D59A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964E7-9D11-4356-9982-F0173CB8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A02CC-069D-45EB-83F0-8CC8ADE3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A925B-CC26-4A42-A33F-AFC872C6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C0934-25C4-4EA5-93EF-3FE80785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DC3AD-5ED4-488A-A020-C7B640D6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48E95-0D11-48E3-B4B7-1CF0EF2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1C1E1-6852-4573-89EF-61D036A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3B4E6-D6DF-42E1-BAF8-4FC400A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F64E-E7F4-42FD-A70C-1ED80806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2CF4E-5F54-4196-B291-1AC682E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3CDD-CEA8-474B-87B6-5FCC97B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DC692-FDD5-468B-B3DB-1B377C2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89516-8AA1-45EB-B7FF-11B5EB2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97D04-0C8A-465E-9F64-D4E2A321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592B9-484C-4B2D-9588-51169F85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49970-BF65-4E56-8063-0A240E5B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EF033-5B13-4B67-AC84-419CD624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70A48-9F72-4976-B81F-0F30C2DD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2D579-5D04-4A01-AF96-C196BE77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0596E-B547-4C9F-8087-83C34564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52DEA-2987-43E2-8633-E5C62E18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5D12-53FD-4F04-A9B3-0BA97E48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6F661-C1AA-4F04-8CC0-0FC49FD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0114C-2956-4F99-89DB-9DDF7472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6BAD3-2C50-41B0-8DD8-A3E7FD1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26081-4DF6-465E-8A6E-2C5D431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B05D2-95EF-4ECE-B16C-8148050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B1B6B-9527-44C9-AC90-CBC798CA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D9316-47FF-4589-83CB-09A2F04F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2165-EE9B-4590-8E8F-4579944B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768-0001-44DB-81A4-03B1BEDB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5663-0E0F-4CB9-837E-1201351D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FD9-990D-45C5-8403-73365DC2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89A-9919-4487-8DC2-112A2FF1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4965-584C-4CF8-949A-BB3E507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28F3-959A-4535-9C90-E5FA28B9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9BCA-4FBF-4378-AC8A-EE6F518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F2A4-B68B-4FB1-9F71-B38F895E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A872-6A21-403F-955E-46885A2D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A338-3793-454C-83E9-BF096DE9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AC69-A849-4FE3-8EA5-1F6066D1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FF25-1FBA-41FF-BE81-5EF10672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C6AD-BA3B-453F-865C-8F3900BE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FDBD-CAAA-4B09-9204-8835D1CE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DD6-4876-48D5-9909-19CEAD9C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629A-A728-4BCC-8C80-735E980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0BD3-8933-4DDB-AC10-DF673ACD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DC72-E476-4F85-B21E-AC50C3F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3624-B550-4184-B393-1DBD89BB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6C0A-CB45-42D7-A0BF-DA9F92AF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24F1-7BE2-467D-AF7D-6F5474A0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736F-446B-4792-87B8-3508C2E4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152B-EBA3-4F98-A09A-CF5085CD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0454-45C3-4ED0-86D7-981D10EF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DD65-7D7E-4843-BE7A-17200B9B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77C-442A-44D5-9079-CDCA9655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BFC9-07E3-460D-90C4-DE98AA07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C749-79C9-4802-A42A-490E6138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0E10-FF2B-4F03-9A60-6BC01D7A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2D3D-3988-48AB-B894-A5284CF3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DB4E-2843-42B8-BD3B-55A46B1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C9C5-C428-48F0-910A-DD5C30F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5119-63BD-43DF-B04D-B6178A13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6F8BF-2BCB-4AFA-AFA2-7D864A71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2068-BBB1-4D54-9E4C-A01EE4DC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9FED6-70B1-4E8D-AC7C-28D3FC67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B6B-BE48-4C92-B4A4-ECC9C19A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C73C-7737-4970-ACF0-62502D36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C32F-BB70-490D-8E88-FDD44CB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4B21-ADD9-4276-8BA5-2367F12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C161F-4408-482F-878E-32BEBC0C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D07F-C1B1-4B15-971D-CA4CA913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8674A-BA1D-4937-8C97-F1BE9A8C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39BE-50CD-4D8B-AA44-F9C1EBB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A510-2FB0-420B-82E2-A148FF72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F463A-3890-4CD1-B23C-FD84E9BE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8549-AACC-4CB6-BF6C-F7A7E458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8F2-42E2-4FCF-B071-A679CF9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E716F-B1D4-43F6-866A-92EB1D76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B3FC5-862F-49AB-BD2C-29C0E330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889D-F9A0-4E12-9536-9CD884B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70F1-B1A9-4358-9E28-10252050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46C3-A762-47A3-B371-947B524C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8D4E-A589-4AFE-9A81-413AB40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F1D6B-76DE-4204-A46F-E4C962CF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BD500-2C9E-41A0-B3F4-643DEA97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5F484-1C8E-42D3-B8DD-B130AC5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D213-7984-4634-9189-9B0BB92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EF5-DAA5-475C-999D-2F2A5E7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469C-E3A9-4BBB-B145-A28BE06E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BE775-71B6-41F0-858B-0C38328C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69C6C-A5DD-4E9E-AD33-0AE00BE0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14FCF-938D-4103-A9FB-AB568944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89BC9-809C-4EDD-A248-F58F1894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6391-D7FF-4A1C-B689-9801C222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38DCB-CC19-47F9-B784-11EC2B7E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3EC85-C463-4587-B993-7FFDDC7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0B045-79D7-4266-A4ED-CE58C228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4875-51D5-4367-8FD7-08C8230F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80D-821D-4C71-9743-3598E4EA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BCBAF-B77C-4058-97F9-F9F0D9D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6BBF-5F4F-4B2A-B075-3B58774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3A80C-0ECD-4E89-BEF1-7132082E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11477-22C1-4087-BEC0-2B9A3D34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AB83C-C4F7-4E27-BD4F-542D5F9C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D64E4-C618-48D4-992C-D68977ED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1BCA4-2F71-410F-BF43-A8CC7001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CF09-23FA-43B3-A103-0DB81F93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E87A4-0BA9-4058-890B-6F4AC679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F2C2-381B-4CC9-9837-07F63A7A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23C-CDD2-4634-A4BB-FDFB698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A442B-0F6A-404B-A01D-F82CAA56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6F26B-C697-4436-A1D3-5652132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A18E-D419-4D46-A0C2-B00B472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8E7F9-D762-4663-8436-B7114A0A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3B5FB-FD3D-4526-8C44-68E3A608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8B20C-FA10-43BD-BC1C-19EA222F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2125A-DBD5-4A81-AF36-1866BB67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43DC0-CAE1-4232-8F2F-096105D4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4827A-B5F9-4A9B-91F5-CC6E8754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A22DF-A934-4C36-AF65-F377E107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F5E5-9B59-469D-9EDD-C35B35B06E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48DB-B8BC-4A36-9A7A-1D2E02CE1E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4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0E68-AF96-437E-AE47-16D9320EA8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2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2B7-3B94-4832-897C-275F197537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1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2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6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CF3-8283-40FC-A900-A97A80BA68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B68-B404-4A92-BBD1-48F60D90B5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01F-B22A-4188-8CE0-225837820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D736-7E5F-4636-A40E-FFE6AABCB8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0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0E5-3991-4000-9DC9-627F090F5B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91D3-537F-457E-9FED-610E7A0797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4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6BFA-A072-4BC5-AFC5-26D43B55AF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9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0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CAA-E349-4464-A3E1-E8ABF0F4E53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4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23A2-85E9-4AF4-98F7-1552CC01E9A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Дипломна робот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1258920" y="2491920"/>
            <a:ext cx="6913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правління безготівковими розрахунками в системі комерційного ба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На прикладі ПАТ КБ “ПриватБанк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конав: студент груп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оф-14 с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робко А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ШЛЯХИ ВДОСКОНАЛЕННЯ УПРАВЛІННЯ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БЕЗГОТІВКОВИМИ РОЗРАХУНКАМИ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НА ПАТ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КБ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«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РИВАТБАНК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досконалення технологій з обліку та проведення трансакцій по безготівковим переказам кошті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удосконалення бізнес-процесів  в роботі відділів розрахунково-касового обслуговування у філіях та відділеннях банк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досконалення інформаційної системи банк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dfdef6"/>
                </a:solidFill>
                <a:latin typeface="Arial"/>
              </a:rPr>
              <a:t>Дякую за увагу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Метою дипломного дослідження є </a:t>
            </a:r>
            <a:r>
              <a:rPr b="0" lang="uk-UA" sz="2400" spc="-1" strike="noStrike">
                <a:solidFill>
                  <a:srgbClr val="ccecff"/>
                </a:solidFill>
                <a:latin typeface="Arial"/>
              </a:rPr>
              <a:t>управління ефективністю , проведення аналізу і виявлення резервів підвищення ефективності використання безготівкових розрахунків комерційного банку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'єктом дослідження дипломної роботи є процес управління безготівковими розрахунками банк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вдання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вчити теоретичні основи безготівкових розрахунк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ровести аналіз фінансово-господарської діяльності ба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оцінити і проаналізувати управління безготівковими розрахунками на ПАТ КБ "ПРИВАТБАНК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розробити пропозиції щодо підвищення ефективності управління безготівковими розрахун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66ff"/>
                </a:solidFill>
                <a:latin typeface="Tahoma"/>
              </a:rPr>
              <a:t>Визначення поняття безготівкові розрахун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товарними операці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нетоварними операці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Внутрішньодержавні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Міждержавн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а безготівкових розрахунк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кредет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екс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Характеристика ПАТ КБ “ПриватБан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ватБанк — найбільший за розмірами активів український банк і лідер роздрібного банківського ринку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дметом діяльності є система грошово-кредитних і фінансових відно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сновними операціями є: приймання депозитів, операції з валютними цінностями, емісія власних цінних паперів тощо.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11111"/>
                </a:solidFill>
                <a:latin typeface="Arial"/>
              </a:rPr>
              <a:t>Структура наданих послуг банкам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2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і показники фінансово-господарської діяльності ПАТ КБ «ПРИВАТБАНК» (тис. грн.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457200" y="1600200"/>
          <a:ext cx="8229600" cy="50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Найменування показ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 активі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840 72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 918 82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і Засоб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5 77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37 19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гострокові фінансові інвестиції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78 52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7 0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арна дебіторська заборгованіс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 29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 69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шові кошти та їх еквівален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356 34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157 25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и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300 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11 62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тний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97 5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52 07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Garamond"/>
              </a:rPr>
              <a:t>Кількість платі</a:t>
            </a:r>
            <a:r>
              <a:rPr b="1" lang="ru-RU" sz="4000" spc="-1" strike="noStrike">
                <a:solidFill>
                  <a:srgbClr val="ffff99"/>
                </a:solidFill>
                <a:latin typeface="Garamond"/>
              </a:rPr>
              <a:t>жних карток станом на 01.01.2014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Назва банк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 в обігу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активні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АТ КБ "ПРИВАТ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30 984 18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8 330 26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ОЩАД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1 375 3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349 65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Райффайзен Банк Аваль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4 075 10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996 0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Дельта 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149 52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738 03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Загальна кількість відкритих рахунків клієнт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 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22:44:05Z</dcterms:created>
  <dc:creator>А</dc:creator>
  <dc:description/>
  <dc:language>en-US</dc:language>
  <cp:lastModifiedBy>А</cp:lastModifiedBy>
  <dcterms:modified xsi:type="dcterms:W3CDTF">2015-06-17T00:24:12Z</dcterms:modified>
  <cp:revision>9</cp:revision>
  <dc:subject/>
  <dc:title>Дипломна робота</dc:title>
</cp:coreProperties>
</file>