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2C0-966B-4F3C-8ABE-4CE85287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6A6-86B6-449E-94EE-5C16A796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30823-9165-4050-B46F-6EE26C7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B27A5-3C4F-4C38-A085-17CD822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83B00-7CB7-4134-B4B2-705551C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73930-470D-406B-967D-B1C3706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BB8EA-A408-41EB-A1A2-F3D233B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02E7E-C36F-4A61-9CAF-AAABD1D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A80F-92FE-4FB8-A2C2-1A7A3F5C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67ACF-BD35-4444-AE8E-E0DCA27A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F569C-F449-4912-8369-B3957A0B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3F1AE-6E92-41E5-82E1-BE778EFB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F40-8460-4D5A-A58C-52C195E9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067A3-9182-4479-957E-EA6E3C1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ADA96-9350-4615-B394-D892987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0119B-5896-4803-B8BB-1421B46D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CDFFE-23BC-4D41-A120-7BAF1C82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5E470-2783-4A9E-B94F-3364D4DA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47EAD-718A-452C-AE72-0F7A539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60656-0A93-497A-B292-3BA55A6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F7F0A-B970-4970-B190-71A9E0B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BE083-26D2-4312-A3DB-3E12DB9A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6C06E-CE43-4733-9FCD-46C1D791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70B-2B6D-477C-A9F4-0D1107D5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CB55B-642E-4DA3-B542-7BE332EE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00AB-174A-41CD-B494-C012146D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C90D4-E742-462A-A005-BC9136D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5CAA8-F492-4343-931C-D7593B1F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19D3-E334-4F8C-906F-88B6462A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D3FE-4001-4771-A46F-A03DC7EA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7B8A6-AAD8-46CD-B36C-2EC465F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DA9B5-F837-4BF3-9CEB-78C198C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B1EC-5A8B-4A56-911D-8F9D82E4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6CAB5-3027-4BD3-A16C-2F46325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8AC-8464-457B-921A-9791B7BA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D1CF2-0DCA-4AB6-A8BA-57611F6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19D62-8E21-495C-B08F-FD7B997D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7FC62-0522-4AD3-BED3-38DE872D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E676-8003-4A0C-A7CF-46BA3C25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1FDF2-738C-4D40-A795-2EEF77F9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6BA99-66D1-4076-A5A2-59520EA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76B3B-5BAB-4A32-8AD9-C79BDB7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F47B-37A0-4273-869A-DC8AA017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1F088-0465-4DBC-A709-BBFB0639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7D40B-A8A8-4C3F-AF5B-8936581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2F1-E0AE-4D01-BF01-0C69CF6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5E5FC-EE9C-4AC8-9EE8-B942529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9918C-7688-44A7-89B9-C74031E5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040C7-5503-4490-A08B-3708D3E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F9491-DE90-4CC5-A2C1-BB1AE6F0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00601-E304-4A3D-A396-9DD7DDAA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D0A95-AA6E-4CEC-9541-B00DC8C0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91231-48FC-461C-B4A9-5B3F46F6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C5356-6C38-4082-8E71-28A5A41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F0113-5F58-4459-B3A1-6B6E3A1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A1094-8271-4F27-B4F7-49DED98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8181-83BC-4B11-A775-1BB147E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D32C5-626A-4706-BC38-F758ABB3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E04C4-1854-45F1-89FF-CF033EB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2C80A-063A-4195-9BA0-618145E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63986-04CE-4D91-9F35-D87D352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378D0-F042-4C4E-B5DB-94A5E7E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3641B-EF0B-4644-AA70-EA695D6E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6AB2E-9352-4D17-A722-69D65DE6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97F-EBA9-4F46-8734-67C264D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D3D6-B889-4BED-9CD9-3117439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090-1443-45BB-BC2F-ADC7211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8D80-988F-4B59-AF2C-F09F103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FE3-2F9C-4DC2-9CBF-CDD4CD58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AFD-FEC3-45E2-BDFC-D020AF8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0932-74E1-418A-8028-BC2C67B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9FE9-C86C-4A6E-941F-FA0EAAA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FF93-E071-4E01-980A-AC9C678C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814-C395-41CF-8006-1FE17FB2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7F53-8C07-4023-AEE4-B6DC8915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5177-E011-4601-A3BB-644B1FC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6179-4642-44EB-B058-980AF24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BBCF-3346-4198-966C-9F663D2B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773C-C498-468B-AC53-6E95724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EB3-6C69-47AC-B873-C8CA319C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3F43-CBF1-4194-837B-33A5B25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3DD4-EFC3-4533-8143-AF291F3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A5A4-99DF-46C9-99B8-A55BD28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B5AC-04A4-4501-8A77-7A8E544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6B34-EC6D-4F00-B5E0-7C00988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57A3-1242-4C2D-94A7-0E1A89E7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63B7-0014-412D-93AD-D56D1B8A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2903-87C3-4760-A1AE-3552B419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531F-5728-4EFC-B1E6-6DA67F25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ED6F-C99C-47A0-890A-8DB9E08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5C0-35B5-4424-9AE8-D4026A9A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9C51-83F1-4BD2-984D-45CBCE5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DCDA-3FCA-48A8-A2F8-3B2DBAE4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B7DC-C286-4960-A41C-5A5BBDE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323B-6FC3-4D8E-961E-3CCA3C6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4418-C8CE-47D0-8145-ED61D39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5315-DC69-4937-9DE0-232640A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A763-225E-4C92-8788-F635A34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2558-C19A-4656-9625-0D782AC1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34FA-01B3-4A53-8E5B-C590E2A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53EA-D19D-487B-84CC-F1043F70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F67-A116-41CE-9971-72583334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0633-8459-40B0-AE51-828E931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CAAE-30FB-4634-A5C2-A825BCF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EB79-8802-4E52-B55C-34A6C41C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3AF1-117E-4FFF-A43A-A1D4670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5124-0FFC-419D-8EF4-A394C27C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F902-DCB1-4440-81C1-C93DD54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26CE-ED37-4AE2-AA9C-CD9EA19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87B9-6417-44F9-BBBB-8C10186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0FF3-CDB6-4E4E-8B00-51DA746D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CE62-9C92-4C8B-8604-D7C303C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B72-F29C-4DC9-B01A-B9117DE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DECC-EAB0-4EA4-98C6-D8D871F1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77E2-ED56-4891-A59B-144725F6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EAF7-287B-4E38-9EF0-AEF10CC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AFEBD-6083-48B3-8B6F-60824791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2A03-4B95-4207-ABA9-56DD12DE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EDB9-7F43-4E8C-9C87-CF8246A6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9089-2CC8-43D9-953E-B0E1FE6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4B2F-BC76-45C9-97DD-AD51436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58F4-4AB2-4567-B1B4-35081FB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7308-26A0-4DB1-A29D-2DDBDAC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087-9856-4095-AE8F-F0FE60AB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46C99-FC94-4D49-8D4A-C1C7D839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E1C3-D12D-484D-910B-40026CD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82A0-AABB-4E63-B62A-AB88612B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BCA6-497C-4244-8BEB-76FA1533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F00E2-9623-432C-ADE2-AD08623D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6FE3-0C3A-4589-A21C-0B47E5B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2CAB-7C01-473C-AC0C-8423395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324F-D3AE-40A7-8D1E-ED0A0BD1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952C2-891E-41BB-B068-FE6AFAC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6797-ADBE-4DAE-84CA-3BE89FB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440-56AC-45A9-AE44-AABE66E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7D4B-194A-4547-914B-63E04E9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6A27-7B53-4E3D-A2D8-9619425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683B0-3FE5-4786-BA9E-ADE03A1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76A4-16CA-44D4-8AC0-BDC1CAD5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4651-8BA4-4C15-B8A1-1D0A7EA9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B3236-0259-417A-ADF0-67CDB396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2CEA-6F78-4027-BD8D-96CC917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1328A-777E-4A82-9B28-21CC1842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D740-1F6D-4242-A172-802B3D76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1E963-470A-4ECB-A0C5-BBF307A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1CF-123A-44F2-B3D8-CD4E55B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63A3-0AD0-4B4B-938A-D96241D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F2B49-17D4-4E95-822D-B35D931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2226-650F-400D-B778-A1D451A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74A48-87D6-4996-879A-2D84A54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3E81-25D7-4A6E-890E-D0A5D09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CBC7-C084-418C-94FB-4F8009C3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753B-A55B-453D-9FF2-C7A05CAD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C8ED6-37DE-47B9-A38F-497A2671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8466B-13F0-4FED-9397-222C5060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598AC-D26B-41E9-84B5-34A2EC9D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88D-9FF7-4E1E-AFB5-BD89EB234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878F-FD3D-4293-B3EB-AC0652AA8C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87F6-689F-4779-B8BC-D4059CADA1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10A-D024-4AC7-AB40-B4C38C0B5D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1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062-6BA2-40E0-9032-38F160050F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DB88-46FE-472E-8AB7-8FBE6F3DE9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1E0-6392-42DE-8A1F-7143CE12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121-DA9B-4783-8D8F-F99BC56FAD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68E2-75C5-4616-B079-52E12DE1A9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04F-13A4-471B-A63F-EA2AAB173B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38E-8A3F-49AD-86DF-292ABEDCFE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9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0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090-6A0C-4016-9877-6837DDB3C43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DC6-2BE7-461D-96B8-98040D74CDC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Дипломна робот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правління безготівковими розрахунками в системі комерційного ба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На прикладі ПАТ КБ “ПриватБанк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конав: студент гру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ф-14 с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робко А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ШЛЯХИ ВДОСКОНАЛЕННЯ УПРАВЛІ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БЕЗГОТІВКОВИМИ РОЗРАХУНКАМИ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НА ПАТ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КБ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ИВАТБАНК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досконалення технологій з обліку та проведення трансакцій по безготівковим переказам кошті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удосконалення бізнес-процесів  в роботі відділів розрахунково-касового обслуговування у філіях та відділеннях бан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досконалення інформаційної системи банк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dfdef6"/>
                </a:solidFill>
                <a:latin typeface="Arial"/>
              </a:rPr>
              <a:t>Дякую за увагу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Метою дипломного дослідження є </a:t>
            </a: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управління ефективністю , проведення аналізу і виявлення резервів підвищення ефективності використання безготівкових розрахунків комерційного банк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'єктом дослідження дипломної роботи є процес управління безготівковими розрахунками банк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вдання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вчити теоретичні основи безготівкових розрахунк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ровести аналіз фінансово-господарської діяльності ба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цінити і проаналізувати управління безготівковими розрахунками на ПАТ КБ "ПРИВАТБАНК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розробити пропозиції щодо підвищення ефективності управління безготівковими розраху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66ff"/>
                </a:solidFill>
                <a:latin typeface="Tahoma"/>
              </a:rPr>
              <a:t>Визначення поняття безготівкові розрахун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товарними операці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нетоварними операці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Внутрішньодержавні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Міждержавн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а безготівкових розрахунк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креде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екс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арактеристика ПАТ КБ “ПриватБан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ватБанк — найбільший за розмірами активів український банк і лідер роздрібного банківського ринк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дметом діяльності є система грошово-кредитних і фінансових відн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сновними операціями є: приймання депозитів, операції з валютними цінностями, емісія власних цінних паперів тощо.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11111"/>
                </a:solidFill>
                <a:latin typeface="Arial"/>
              </a:rPr>
              <a:t>Структура наданих послуг банка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і показники фінансово-господарської діяльності ПАТ КБ «ПРИВАТБАНК» (тис. грн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Найменування показ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 актив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840 72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918 82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і Засоб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5 77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7 1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гострокові фінансові інвестиці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78 52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7 0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арна дебіторська заборговані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29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 69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шові кошти та їх еквівален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56 34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7 25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и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00 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11 62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тний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97 5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52 0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Garamond"/>
              </a:rPr>
              <a:t>Кількість платі</a:t>
            </a:r>
            <a:r>
              <a:rPr b="1" lang="ru-RU" sz="4000" spc="-1" strike="noStrike">
                <a:solidFill>
                  <a:srgbClr val="ffff99"/>
                </a:solidFill>
                <a:latin typeface="Garamond"/>
              </a:rPr>
              <a:t>жних карток станом на 01.01.2014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Назва банк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 в обігу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активні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АТ КБ "ПРИВАТ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30 984 18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8 330 26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ОЩАД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1 375 3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349 65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Райффайзен Банк Аваль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4 075 10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996 0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Дельта 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149 52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738 03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агальна кількість відкритих рахунків кліє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 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2:44:05Z</dcterms:created>
  <dc:creator>А</dc:creator>
  <dc:description/>
  <dc:language>en-US</dc:language>
  <cp:lastModifiedBy>А</cp:lastModifiedBy>
  <dcterms:modified xsi:type="dcterms:W3CDTF">2015-06-17T00:24:12Z</dcterms:modified>
  <cp:revision>9</cp:revision>
  <dc:subject/>
  <dc:title>Дипломна робота</dc:title>
</cp:coreProperties>
</file>