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0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149B-4252-4F5B-A743-2037F04ED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2C94-ED6E-43D5-AB6D-BC827766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EC39-CD76-4DB7-9C56-6A254EBFC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0B80-F3FB-4B54-967D-8EB57605B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7417-DDC4-4FBA-9D2A-64B6FF5D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D41C-F840-40A8-837A-70A49A24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AA06-C4B5-4255-AD15-C2D05A50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7794-9F95-49BF-BCC1-002BC3CF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434C-61EC-4106-9118-91B4015C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9C24-D334-451B-AD95-21378692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3266-F850-412B-BFB7-D494B9FC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BAB2-3D9B-4350-AC3F-643844FE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7116-C6DC-4BBA-887D-FBC28F992B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318960" y="591480"/>
            <a:ext cx="7356600" cy="60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нницький національний технічний університ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акультет менеджмент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федра фінансі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снювальна запис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 дипломної робо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тему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ПРАВЛІННЯ ЕФЕКТИВНІСТЮ ДІЯЛЬНОСТІ ПІДПРИЄМСТВ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(НА ПРИКЛАДІ ВІДОКРЕМЛЕНОГО ПІДРОЗДІЛУ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ВАГОННОЇ ДІЛЬНИЦІ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2 СТ. ЖМЕРИНКА ДЕРЖАВНОГО ТЕРИТОРІАЛЬНО-ГАЛУЗЕВОГО ОБ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Calibri"/>
              </a:rPr>
              <a:t>’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ЄДНАННЯ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ІВДЕННО-ЗАХІДНА ЗАЛІЗНИЦЯ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)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конав: студент 2 курсу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групи МФК-14сп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пряму підготов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7.030601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Менеджмент організацій і адмініструванн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ковита О. 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ерівник: к.е.н., доцент каф. фінансі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Єпіфанова І. Ю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цензент: к.е.н., доцент каф. ЕПВ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Бальзан М. В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нниця 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2015 рі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01760" y="1208160"/>
          <a:ext cx="7288200" cy="4610160"/>
        </p:xfrm>
        <a:graphic>
          <a:graphicData uri="http://schemas.openxmlformats.org/drawingml/2006/table">
            <a:tbl>
              <a:tblPr/>
              <a:tblGrid>
                <a:gridCol w="1038240"/>
                <a:gridCol w="653760"/>
                <a:gridCol w="789120"/>
                <a:gridCol w="652320"/>
                <a:gridCol w="1073160"/>
                <a:gridCol w="1071720"/>
                <a:gridCol w="1004760"/>
                <a:gridCol w="1005120"/>
              </a:tblGrid>
              <a:tr h="71280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міна значень 2014р. порівняно з 2012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міна значень 2014р. порівняно з 2013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олют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приросту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олют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приросту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покритт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5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6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6,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швидкої ліквіднос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2,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5,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324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абсолютної ліквіднос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0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Rectangle 1"/>
          <p:cNvSpPr/>
          <p:nvPr/>
        </p:nvSpPr>
        <p:spPr>
          <a:xfrm>
            <a:off x="633600" y="444960"/>
            <a:ext cx="471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Calibri"/>
              </a:rPr>
              <a:t>Таблиця 3 -  Показники ліквідності «ВЧ-2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66680" y="430200"/>
          <a:ext cx="7485120" cy="5891400"/>
        </p:xfrm>
        <a:graphic>
          <a:graphicData uri="http://schemas.openxmlformats.org/drawingml/2006/table">
            <a:tbl>
              <a:tblPr/>
              <a:tblGrid>
                <a:gridCol w="1432080"/>
                <a:gridCol w="661680"/>
                <a:gridCol w="758880"/>
                <a:gridCol w="646200"/>
                <a:gridCol w="1025640"/>
                <a:gridCol w="1023840"/>
                <a:gridCol w="974880"/>
                <a:gridCol w="961920"/>
              </a:tblGrid>
              <a:tr h="420840">
                <a:tc rowSpan="2"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8880" rIns="388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міна значень 2014р. порівняно з 2012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8880" rIns="388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міна значень 2014р. порівняно з 2013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олют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приросту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олют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приросту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оборотності актив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4,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5,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38880" rIns="388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оборотності власного капітал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,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оборотності залученого капітал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24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49,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оборотності дебіторської заборгова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7,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3,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8,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38880" rIns="388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оборотності кредиторської заборгова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7,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6,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,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2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38880" rIns="388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валість обороту дебіторської заборгованості, дн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2,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38880" rIns="388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валість обороту кредиторської заборгованості, дн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,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Rectangle 1"/>
          <p:cNvSpPr/>
          <p:nvPr/>
        </p:nvSpPr>
        <p:spPr>
          <a:xfrm>
            <a:off x="2612520" y="74880"/>
            <a:ext cx="39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Calibri"/>
              </a:rPr>
              <a:t>Таблиця 4 -  Показники ділової активності «ВЧ-2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0" y="1031760"/>
          <a:ext cx="7370640" cy="5753160"/>
        </p:xfrm>
        <a:graphic>
          <a:graphicData uri="http://schemas.openxmlformats.org/drawingml/2006/table">
            <a:tbl>
              <a:tblPr/>
              <a:tblGrid>
                <a:gridCol w="1722600"/>
                <a:gridCol w="649080"/>
                <a:gridCol w="741240"/>
                <a:gridCol w="633600"/>
                <a:gridCol w="954000"/>
                <a:gridCol w="954000"/>
                <a:gridCol w="954360"/>
                <a:gridCol w="761760"/>
              </a:tblGrid>
              <a:tr h="489960">
                <a:tc rowSpan="2"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1120" rIns="511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міна значень 2014р. порівняно з 2012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1120" rIns="511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міна значень 2014р. порівняно з 2013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олют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при-росту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олют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при-росту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51120" rIns="511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овий фінансовий 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42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8,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3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,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>
                  <a:txBody>
                    <a:bodyPr lIns="51120" rIns="511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нансовий результат від іншої операційної діяльнос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86,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8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2,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>
                  <a:txBody>
                    <a:bodyPr lIns="51120" rIns="511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нансовий результат від  операційної діяльнос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118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7,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11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4,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51120" rIns="511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нансовий результат від іншої діяльнос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76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9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1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4,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51120" rIns="511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нансовий результат до оподатк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394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9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7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9,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51120" rIns="511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тий фінансовий 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629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9,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94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6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2588760" y="425880"/>
            <a:ext cx="396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аблиця 5 – Аналіз фінансових результатів «ВЧ-2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Таблица 1" descr=""/>
          <p:cNvPicPr/>
          <p:nvPr/>
        </p:nvPicPr>
        <p:blipFill>
          <a:blip r:embed="rId1"/>
          <a:stretch/>
        </p:blipFill>
        <p:spPr>
          <a:xfrm>
            <a:off x="414360" y="792000"/>
            <a:ext cx="6931080" cy="47181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"/>
          <p:cNvSpPr/>
          <p:nvPr/>
        </p:nvSpPr>
        <p:spPr>
          <a:xfrm>
            <a:off x="2023920" y="343440"/>
            <a:ext cx="509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блиця 6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клад, структура та динаміка зміни доходів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Ч-2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Таблица 1" descr=""/>
          <p:cNvPicPr/>
          <p:nvPr/>
        </p:nvPicPr>
        <p:blipFill>
          <a:blip r:embed="rId1"/>
          <a:stretch/>
        </p:blipFill>
        <p:spPr>
          <a:xfrm>
            <a:off x="-73080" y="1011240"/>
            <a:ext cx="7796160" cy="51577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"/>
          <p:cNvSpPr/>
          <p:nvPr/>
        </p:nvSpPr>
        <p:spPr>
          <a:xfrm>
            <a:off x="2064960" y="411480"/>
            <a:ext cx="501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блиця 7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клад, структура та динаміка зміни витрат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Ч-2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0" y="512640"/>
          <a:ext cx="7702560" cy="6519960"/>
        </p:xfrm>
        <a:graphic>
          <a:graphicData uri="http://schemas.openxmlformats.org/drawingml/2006/table">
            <a:tbl>
              <a:tblPr/>
              <a:tblGrid>
                <a:gridCol w="1682640"/>
                <a:gridCol w="677880"/>
                <a:gridCol w="776520"/>
                <a:gridCol w="674640"/>
                <a:gridCol w="996840"/>
                <a:gridCol w="996840"/>
                <a:gridCol w="997200"/>
                <a:gridCol w="900000"/>
              </a:tblGrid>
              <a:tr h="420840">
                <a:tc rowSpan="2"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міна значень 2014р. порівняно з 2012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міна значень 2014р. порівняно з 2013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олют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при-росту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олют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при-росту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операційної діяльності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2,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рентабельності звичайної діяльності,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5,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,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рентабельності господарської діяльності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5,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рентабельності активів,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9,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рентабельності власного капіталу,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1,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8,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рентабельності залученого капіталу,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8,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0,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рентабельності оборотних активів,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8,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7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рентабельності необоротних активів,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3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5,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рентабельності продажу,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2,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Rectangle 1"/>
          <p:cNvSpPr/>
          <p:nvPr/>
        </p:nvSpPr>
        <p:spPr>
          <a:xfrm>
            <a:off x="2563560" y="217800"/>
            <a:ext cx="401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аблиця 8 –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Аналіз ефективності діяльності «ВЧ-2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Диаграмма 2" descr=""/>
          <p:cNvPicPr/>
          <p:nvPr/>
        </p:nvPicPr>
        <p:blipFill>
          <a:blip r:embed="rId1"/>
          <a:stretch/>
        </p:blipFill>
        <p:spPr>
          <a:xfrm>
            <a:off x="231840" y="212760"/>
            <a:ext cx="7034040" cy="45306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345960" y="52819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исунок 4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Динаміка витратних показників рентабельності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Ч-2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Диаграмма 2" descr=""/>
          <p:cNvPicPr/>
          <p:nvPr/>
        </p:nvPicPr>
        <p:blipFill>
          <a:blip r:embed="rId1"/>
          <a:stretch/>
        </p:blipFill>
        <p:spPr>
          <a:xfrm>
            <a:off x="328680" y="480960"/>
            <a:ext cx="7199280" cy="48164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277920" y="56818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исунок 5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Динаміка ресурсних показників рентабельності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Ч-2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387360" y="1557360"/>
          <a:ext cx="6567480" cy="3319560"/>
        </p:xfrm>
        <a:graphic>
          <a:graphicData uri="http://schemas.openxmlformats.org/drawingml/2006/table">
            <a:tbl>
              <a:tblPr/>
              <a:tblGrid>
                <a:gridCol w="4168800"/>
                <a:gridCol w="1200240"/>
                <a:gridCol w="1198440"/>
              </a:tblGrid>
              <a:tr h="2570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біторська заборгованість, тис. 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7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73,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тий дохід (виручка) від реалізації, тис. 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659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659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оборотності дебіторської заборгованості, оборот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валість обороту дебіторської заборгованості, дн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міна тривалості обороту дебіторської заборгованості в плановому році , дн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148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кономія коштів в результаті зниження тривалості обороту дебіторської заборгованості в плановому році, тис. 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99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" name="Rectangle 1"/>
          <p:cNvSpPr/>
          <p:nvPr/>
        </p:nvSpPr>
        <p:spPr>
          <a:xfrm>
            <a:off x="0" y="523440"/>
            <a:ext cx="75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аблиця 9 – Визначення економії коштів за рахунок зменшення тривалості обороту дебіторської заборгованості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305" descr="http://vistnic.stu.cn.ua/zip/58/10.files/image002.png"/>
          <p:cNvPicPr/>
          <p:nvPr/>
        </p:nvPicPr>
        <p:blipFill>
          <a:blip r:embed="rId1"/>
          <a:stretch/>
        </p:blipFill>
        <p:spPr>
          <a:xfrm>
            <a:off x="873000" y="1108080"/>
            <a:ext cx="6159600" cy="29512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0" y="4865400"/>
            <a:ext cx="7675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6 – Структурні елементи моделі інформаційної системи «ВЧ-2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0" y="485280"/>
            <a:ext cx="7731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Calibri"/>
              </a:rPr>
              <a:t>Метою дипломної роботи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Calibri"/>
              </a:rPr>
              <a:t>є формування пропозицій щодо підвищення ефективності діяльності підприєм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Calibri"/>
              </a:rPr>
              <a:t>Завданнями дипломної роботи є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buClr>
                <a:srgbClr val="000000"/>
              </a:buClr>
              <a:buFont typeface="Calibri"/>
              <a:buChar char="•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Calibri"/>
              </a:rPr>
              <a:t>визначити економічну сутність поняття «ефективність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buClr>
                <a:srgbClr val="000000"/>
              </a:buClr>
              <a:buFont typeface="Calibri"/>
              <a:buChar char="•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Calibri"/>
              </a:rPr>
              <a:t>дослідити питання управління ефективністю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buClr>
                <a:srgbClr val="000000"/>
              </a:buClr>
              <a:buFont typeface="Calibri"/>
              <a:buChar char="•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Calibri"/>
              </a:rPr>
              <a:t>здійснити аналіз основних методик оцінки управління ефективністю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buClr>
                <a:srgbClr val="000000"/>
              </a:buClr>
              <a:buFont typeface="Calibri"/>
              <a:buChar char="•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Calibri"/>
              </a:rPr>
              <a:t>надати загальну характеристику підприємств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buClr>
                <a:srgbClr val="000000"/>
              </a:buClr>
              <a:buFont typeface="Calibri"/>
              <a:buChar char="•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Calibri"/>
              </a:rPr>
              <a:t>здійснити аналіз фінансової діяльності Відокремленого підрозділу «ВЧ-2» за 2012-2014 рр.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buClr>
                <a:srgbClr val="000000"/>
              </a:buClr>
              <a:buFont typeface="Calibri"/>
              <a:buChar char="•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Calibri"/>
              </a:rPr>
              <a:t>провести аналіз управління ефективністю діяльності Відокремленого підрозділу «ВЧ-2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buClr>
                <a:srgbClr val="000000"/>
              </a:buClr>
              <a:buFont typeface="Calibri"/>
              <a:buChar char="•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Calibri"/>
              </a:rPr>
              <a:t>сформувати пропозиції щодо покращення фінансової діяльності підприєм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Calibri"/>
              </a:rPr>
              <a:t>Об’єктом дослідження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Calibri"/>
              </a:rPr>
              <a:t>в дипломній роботі виступає процес управління ефективністю діяльності підприємст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Calibri"/>
              </a:rPr>
              <a:t>Предметом дослідження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Calibri"/>
              </a:rPr>
              <a:t>дипломної роботи є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Calibri"/>
              </a:rPr>
              <a:t>ефективність діяльності підприємства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svitppt.com.ua/images/35/34555/960/img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1" descr="image2"/>
          <p:cNvPicPr/>
          <p:nvPr/>
        </p:nvPicPr>
        <p:blipFill>
          <a:blip r:embed="rId1"/>
          <a:stretch/>
        </p:blipFill>
        <p:spPr>
          <a:xfrm>
            <a:off x="401760" y="900000"/>
            <a:ext cx="7092720" cy="43513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0" y="5612040"/>
            <a:ext cx="7593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1 - Підходи до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изначення поняття «ефективність» в теорії управлінн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831600"/>
            <a:ext cx="9144000" cy="814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 науковій літературі пропонують використовувати декілька методичних підходів оцінки ефективності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радиційний підхід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Базується на класичній моделі Дюпона «Рентабельність капіталу», передбачає оцінку ефективності на основі двох груп показників: узагальнюючих - показників першого рівня, які характеризують ефективність діяльності підприємства в цілому, та показників другого рівня, які оцінюють ефективність використання окремих видів ресурсів підприєм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агаточинниковий підхід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Передбачає використання агрегованих індексів ефективності, що є складними і важкими для інтерпретації, а тому і не став загальновизнани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Calibri"/>
              </a:rPr>
              <a:t>оцінка ефективності діяльності на основі концепції 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Performance Management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Calibri"/>
              </a:rPr>
              <a:t>»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Calibri"/>
              </a:rPr>
              <a:t> (управління результативністю) передбачає використання так званої збалансованої системи індикаторів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Balancea Scorecard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Calibri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BSC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Calibri"/>
              </a:rPr>
              <a:t>)), яка включає різні фінансові й нефінансові показники, що дають змогу комплексно оцінити вартість підприємства й ефективність його діяльності. Показники рентабельності використовуються в цій системі як другорядні, а основним є економічна додана варті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EV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http://img802.imageshack.us/img802/2033/zhmerinkawokzal.jpg"/>
          <p:cNvPicPr/>
          <p:nvPr/>
        </p:nvPicPr>
        <p:blipFill>
          <a:blip r:embed="rId1"/>
          <a:stretch/>
        </p:blipFill>
        <p:spPr>
          <a:xfrm>
            <a:off x="0" y="-171360"/>
            <a:ext cx="10004400" cy="702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http://cs418529.vk.me/v418529926/7adb/qjAIXYPpMgM.jpg"/>
          <p:cNvPicPr/>
          <p:nvPr/>
        </p:nvPicPr>
        <p:blipFill>
          <a:blip r:embed="rId2"/>
          <a:stretch/>
        </p:blipFill>
        <p:spPr>
          <a:xfrm>
            <a:off x="0" y="-228600"/>
            <a:ext cx="3333600" cy="3333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http://cs314623.vk.me/v314623926/13db/8eORPo6nUUQ.jpg"/>
          <p:cNvPicPr/>
          <p:nvPr/>
        </p:nvPicPr>
        <p:blipFill>
          <a:blip r:embed="rId3"/>
          <a:stretch/>
        </p:blipFill>
        <p:spPr>
          <a:xfrm>
            <a:off x="5222880" y="-299880"/>
            <a:ext cx="473544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Таблица 1" descr=""/>
          <p:cNvPicPr/>
          <p:nvPr/>
        </p:nvPicPr>
        <p:blipFill>
          <a:blip r:embed="rId1"/>
          <a:stretch/>
        </p:blipFill>
        <p:spPr>
          <a:xfrm>
            <a:off x="146160" y="1457280"/>
            <a:ext cx="7493040" cy="49737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1266840" y="744840"/>
            <a:ext cx="661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Calibri"/>
              </a:rPr>
              <a:t>Таблиця 1 -  Склад, джерела фінансування майна Відокремленого підрозділу «ВЧ-2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Диаграмма 2" descr=""/>
          <p:cNvPicPr/>
          <p:nvPr/>
        </p:nvPicPr>
        <p:blipFill>
          <a:blip r:embed="rId1"/>
          <a:stretch/>
        </p:blipFill>
        <p:spPr>
          <a:xfrm>
            <a:off x="689040" y="396720"/>
            <a:ext cx="6576840" cy="44006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179280" y="51422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2 – Динаміка джерел фінансування майна «ВЧ-2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Диаграмма 2" descr=""/>
          <p:cNvPicPr/>
          <p:nvPr/>
        </p:nvPicPr>
        <p:blipFill>
          <a:blip r:embed="rId1"/>
          <a:stretch/>
        </p:blipFill>
        <p:spPr>
          <a:xfrm>
            <a:off x="407880" y="365040"/>
            <a:ext cx="6662880" cy="46706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0" y="53406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3 – Динаміка складу майна «ВЧ-2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65120" y="731880"/>
          <a:ext cx="7072200" cy="5896080"/>
        </p:xfrm>
        <a:graphic>
          <a:graphicData uri="http://schemas.openxmlformats.org/drawingml/2006/table">
            <a:tbl>
              <a:tblPr/>
              <a:tblGrid>
                <a:gridCol w="1339920"/>
                <a:gridCol w="635040"/>
                <a:gridCol w="763560"/>
                <a:gridCol w="684000"/>
                <a:gridCol w="979560"/>
                <a:gridCol w="924120"/>
                <a:gridCol w="922320"/>
                <a:gridCol w="823680"/>
              </a:tblGrid>
              <a:tr h="712800"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0" rIns="576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міна значень 2014р. порівняно з 2012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міна значень 2014р. порівняно з 2013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олют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при-росту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олют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при-росту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57600" rIns="576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автоном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1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5,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57600" rIns="576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концентрації залученого капітал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5,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5,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57600" rIns="576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фінансового ризи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6,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6,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57600" rIns="576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маневреності власного капітал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14,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7480">
                <a:tc>
                  <a:txBody>
                    <a:bodyPr lIns="57600" rIns="576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забезпеченості власними оборотними  акти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129,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74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Rectangle 1"/>
          <p:cNvSpPr/>
          <p:nvPr/>
        </p:nvSpPr>
        <p:spPr>
          <a:xfrm>
            <a:off x="2551320" y="365400"/>
            <a:ext cx="404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Calibri"/>
              </a:rPr>
              <a:t>Таблиця 2 -  Показники фінансової стійкості «ВЧ-2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3T08:43:52Z</dcterms:created>
  <dc:creator>Инна</dc:creator>
  <dc:description/>
  <dc:language>en-US</dc:language>
  <cp:lastModifiedBy>user</cp:lastModifiedBy>
  <dcterms:modified xsi:type="dcterms:W3CDTF">2015-06-09T19:38:10Z</dcterms:modified>
  <cp:revision>14</cp:revision>
  <dc:subject/>
  <dc:title>Презентация PowerPoint</dc:title>
</cp:coreProperties>
</file>