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E406-75B7-46A6-A89B-EAD1F43BC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373E-DCF9-48AF-99EB-3CB73D34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2941-F6EF-4530-9C83-EE0043DA9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1B19-7B3F-482B-AE1C-858ECD1C9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32F7-5EC7-4CB4-BE3C-B83AB225E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2843D-9643-4822-A8E9-5D6CA502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4507-A35A-4510-86EC-6110D84B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07FE-9A16-4757-8FF1-AFC9DB74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E982-BCA8-48B0-A5C1-4B511C9C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749C-9074-44AE-8FD1-B38CC9A9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A053-D994-42B9-A1AE-1489CFFE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9001-B45F-4935-9808-E0A205C1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88DD-E878-42E2-BC72-6559E4A3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BAAAF-00B2-462F-BA18-C77E9458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3C8E6-C353-4CB3-A29E-41AFCA56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18FC3-1BD2-4336-B771-D6CBE3742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C018-D1CA-462B-8922-71574E375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E43B5C-4947-4AAF-9F2B-497694860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CB66E3-43D6-4330-8A15-89396495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8FC216-DD22-4489-919A-5F144AEC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DF70E1-D51D-4C60-B2CB-3F283C22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078630-4314-4AA0-8456-1067C262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6D09-B9CB-4A61-80E5-556E2790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7A2B75-C790-4C23-B6F8-23BA2EC6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676752-158C-4632-A8AB-0992665D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5047EA-F7B6-4ABC-A137-F0C8BC06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1D26F5-6466-4819-815F-5CCBC479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A9D971-269D-49D5-A1C6-56438A80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0CFE92-D535-4D5A-AB89-80B587536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DCBE9A-A6B0-462F-A159-0337092CF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C7F62-852D-4613-B04F-03CEC3BE3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00AC5-2BDB-4F02-9432-DD529DA0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EACA2-049B-4470-886B-3AD2AFA0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A99B-0AEC-4800-8B0C-F5485C55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A3950-7DF0-4D6C-B791-DE354AED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335A5-E045-4ADE-8527-EEB674FD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C03D0-1CB6-4C7C-B97E-1398E3F7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392D1-BFF6-4AE9-84D8-39763E67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CE0A1-2C04-40B0-904E-D5D2F5BE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6EC65-EC2A-4FCA-A76D-99B64A68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EE45F-4042-4E77-8FBA-46C880B0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8B309-E59A-4022-B282-B53041C8D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92EF7-1D67-4972-8306-562E21E4D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35A2-809D-4AAF-9AC5-520E9EA4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084E-E5F0-47A6-8D04-8557C8C4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86F7-4C2D-4966-A68E-3B71B7B1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8DC0-C185-425A-AA86-14847595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6917-A401-48F5-9FFE-407F2993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caf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3b3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caf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caf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caf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b3b3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8d89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caf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6ea0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6ea0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8d89a4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ccaf0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ccaf0a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9F42-499C-40B9-BA32-97DEDC6FBB79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ccaf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ccaf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ccaf0a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ccaf0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ccaf0a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ccaf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ccaf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ccaf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3b3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b3b3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8d89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caf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6ea0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6ea0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8d89a4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ccaf0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ccaf0a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7AB0-FB27-4C9D-946F-5D2E2628D296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caf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3b3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caf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caf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caf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b3b3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8d89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caf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6ea0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6ea0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8d89a4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ccaf0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ccaf0a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335D-8FA1-4010-9A7C-5937E2C5FC65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caf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3b3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caf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caf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caf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b3b3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8d89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caf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6ea0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6ea0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8d89a4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ccaf0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ccaf0a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B290-EA56-4501-A9A8-C986A9561739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ffffff"/>
                </a:solidFill>
                <a:latin typeface="Palatino Linotype"/>
              </a:rPr>
              <a:t>Вінницький національний технічний університет</a:t>
            </a:r>
            <a:br>
              <a:rPr sz="1300"/>
            </a:br>
            <a:r>
              <a:rPr b="0" lang="uk-UA" sz="1300" spc="-1" strike="noStrike">
                <a:solidFill>
                  <a:srgbClr val="ffffff"/>
                </a:solidFill>
                <a:latin typeface="Palatino Linotype"/>
              </a:rPr>
              <a:t>Інститут менеджменту</a:t>
            </a:r>
            <a:br>
              <a:rPr sz="1300"/>
            </a:br>
            <a:r>
              <a:rPr b="0" lang="uk-UA" sz="1300" spc="-1" strike="noStrike">
                <a:solidFill>
                  <a:srgbClr val="ffffff"/>
                </a:solidFill>
                <a:latin typeface="Palatino Linotype"/>
              </a:rPr>
              <a:t>Кафедра МБІС</a:t>
            </a:r>
            <a:endParaRPr b="0" lang="en-US" sz="13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213920" y="2357280"/>
            <a:ext cx="764388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d4d2d0"/>
                </a:solidFill>
                <a:latin typeface="Palatino Linotype"/>
              </a:rPr>
              <a:t>КОНСОЛІДОВАНИЙ ІНФОРМАЦІЙНИЙ РЕСУРС У СФЕРІ ГОТЕЛЬНОГО БІЗНЕСУ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000000"/>
                </a:solidFill>
                <a:latin typeface="Palatino Linotype"/>
              </a:rPr>
              <a:t> </a:t>
            </a:r>
            <a:r>
              <a:rPr b="0" lang="uk-UA" sz="49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uk-UA" sz="1500" spc="-1" strike="noStrike">
                <a:solidFill>
                  <a:srgbClr val="000000"/>
                </a:solidFill>
                <a:latin typeface="Palatino Linotype"/>
              </a:rPr>
              <a:t>Доповідач: студент групи КІН-14 Топольська А.І.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uk-UA" sz="1500" spc="-1" strike="noStrike">
                <a:solidFill>
                  <a:srgbClr val="000000"/>
                </a:solidFill>
                <a:latin typeface="Palatino Linotype"/>
              </a:rPr>
              <a:t>Керівник: д.т.н., професор каф. МБІС Роїк О.М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b3b3b"/>
                </a:solidFill>
                <a:latin typeface="Palatino Linotype"/>
              </a:rPr>
              <a:t>Звіт «Відвідувачі»</a:t>
            </a:r>
            <a:endParaRPr b="0" lang="en-US" sz="3600" spc="-1" strike="noStrike">
              <a:solidFill>
                <a:srgbClr val="3b3b3b"/>
              </a:solidFill>
              <a:latin typeface="Trebuchet MS"/>
            </a:endParaRPr>
          </a:p>
        </p:txBody>
      </p:sp>
      <p:pic>
        <p:nvPicPr>
          <p:cNvPr id="240" name="Содержимое 3" descr=""/>
          <p:cNvPicPr/>
          <p:nvPr/>
        </p:nvPicPr>
        <p:blipFill>
          <a:blip r:embed="rId1"/>
          <a:srcRect l="23232" t="0" r="23802" b="5837"/>
          <a:stretch/>
        </p:blipFill>
        <p:spPr>
          <a:xfrm>
            <a:off x="2500200" y="1785960"/>
            <a:ext cx="44290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1680" y="28573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3b3b3b"/>
                </a:solidFill>
                <a:latin typeface="Palatino Linotype"/>
              </a:rPr>
              <a:t>Дякую за увагу!</a:t>
            </a:r>
            <a:endParaRPr b="0" lang="en-US" sz="5400" spc="-1" strike="noStrike">
              <a:solidFill>
                <a:srgbClr val="3b3b3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0040" y="8571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b3b3b"/>
                </a:solidFill>
                <a:latin typeface="Palatino Linotype"/>
              </a:rPr>
              <a:t>Підстави для створення консолідованого інформаційного ресурсу у галузі готельного бізнесу</a:t>
            </a:r>
            <a:endParaRPr b="0" lang="en-US" sz="36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00040" y="2356920"/>
            <a:ext cx="822960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algn="just">
              <a:buClr>
                <a:srgbClr val="8d89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Georgia"/>
              </a:rPr>
              <a:t>Глобалізація світової економіки та трансформаційні процеси у національній економіці зумовлюють інтенсифікацію ділових, наукових та культурних обмінів, зростання у соціальній структурі частки осіб середнього достатку. Роль високо-категорійних готелів та попит на високоякісні послуги у розвитку ділової інфраструктури України буде збільшуватись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58920" algn="just">
              <a:buClr>
                <a:srgbClr val="8d89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Georgia"/>
              </a:rPr>
              <a:t>З урахуванням актуальності і перспективності ділового туризму в Україні виникає необхідність в консолідації інформації в області готельного бізнесу з тим, щоб можна було приймати рішення щодо покращення існуючих структур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61514"/>
                </a:solidFill>
                <a:latin typeface="Palatino Linotype"/>
              </a:rPr>
              <a:t>Засоби створення консолідованого </a:t>
            </a:r>
            <a:r>
              <a:rPr b="0" lang="uk-UA" sz="3600" spc="-1" strike="noStrike">
                <a:solidFill>
                  <a:srgbClr val="161514"/>
                </a:solidFill>
                <a:latin typeface="Palatino Linotype"/>
              </a:rPr>
              <a:t>інформаційного ресурсу</a:t>
            </a:r>
            <a:endParaRPr b="0" lang="en-US" sz="3600" spc="-1" strike="noStrike">
              <a:solidFill>
                <a:srgbClr val="3b3b3b"/>
              </a:solidFill>
              <a:latin typeface="Trebuchet MS"/>
            </a:endParaRPr>
          </a:p>
        </p:txBody>
      </p:sp>
      <p:pic>
        <p:nvPicPr>
          <p:cNvPr id="219" name="Рисунок 2" descr=""/>
          <p:cNvPicPr/>
          <p:nvPr/>
        </p:nvPicPr>
        <p:blipFill>
          <a:blip r:embed="rId1"/>
          <a:srcRect l="1869" t="11212" r="86880" b="76089"/>
          <a:stretch/>
        </p:blipFill>
        <p:spPr>
          <a:xfrm>
            <a:off x="5715000" y="1857240"/>
            <a:ext cx="2643120" cy="1928880"/>
          </a:xfrm>
          <a:prstGeom prst="rect">
            <a:avLst/>
          </a:prstGeom>
          <a:ln w="0">
            <a:noFill/>
          </a:ln>
        </p:spPr>
      </p:pic>
      <p:sp>
        <p:nvSpPr>
          <p:cNvPr id="220" name="Прямоугольник 3"/>
          <p:cNvSpPr/>
          <p:nvPr/>
        </p:nvSpPr>
        <p:spPr>
          <a:xfrm>
            <a:off x="500040" y="3143160"/>
            <a:ext cx="58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514"/>
                </a:solidFill>
                <a:latin typeface="Georgia"/>
              </a:rPr>
              <a:t>Система керування реляційними базами дан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C Sharp wordmark.svg"/>
          <p:cNvPicPr/>
          <p:nvPr/>
        </p:nvPicPr>
        <p:blipFill>
          <a:blip r:embed="rId2"/>
          <a:stretch/>
        </p:blipFill>
        <p:spPr>
          <a:xfrm>
            <a:off x="6215040" y="4071960"/>
            <a:ext cx="1428840" cy="981000"/>
          </a:xfrm>
          <a:prstGeom prst="rect">
            <a:avLst/>
          </a:prstGeom>
          <a:ln w="0">
            <a:noFill/>
          </a:ln>
        </p:spPr>
      </p:pic>
      <p:sp>
        <p:nvSpPr>
          <p:cNvPr id="222" name="Прямоугольник 5"/>
          <p:cNvSpPr/>
          <p:nvPr/>
        </p:nvSpPr>
        <p:spPr>
          <a:xfrm>
            <a:off x="500040" y="4429080"/>
            <a:ext cx="66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514"/>
                </a:solidFill>
                <a:latin typeface="Georgia"/>
              </a:rPr>
              <a:t>Об'єктно-орієнтована мова програму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Рисунок 6" descr=""/>
          <p:cNvPicPr/>
          <p:nvPr/>
        </p:nvPicPr>
        <p:blipFill>
          <a:blip r:embed="rId3"/>
          <a:srcRect l="18834" t="10902" r="65689" b="80939"/>
          <a:stretch/>
        </p:blipFill>
        <p:spPr>
          <a:xfrm>
            <a:off x="5643720" y="5357880"/>
            <a:ext cx="2571480" cy="92880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7"/>
          <p:cNvSpPr/>
          <p:nvPr/>
        </p:nvSpPr>
        <p:spPr>
          <a:xfrm>
            <a:off x="571680" y="5715000"/>
            <a:ext cx="664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514"/>
                </a:solidFill>
                <a:latin typeface="Georgia"/>
              </a:rPr>
              <a:t>Програмний додаток для створення звіт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285840" y="2285640"/>
            <a:ext cx="42861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61514"/>
                </a:solidFill>
                <a:latin typeface="Georgia"/>
              </a:rPr>
              <a:t>ROOM належить HOT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61514"/>
                </a:solidFill>
                <a:latin typeface="Georgia"/>
              </a:rPr>
              <a:t>HOTEL належить CIT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61514"/>
                </a:solidFill>
                <a:latin typeface="Georgia"/>
              </a:rPr>
              <a:t>CITY належить COUNTR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61514"/>
                </a:solidFill>
                <a:latin typeface="Georgia"/>
              </a:rPr>
              <a:t>STAFF відноситься STAFF_TYPE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61514"/>
                </a:solidFill>
                <a:latin typeface="Georgia"/>
              </a:rPr>
              <a:t>STAFF обслуговує ROO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61514"/>
                </a:solidFill>
                <a:latin typeface="Georgia"/>
              </a:rPr>
              <a:t>BOOKING реєструє ROO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61514"/>
                </a:solidFill>
                <a:latin typeface="Georgia"/>
              </a:rPr>
              <a:t>BOOKING реєструє CLIEN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61514"/>
                </a:solidFill>
                <a:latin typeface="Georgia"/>
              </a:rPr>
              <a:t>CLIENT належить CIT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8d89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Рисунок 3" descr="er-MODEL"/>
          <p:cNvPicPr/>
          <p:nvPr/>
        </p:nvPicPr>
        <p:blipFill>
          <a:blip r:embed="rId1"/>
          <a:stretch/>
        </p:blipFill>
        <p:spPr>
          <a:xfrm>
            <a:off x="4500720" y="2286000"/>
            <a:ext cx="3929040" cy="41292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3"/>
          <p:cNvSpPr/>
          <p:nvPr/>
        </p:nvSpPr>
        <p:spPr>
          <a:xfrm>
            <a:off x="-571680" y="435600"/>
            <a:ext cx="10572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161514"/>
                </a:solidFill>
                <a:latin typeface="Palatino Linotype"/>
                <a:ea typeface="Times New Roman"/>
              </a:rPr>
              <a:t>ER-модель консолідован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161514"/>
                </a:solidFill>
                <a:latin typeface="Palatino Linotype"/>
                <a:ea typeface="Times New Roman"/>
              </a:rPr>
              <a:t> </a:t>
            </a:r>
            <a:r>
              <a:rPr b="0" lang="uk-UA" sz="3600" spc="-1" strike="noStrike">
                <a:solidFill>
                  <a:srgbClr val="161514"/>
                </a:solidFill>
                <a:latin typeface="Palatino Linotype"/>
                <a:ea typeface="Times New Roman"/>
              </a:rPr>
              <a:t>інформаційного ресурсу у галузі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161514"/>
                </a:solidFill>
                <a:latin typeface="Palatino Linotype"/>
                <a:ea typeface="Times New Roman"/>
              </a:rPr>
              <a:t>готельного бізнес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2920" y="642600"/>
            <a:ext cx="9501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161514"/>
                </a:solidFill>
                <a:latin typeface="Palatino Linotype"/>
              </a:rPr>
              <a:t>Діаграма відношень бази даних «Готельний бізнес»</a:t>
            </a:r>
            <a:endParaRPr b="0" lang="en-US" sz="3600" spc="-1" strike="noStrike">
              <a:solidFill>
                <a:srgbClr val="3b3b3b"/>
              </a:solidFill>
              <a:latin typeface="Trebuchet MS"/>
            </a:endParaRPr>
          </a:p>
        </p:txBody>
      </p:sp>
      <p:pic>
        <p:nvPicPr>
          <p:cNvPr id="230" name="Рисунок 2" descr=""/>
          <p:cNvPicPr/>
          <p:nvPr/>
        </p:nvPicPr>
        <p:blipFill>
          <a:blip r:embed="rId1"/>
          <a:stretch/>
        </p:blipFill>
        <p:spPr>
          <a:xfrm>
            <a:off x="857160" y="1857240"/>
            <a:ext cx="757260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b3b3b"/>
                </a:solidFill>
                <a:latin typeface="Palatino Linotype"/>
              </a:rPr>
              <a:t>Запит на відображення прибутку від іноземних клієнтів</a:t>
            </a:r>
            <a:endParaRPr b="0" lang="en-US" sz="3600" spc="-1" strike="noStrike">
              <a:solidFill>
                <a:srgbClr val="3b3b3b"/>
              </a:solidFill>
              <a:latin typeface="Trebuchet MS"/>
            </a:endParaRPr>
          </a:p>
        </p:txBody>
      </p:sp>
      <p:pic>
        <p:nvPicPr>
          <p:cNvPr id="232" name="Рисунок 2" descr=""/>
          <p:cNvPicPr/>
          <p:nvPr/>
        </p:nvPicPr>
        <p:blipFill>
          <a:blip r:embed="rId1"/>
          <a:srcRect l="22129" t="13413" r="23348" b="68324"/>
          <a:stretch/>
        </p:blipFill>
        <p:spPr>
          <a:xfrm>
            <a:off x="928800" y="3000240"/>
            <a:ext cx="75009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400960" cy="24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b3b3b"/>
                </a:solidFill>
                <a:latin typeface="Palatino Linotype"/>
              </a:rPr>
              <a:t>Вигляд стартового вікна програми </a:t>
            </a:r>
            <a:r>
              <a:rPr b="0" lang="uk-UA" sz="3600" spc="-1" strike="noStrike">
                <a:solidFill>
                  <a:srgbClr val="3b3b3b"/>
                </a:solidFill>
                <a:latin typeface="Palatino Linotype"/>
              </a:rPr>
              <a:t>для консолідованого інформаційного ресурсу</a:t>
            </a:r>
            <a:endParaRPr b="0" lang="en-US" sz="3600" spc="-1" strike="noStrike">
              <a:solidFill>
                <a:srgbClr val="3b3b3b"/>
              </a:solidFill>
              <a:latin typeface="Trebuchet MS"/>
            </a:endParaRPr>
          </a:p>
        </p:txBody>
      </p:sp>
      <p:pic>
        <p:nvPicPr>
          <p:cNvPr id="234" name="Рисунок 3" descr=""/>
          <p:cNvPicPr/>
          <p:nvPr/>
        </p:nvPicPr>
        <p:blipFill>
          <a:blip r:embed="rId1"/>
          <a:srcRect l="29228" t="17793" r="43222" b="44488"/>
          <a:stretch/>
        </p:blipFill>
        <p:spPr>
          <a:xfrm>
            <a:off x="2571840" y="2714760"/>
            <a:ext cx="435744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b3b3b"/>
                </a:solidFill>
                <a:latin typeface="Palatino Linotype"/>
              </a:rPr>
              <a:t>Вікно «Закази» з сортуванням за номером клієнта.</a:t>
            </a:r>
            <a:endParaRPr b="0" lang="en-US" sz="3600" spc="-1" strike="noStrike">
              <a:solidFill>
                <a:srgbClr val="3b3b3b"/>
              </a:solidFill>
              <a:latin typeface="Trebuchet MS"/>
            </a:endParaRPr>
          </a:p>
        </p:txBody>
      </p:sp>
      <p:pic>
        <p:nvPicPr>
          <p:cNvPr id="236" name="Рисунок 3" descr=""/>
          <p:cNvPicPr/>
          <p:nvPr/>
        </p:nvPicPr>
        <p:blipFill>
          <a:blip r:embed="rId1"/>
          <a:srcRect l="32228" t="21350" r="20190" b="47650"/>
          <a:stretch/>
        </p:blipFill>
        <p:spPr>
          <a:xfrm>
            <a:off x="1071720" y="2214720"/>
            <a:ext cx="73580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0040" y="9997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b3b3b"/>
                </a:solidFill>
                <a:latin typeface="Palatino Linotype"/>
              </a:rPr>
              <a:t>Звіти в додатку консолідованого інформаційного ресурсу</a:t>
            </a:r>
            <a:endParaRPr b="0" lang="en-US" sz="3600" spc="-1" strike="noStrike">
              <a:solidFill>
                <a:srgbClr val="3b3b3b"/>
              </a:solidFill>
              <a:latin typeface="Trebuchet MS"/>
            </a:endParaRPr>
          </a:p>
        </p:txBody>
      </p:sp>
      <p:pic>
        <p:nvPicPr>
          <p:cNvPr id="238" name="Содержимое 3" descr=""/>
          <p:cNvPicPr/>
          <p:nvPr/>
        </p:nvPicPr>
        <p:blipFill>
          <a:blip r:embed="rId1"/>
          <a:srcRect l="29996" t="18864" r="44145" b="44555"/>
          <a:stretch/>
        </p:blipFill>
        <p:spPr>
          <a:xfrm>
            <a:off x="2428920" y="2500200"/>
            <a:ext cx="4214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1T16:54:33Z</dcterms:created>
  <dc:creator>admin</dc:creator>
  <dc:description/>
  <dc:language>en-US</dc:language>
  <cp:lastModifiedBy>User</cp:lastModifiedBy>
  <dcterms:modified xsi:type="dcterms:W3CDTF">2015-11-25T06:27:00Z</dcterms:modified>
  <cp:revision>27</cp:revision>
  <dc:subject/>
  <dc:title>Вінницький національний технічний університет Інститут радіотехніки, зв’язку та приладобудування Кафедра телекомунікаційних систем і телебачення</dc:title>
</cp:coreProperties>
</file>