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476-C46A-4569-947E-CE74BF50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F6F-A51A-417F-BEC3-E40DFF83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8B5-DAA7-42DF-8D32-177A4FEB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B99-F257-49B1-B9D9-407A5757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E1B8-7680-4D53-B3D2-5F91CDAC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7C44-5B57-4798-BA3C-E2219D93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898-3A1A-4FDA-857C-9CCC695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9E03-DF64-488A-9EA4-CEDA40D6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EF05-4EE8-4A83-9997-825089B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3F87-C8C5-45A0-8694-A643C015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D71-25B6-4ED0-8595-F0396229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A5A-8682-475D-82E1-3EBDB4F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17A9-3875-4124-A981-E2ED4A4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7388-EE69-421B-80B1-9CFFDA5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0C80-AABE-420C-AA9F-5059B445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65CC-D114-4274-BAF9-C2B1E065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DB7-B6E3-4022-8D72-40C884B0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2C122-5D7D-431C-9CC7-6B47C185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4C888-5D60-43AE-944C-B6C4B60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6E8FE-74FB-4C1A-95A8-48800302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4847B-720A-40B1-AE10-BAC1076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B1E6E-CE9B-4C52-A517-F11E5A38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97F-F1C4-4AA5-81F5-28CA911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03F7C-95CB-4E38-BF3B-D1274CC0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B68AA-43C3-475F-B06A-E310DEC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8C86F-46A7-467A-B38F-6A3CB78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8AC3A-1C7D-4735-9D6F-F863544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999D4-8B64-4EE4-989D-44C24391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5D323-4C38-400A-BFFD-919CE280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354E5-2A4B-4282-AB32-005D1333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2944-C185-4953-B8A6-72DCC818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66EC-C46A-4379-9A6F-619B310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E3F0-26B6-490E-8211-F6CA047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BB0-5F9A-44D7-8D43-62C05CB1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497D-EFDC-4FBD-9D92-C3D12EC4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DF49-3BC4-4493-BF0E-74449C8C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10EC-0FCB-453D-9930-C298A9D8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199F0-989C-4D0C-B093-37577790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9ABC-0BEC-4D56-8B2C-DB1E9DB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E860-7F45-4F05-94BA-EEE991B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B05E-52E2-49F6-A3D1-316ADE5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D308-215E-4E37-BB51-FEF424FD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62A1-C2B4-4810-9E3A-B57E4917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310-A769-4959-8F15-472DF81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B57-BC62-4F09-A677-9071EF0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E1D-AD18-400F-8082-5FAA0A96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D6A-EA2D-49B5-B763-AFA1298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F0F-E938-4EBF-8E77-1C000530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1825-590A-4D02-BFCE-CC68DBCE6E6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caf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caf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caf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55AD-A59E-45F0-B2B1-FD62A3AE1F6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FA96-8D61-473F-9A2C-4C4F09EE466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caf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caf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caf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8d89a4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caf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caf0a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82AA-B6A2-4F84-BD72-F51ED1BBCD0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Palatino Linotype"/>
              </a:rPr>
              <a:t>Вінницький національний технічний університет</a:t>
            </a:r>
            <a:br>
              <a:rPr sz="1300"/>
            </a:br>
            <a:r>
              <a:rPr b="0" lang="uk-UA" sz="1300" spc="-1" strike="noStrike">
                <a:solidFill>
                  <a:srgbClr val="ffffff"/>
                </a:solidFill>
                <a:latin typeface="Palatino Linotype"/>
              </a:rPr>
              <a:t>Інститут менеджменту</a:t>
            </a:r>
            <a:br>
              <a:rPr sz="1300"/>
            </a:br>
            <a:r>
              <a:rPr b="0" lang="uk-UA" sz="1300" spc="-1" strike="noStrike">
                <a:solidFill>
                  <a:srgbClr val="ffffff"/>
                </a:solidFill>
                <a:latin typeface="Palatino Linotype"/>
              </a:rPr>
              <a:t>Кафедра МБІС</a:t>
            </a:r>
            <a:endParaRPr b="0" lang="en-US" sz="13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13920" y="2357280"/>
            <a:ext cx="76438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d4d2d0"/>
                </a:solidFill>
                <a:latin typeface="Palatino Linotype"/>
              </a:rPr>
              <a:t>КОНСОЛІДОВАНИЙ ІНФОРМАЦІЙНИЙ РЕСУРС У СФЕРІ ГОТЕЛЬНОГО БІЗНЕС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0" lang="uk-UA" sz="49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uk-UA" sz="1500" spc="-1" strike="noStrike">
                <a:solidFill>
                  <a:srgbClr val="000000"/>
                </a:solidFill>
                <a:latin typeface="Palatino Linotype"/>
              </a:rPr>
              <a:t>Доповідач: студент групи КІН-14 Топольська А.І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uk-UA" sz="1500" spc="-1" strike="noStrike">
                <a:solidFill>
                  <a:srgbClr val="000000"/>
                </a:solidFill>
                <a:latin typeface="Palatino Linotype"/>
              </a:rPr>
              <a:t>Керівник: д.т.н., професор каф. МБІС Роїк О.М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Звіт «Відвідувачі»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rcRect l="23232" t="0" r="23802" b="5837"/>
          <a:stretch/>
        </p:blipFill>
        <p:spPr>
          <a:xfrm>
            <a:off x="2500200" y="1785960"/>
            <a:ext cx="442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b3b3b"/>
                </a:solidFill>
                <a:latin typeface="Palatino Linotype"/>
              </a:rPr>
              <a:t>Дякую за увагу!</a:t>
            </a:r>
            <a:endParaRPr b="0" lang="en-US" sz="5400" spc="-1" strike="noStrike">
              <a:solidFill>
                <a:srgbClr val="3b3b3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Підстави для створення консолідованого інформаційного ресурсу у галузі готельного бізне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0040" y="235692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algn="just"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Глобалізація світової економіки та трансформаційні процеси у національній економіці зумовлюють інтенсифікацію ділових, наукових та культурних обмінів, зростання у соціальній структурі частки осіб середнього достатку. Роль високо-категорійних готелів та попит на високоякісні послуги у розвитку ділової інфраструктури України буде збільшуватись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8920" algn="just"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З урахуванням актуальності і перспективності ділового туризму в Україні виникає необхідність в консолідації інформації в області готельного бізнесу з тим, щоб можна було приймати рішення щодо покращення існуючих структур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514"/>
                </a:solidFill>
                <a:latin typeface="Palatino Linotype"/>
              </a:rPr>
              <a:t>Засоби створення консолідованого </a:t>
            </a:r>
            <a:r>
              <a:rPr b="0" lang="uk-UA" sz="3600" spc="-1" strike="noStrike">
                <a:solidFill>
                  <a:srgbClr val="161514"/>
                </a:solidFill>
                <a:latin typeface="Palatino Linotype"/>
              </a:rPr>
              <a:t>інформаційного ресур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19" name="Рисунок 2" descr=""/>
          <p:cNvPicPr/>
          <p:nvPr/>
        </p:nvPicPr>
        <p:blipFill>
          <a:blip r:embed="rId1"/>
          <a:srcRect l="1869" t="11212" r="86880" b="76089"/>
          <a:stretch/>
        </p:blipFill>
        <p:spPr>
          <a:xfrm>
            <a:off x="5715000" y="1857240"/>
            <a:ext cx="2643120" cy="19288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3"/>
          <p:cNvSpPr/>
          <p:nvPr/>
        </p:nvSpPr>
        <p:spPr>
          <a:xfrm>
            <a:off x="500040" y="31431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514"/>
                </a:solidFill>
                <a:latin typeface="Georgia"/>
              </a:rPr>
              <a:t>Система керування реляційними базами да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 Sharp wordmark.svg"/>
          <p:cNvPicPr/>
          <p:nvPr/>
        </p:nvPicPr>
        <p:blipFill>
          <a:blip r:embed="rId2"/>
          <a:stretch/>
        </p:blipFill>
        <p:spPr>
          <a:xfrm>
            <a:off x="6215040" y="4071960"/>
            <a:ext cx="1428840" cy="981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5"/>
          <p:cNvSpPr/>
          <p:nvPr/>
        </p:nvSpPr>
        <p:spPr>
          <a:xfrm>
            <a:off x="500040" y="44290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514"/>
                </a:solidFill>
                <a:latin typeface="Georgia"/>
              </a:rPr>
              <a:t>Об'єктно-орієнтована мова програ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"/>
          <p:cNvPicPr/>
          <p:nvPr/>
        </p:nvPicPr>
        <p:blipFill>
          <a:blip r:embed="rId3"/>
          <a:srcRect l="18834" t="10902" r="65689" b="80939"/>
          <a:stretch/>
        </p:blipFill>
        <p:spPr>
          <a:xfrm>
            <a:off x="5643720" y="5357880"/>
            <a:ext cx="2571480" cy="9288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7"/>
          <p:cNvSpPr/>
          <p:nvPr/>
        </p:nvSpPr>
        <p:spPr>
          <a:xfrm>
            <a:off x="571680" y="571500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514"/>
                </a:solidFill>
                <a:latin typeface="Georgia"/>
              </a:rPr>
              <a:t>Програмний додаток для створення зві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2285640"/>
            <a:ext cx="42861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ROOM належить HOT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HOTEL належить 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CITY належить COUNT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STAFF відноситься STAFF_TYPE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STAFF обслуговує RO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BOOKING реєструє RO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BOOKING реєструє CLI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514"/>
                </a:solidFill>
                <a:latin typeface="Georgia"/>
              </a:rPr>
              <a:t>CLIENT належить 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8d89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er-MODEL"/>
          <p:cNvPicPr/>
          <p:nvPr/>
        </p:nvPicPr>
        <p:blipFill>
          <a:blip r:embed="rId1"/>
          <a:stretch/>
        </p:blipFill>
        <p:spPr>
          <a:xfrm>
            <a:off x="4500720" y="2286000"/>
            <a:ext cx="3929040" cy="41292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-571680" y="435600"/>
            <a:ext cx="1057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ER-модель консолідова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інформаційного ресурсу у галуз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  <a:ea typeface="Times New Roman"/>
              </a:rPr>
              <a:t>готельного бізне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920" y="642600"/>
            <a:ext cx="9501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514"/>
                </a:solidFill>
                <a:latin typeface="Palatino Linotype"/>
              </a:rPr>
              <a:t>Діаграма відношень бази даних «Готельний бізнес»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757260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Запит на відображення прибутку від іноземних клієнтів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rcRect l="22129" t="13413" r="23348" b="68324"/>
          <a:stretch/>
        </p:blipFill>
        <p:spPr>
          <a:xfrm>
            <a:off x="928800" y="3000240"/>
            <a:ext cx="7500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Palatino Linotype"/>
              </a:rPr>
              <a:t>Вигляд стартового вікна програми </a:t>
            </a: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для консолідованого інформаційного ресур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rcRect l="29228" t="17793" r="43222" b="44488"/>
          <a:stretch/>
        </p:blipFill>
        <p:spPr>
          <a:xfrm>
            <a:off x="2571840" y="2714760"/>
            <a:ext cx="43574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Вікно «Закази» з сортуванням за номером клієнта.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6" name="Рисунок 3" descr=""/>
          <p:cNvPicPr/>
          <p:nvPr/>
        </p:nvPicPr>
        <p:blipFill>
          <a:blip r:embed="rId1"/>
          <a:srcRect l="32228" t="21350" r="20190" b="47650"/>
          <a:stretch/>
        </p:blipFill>
        <p:spPr>
          <a:xfrm>
            <a:off x="1071720" y="2214720"/>
            <a:ext cx="7358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b3b3b"/>
                </a:solidFill>
                <a:latin typeface="Palatino Linotype"/>
              </a:rPr>
              <a:t>Звіти в додатку консолідованого інформаційного ресурсу</a:t>
            </a:r>
            <a:endParaRPr b="0" lang="en-US" sz="3600" spc="-1" strike="noStrike">
              <a:solidFill>
                <a:srgbClr val="3b3b3b"/>
              </a:solidFill>
              <a:latin typeface="Trebuchet MS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rcRect l="29996" t="18864" r="44145" b="44555"/>
          <a:stretch/>
        </p:blipFill>
        <p:spPr>
          <a:xfrm>
            <a:off x="2428920" y="2500200"/>
            <a:ext cx="4214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6:54:33Z</dcterms:created>
  <dc:creator>admin</dc:creator>
  <dc:description/>
  <dc:language>en-US</dc:language>
  <cp:lastModifiedBy>User</cp:lastModifiedBy>
  <dcterms:modified xsi:type="dcterms:W3CDTF">2015-11-25T06:27:00Z</dcterms:modified>
  <cp:revision>27</cp:revision>
  <dc:subject/>
  <dc:title>Вінницький національний технічний університет Інститут радіотехніки, зв’язку та приладобудування Кафедра телекомунікаційних систем і телебачення</dc:title>
</cp:coreProperties>
</file>