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7.jpeg" ContentType="image/jpeg"/>
  <Override PartName="/ppt/media/image20.png" ContentType="image/png"/>
  <Override PartName="/ppt/media/image6.wmf" ContentType="image/x-wmf"/>
  <Override PartName="/ppt/media/image5.jpeg" ContentType="image/jpeg"/>
  <Override PartName="/ppt/media/image18.wmf" ContentType="image/x-wmf"/>
  <Override PartName="/ppt/media/image24.wmf" ContentType="image/x-wmf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14.png" ContentType="image/png"/>
  <Override PartName="/ppt/media/image1.jpeg" ContentType="image/jpeg"/>
  <Override PartName="/ppt/media/image15.wmf" ContentType="image/x-wmf"/>
  <Override PartName="/ppt/media/image25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9A84-21CC-4DCE-96B3-7784C9FAB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350D-E1AE-4507-BA72-B3DFFA7F5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E952-5B8E-47D0-93AA-5F73E068F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6642-DEA0-4D50-894F-49BD07D178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E16E-F3A2-47BE-A29D-8E4770CD24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5418-099D-43B4-9F2F-05A16F900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60E3-B4F0-47B5-B6AD-1EC6FE711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C423-D7EE-46C3-8B9F-136864571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CB7A-33B1-46AC-97CF-A8FAA8530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BE38-CB3C-40EE-9F89-023415BF2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8981-5515-41FF-83A0-276617293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3DF3-45B9-4BF3-BBDF-A3812AC73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6D7AE6-18D6-48F1-903A-23C2E80EC86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image" Target="../media/image5.jpeg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image" Target="../media/image7.jpe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image" Target="../media/image9.jpe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0.wm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468360" y="195120"/>
            <a:ext cx="82296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Вінницький національний технічний університет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Факультет електроенергетики та електромеханіки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афедра електричних систем та станці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411120" y="1814400"/>
            <a:ext cx="82296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астосування принципу Гамільтона для комплексної оптимізації електроенергетичних сис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929200" y="3571920"/>
            <a:ext cx="33242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конав ст. гр. ЕСМ — 14 м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учков Є. В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286080" y="6072120"/>
            <a:ext cx="250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нниця - 2015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Object 6"/>
          <p:cNvGraphicFramePr/>
          <p:nvPr/>
        </p:nvGraphicFramePr>
        <p:xfrm>
          <a:off x="571680" y="790560"/>
          <a:ext cx="80485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790560"/>
                    <a:ext cx="8048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57120" y="2142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боті проведено розрахунок визначаючи можливість використовувати принцип найменшої дії для встановлення оптимального вузла підключення сонячних електричних станці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Object 2"/>
          <p:cNvGraphicFramePr/>
          <p:nvPr/>
        </p:nvGraphicFramePr>
        <p:xfrm>
          <a:off x="2571840" y="785880"/>
          <a:ext cx="425448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1840" y="785880"/>
                    <a:ext cx="425448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3"/>
          <p:cNvSpPr/>
          <p:nvPr/>
        </p:nvSpPr>
        <p:spPr>
          <a:xfrm>
            <a:off x="3500280" y="6215040"/>
            <a:ext cx="2928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3 – Схема фідера “Луги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8643960" y="46080"/>
            <a:ext cx="46512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28760" y="-39600"/>
            <a:ext cx="8229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ж були проведені розрахунки економічності підключення СЕС до даного фідера. Розрахунки показані у вигляді діагр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4425840" y="420840"/>
            <a:ext cx="4552920" cy="2876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133200" y="420840"/>
            <a:ext cx="4237200" cy="2876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1494000" y="3279600"/>
            <a:ext cx="5638680" cy="3164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500040" y="6489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ходячи з даних розрахунків можна зробити висновок, що найменші втрати досягаються у тому випадку коли СЕС підключене до вузла 204 при потужності СЕС 181,816 кВ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8604360" y="46080"/>
            <a:ext cx="46836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95280" y="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і по розрахункам кожного варіанту приведені в таблиці нижч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8604360" y="46080"/>
            <a:ext cx="46836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Таблица 4" descr=""/>
          <p:cNvPicPr/>
          <p:nvPr/>
        </p:nvPicPr>
        <p:blipFill>
          <a:blip r:embed="rId1"/>
          <a:stretch/>
        </p:blipFill>
        <p:spPr>
          <a:xfrm>
            <a:off x="1573200" y="291960"/>
            <a:ext cx="5997600" cy="65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459640" y="71280"/>
            <a:ext cx="61128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7"/>
          <p:cNvGraphicFramePr/>
          <p:nvPr/>
        </p:nvGraphicFramePr>
        <p:xfrm>
          <a:off x="684360" y="836640"/>
          <a:ext cx="779760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836640"/>
                    <a:ext cx="779760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459640" y="71280"/>
            <a:ext cx="61128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685800" y="838080"/>
          <a:ext cx="7924680" cy="435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792468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4"/>
          <p:cNvGraphicFramePr/>
          <p:nvPr/>
        </p:nvGraphicFramePr>
        <p:xfrm>
          <a:off x="0" y="838080"/>
          <a:ext cx="9144000" cy="494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Файл:PierreLouisMaupertuis.jpg"/>
          <p:cNvPicPr/>
          <p:nvPr/>
        </p:nvPicPr>
        <p:blipFill>
          <a:blip r:embed="rId1"/>
          <a:stretch/>
        </p:blipFill>
        <p:spPr>
          <a:xfrm>
            <a:off x="231840" y="500040"/>
            <a:ext cx="51444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Объект 1"/>
          <p:cNvGraphicFramePr/>
          <p:nvPr/>
        </p:nvGraphicFramePr>
        <p:xfrm>
          <a:off x="5780160" y="457200"/>
          <a:ext cx="141912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80160" y="457200"/>
                    <a:ext cx="14191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Рисунок 4" descr="Ейлер"/>
          <p:cNvPicPr/>
          <p:nvPr/>
        </p:nvPicPr>
        <p:blipFill>
          <a:blip r:embed="rId4"/>
          <a:stretch/>
        </p:blipFill>
        <p:spPr>
          <a:xfrm>
            <a:off x="231840" y="1571760"/>
            <a:ext cx="45720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Объект 2"/>
          <p:cNvGraphicFramePr/>
          <p:nvPr/>
        </p:nvGraphicFramePr>
        <p:xfrm>
          <a:off x="5359320" y="1709640"/>
          <a:ext cx="234000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59320" y="1709640"/>
                    <a:ext cx="23400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Picture 6" descr="Файл:Langrange portrait.jpg"/>
          <p:cNvPicPr/>
          <p:nvPr/>
        </p:nvPicPr>
        <p:blipFill>
          <a:blip r:embed="rId7"/>
          <a:stretch/>
        </p:blipFill>
        <p:spPr>
          <a:xfrm>
            <a:off x="231840" y="2914560"/>
            <a:ext cx="514440" cy="5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Объект 3"/>
          <p:cNvGraphicFramePr/>
          <p:nvPr/>
        </p:nvGraphicFramePr>
        <p:xfrm>
          <a:off x="4716360" y="2922480"/>
          <a:ext cx="3353040" cy="695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" name="Объект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16360" y="2922480"/>
                    <a:ext cx="33530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4" descr="Вільям Роуен Гамільтон біографія, фото, розповіді - видатний ірландський математик і фізик XIX століття"/>
          <p:cNvPicPr/>
          <p:nvPr/>
        </p:nvPicPr>
        <p:blipFill>
          <a:blip r:embed="rId10"/>
          <a:stretch/>
        </p:blipFill>
        <p:spPr>
          <a:xfrm>
            <a:off x="231840" y="4191120"/>
            <a:ext cx="523800" cy="63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Объект 4"/>
          <p:cNvGraphicFramePr/>
          <p:nvPr/>
        </p:nvGraphicFramePr>
        <p:xfrm>
          <a:off x="5435640" y="4076640"/>
          <a:ext cx="1790640" cy="123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" name="Объект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5640" y="4076640"/>
                    <a:ext cx="17906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Рисунок 7" descr="Файл:Ostrogradski.jpeg"/>
          <p:cNvPicPr/>
          <p:nvPr/>
        </p:nvPicPr>
        <p:blipFill>
          <a:blip r:embed="rId13"/>
          <a:stretch/>
        </p:blipFill>
        <p:spPr>
          <a:xfrm>
            <a:off x="219240" y="5500800"/>
            <a:ext cx="514080" cy="61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Объект 5"/>
          <p:cNvGraphicFramePr/>
          <p:nvPr/>
        </p:nvGraphicFramePr>
        <p:xfrm>
          <a:off x="5364000" y="5286240"/>
          <a:ext cx="2829240" cy="1238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9" name="Объект 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64000" y="5286240"/>
                    <a:ext cx="28292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11"/>
          <p:cNvSpPr/>
          <p:nvPr/>
        </p:nvSpPr>
        <p:spPr>
          <a:xfrm>
            <a:off x="2358000" y="140040"/>
            <a:ext cx="44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ІСТОРІЯ РОЗВИТКУ ПРИНЦИПУ НАЙМЕНШОЇ ДІ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 flipV="1" rot="10800000">
            <a:off x="178920" y="542880"/>
            <a:ext cx="51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'єр Луї Мопертюї (1698-1759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914640" y="722880"/>
            <a:ext cx="5229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0" lang="uk-U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д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маса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швидкість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шлях, що проходить тіл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 flipV="1" rot="10800000">
            <a:off x="108000" y="1797120"/>
            <a:ext cx="406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Леонард Ейлер (1707-1783)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4456440" y="27612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81968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2205000" y="3131280"/>
            <a:ext cx="50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Жозеф Луї Лагранж (1736-1813)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4431240" y="403776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180520" y="4355280"/>
            <a:ext cx="514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ільям Ро́уен Га́мільтон (1805-1865)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 flipV="1" rot="10800000">
            <a:off x="6372360" y="4705560"/>
            <a:ext cx="252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функція Лагранж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 flipV="1" rot="10800000">
            <a:off x="158400" y="5654520"/>
            <a:ext cx="563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ихайло Васильович Остроградський (1801-1862)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5745240" y="6215040"/>
            <a:ext cx="33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 δ – символ варіації функції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129520" cy="5805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679320" y="122040"/>
            <a:ext cx="763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я 1. –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ИСТИКА МЕТОД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ІВ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АХУНКУ УСТАЛЕНИХ РЕЖИМІ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95280" y="642960"/>
          <a:ext cx="8280360" cy="5718240"/>
        </p:xfrm>
        <a:graphic>
          <a:graphicData uri="http://schemas.openxmlformats.org/drawingml/2006/table">
            <a:tbl>
              <a:tblPr/>
              <a:tblGrid>
                <a:gridCol w="1476360"/>
                <a:gridCol w="1778040"/>
                <a:gridCol w="2749680"/>
                <a:gridCol w="2276280"/>
              </a:tblGrid>
              <a:tr h="36504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идк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біжност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аг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і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лі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йде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іль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та алгоритму, дуже малий обсяг пам'яті, малий час одного кроку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надійна, а в ряд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падків повільна збіжніст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 матрицею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ид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идкий розрахунок при незначних змінах схем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же великий обсяг пам'яті, необхідність обчисл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в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рицю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ьюто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дратич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як правило, швидше,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іж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 метод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y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идка і надійна збіжність, невеличкий обсяг пам'яті при врахуванні слабкої заповненост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ладний алгоритм врахування слабкої заповненості; неможливо заздалегідь зазначити граничне число вузлів і віток системи, що розраховуєть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параметр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дратич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е повільніше,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іж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 методу Ньютона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більш надійна збіжніст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 ж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04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д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є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тн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іль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ійна збіжність  при поганих початкових наближеннях.  Можливість визначити мінімум  суми квадратів небаланс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, якщо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в'язк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снує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ільна збіжність поблизу розв'язку.  Швидкість збіжності сильно залежить від вибору кроку і вагових коефіцієнтів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рі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урі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іль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ористовуються властивості розімкнутих мереж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н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 і рівнянь більше, ніж при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в'язанн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івнянь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лов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 напруг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Н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ид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на збіжн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ує дослідженн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2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468360" y="195120"/>
            <a:ext cx="82296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НАЙМЕНШОЇ ДІЇ ЯК МЕТОД ОПТИМІЗАЦІЇ</a:t>
            </a:r>
            <a:br>
              <a:rPr sz="1600"/>
            </a:b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 СКЛАДНИХ СИСТ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Объект 20"/>
          <p:cNvGraphicFramePr/>
          <p:nvPr/>
        </p:nvGraphicFramePr>
        <p:xfrm>
          <a:off x="247680" y="790560"/>
          <a:ext cx="8591400" cy="606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Объект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790560"/>
                    <a:ext cx="8591400" cy="60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61920" y="189000"/>
            <a:ext cx="6923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НАЙМЕНШОЇ ДІЇ В ЕЛЕКТРОТЕХНІЦ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" name="Объект 1"/>
          <p:cNvGraphicFramePr/>
          <p:nvPr/>
        </p:nvGraphicFramePr>
        <p:xfrm>
          <a:off x="466560" y="695160"/>
          <a:ext cx="8305920" cy="58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695160"/>
                    <a:ext cx="8305920" cy="58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04840" y="274680"/>
            <a:ext cx="6707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ПТИМІЗАЦІЯ НОРМАЛЬНИХ УСТАЛЕНИХ СТАНІВ ЕЕ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576360" y="762120"/>
            <a:ext cx="799128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888840" y="189000"/>
            <a:ext cx="7428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ПТИМІЗАЦІЯ РЕЖИМУ ЕЕС ПО АКТИВНІЙ ПОТУЖНОСТІ І НАПРУЗ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Объект 1"/>
          <p:cNvGraphicFramePr/>
          <p:nvPr/>
        </p:nvGraphicFramePr>
        <p:xfrm>
          <a:off x="324000" y="762120"/>
          <a:ext cx="8420040" cy="581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762120"/>
                    <a:ext cx="842004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68360" y="20304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ОМПЛЕКСНА ОПТИМІЗАЦІЯ РЕЖИМІВ ЕЕ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(без врахуванням вартості генерування реактивної потужності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Object 6"/>
          <p:cNvGraphicFramePr/>
          <p:nvPr/>
        </p:nvGraphicFramePr>
        <p:xfrm>
          <a:off x="571680" y="790560"/>
          <a:ext cx="8076960" cy="547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790560"/>
                    <a:ext cx="8076960" cy="54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7:31:10Z</dcterms:created>
  <dc:creator>Владимир</dc:creator>
  <dc:description/>
  <dc:language>en-US</dc:language>
  <cp:lastModifiedBy>du4a</cp:lastModifiedBy>
  <dcterms:modified xsi:type="dcterms:W3CDTF">2015-11-18T15:40:59Z</dcterms:modified>
  <cp:revision>94</cp:revision>
  <dc:subject/>
  <dc:title>Слайд 1</dc:title>
</cp:coreProperties>
</file>