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4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07A2-C033-40F7-A069-EC73D5BDD4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F5CA-C337-4CC0-B7D2-193076DCB2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5198-4843-4D6A-967D-4B2D550902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4442-BCF4-4AB5-A703-7A65C7B5F3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60FD-828E-4C3D-A85B-147A5E41A3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A67B-F052-4AB0-8275-D2FC71DC0E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A26C-23D4-47B5-9712-198750459E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BDB6-4091-4D7B-9DC4-5FF2A2A16D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CF81-06A6-4B66-9797-D7AB32684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C6A7-F0A4-43E0-BD85-20F68572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341B-C644-49F5-99FC-AE5082886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2FF7-6B81-4D68-BB64-EE0023AE5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4979-BB3E-4823-B87C-BFE882F1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4FBC-F243-430F-8691-F5636EB0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B09F-7437-46DA-B706-947A8265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0B71-85FD-4610-9F03-3EE9B805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F767-F2BD-4068-98CF-92EE95F8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E6DA-F3B1-4071-A18C-4D2A192C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C1B4-21C0-4EB8-A945-6576C8C8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18F2-FA9E-4FD5-8B25-521ED458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95C1-86CA-4CEF-B9D9-651A3B5E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B31F-D643-441A-8253-3AC3B4A5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E923-2784-41DE-8C57-79A86192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29B3-0A42-4028-AE7A-4100D1CAA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A638-4187-4D5F-A509-6ACB7A27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08DD8-1C8C-4632-81A7-2BB4BBCE2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E83F6-E78D-4C55-AB79-1DB6F9FE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9C86E-876C-4EDD-8BC7-93532AA2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A09F8-CBC8-44F4-AD5C-BE9AE1B5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8511D-3537-4719-B333-AA512542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7D1D-D051-4BB6-AFE6-A050B42C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69F69-7B0E-4001-8B70-387804D0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57112-7CF2-4B15-BCDC-EE3FDFA6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B4C64-660C-4A80-A5C6-DDF32A1D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DFE2E-9D9E-42C1-80C7-EE95746A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3D510-6402-4742-BE32-CA41965B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AB2D5-6A8D-4CFB-9FA7-529F3CF09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AC55D-74E8-467B-A223-227EB4BE9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57505-8E63-47FF-8AA7-6A1C7B357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0A923-5836-4414-9A79-2E46AB15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9000C-AD54-408E-97D7-3CE68FEF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0EBE-502E-4290-A792-295F55AD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7E4F2-8C6C-45A9-A578-789584E1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872F0-1C05-4A2C-8B7A-CAD5E21F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F72AE-5433-448C-8F91-68C83F2A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17B4D-162B-4953-B31E-677146AF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5372C-DB0C-4988-9C73-BBEA22D6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50B1F-0A72-4921-9FE3-D7D73272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C2859-8D26-4EF1-AD76-BF2469C4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276D8-B9E1-4A1C-91C2-9F0129873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DCDFD-BF67-48D8-8086-06045100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62062-4F4C-4A79-87A9-2692BEA1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DC78-1A15-4879-896D-4E7CD56B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D12E4-151D-42E2-B35D-AF449D70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00A0D-69B3-4D9E-A4F4-ECAA5C71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AEF09-FD95-4A56-B641-AE55C0F2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7CFBE-8BF1-4108-B1BA-F369F839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FFA64-9B37-426B-BB11-000ECC17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CF6E2-838E-4524-B171-76B93FC2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CF2B6-475F-421C-A8D1-9EEFEB05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7A37E-7B37-4081-9436-60142309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DB9BD-858B-4989-8A5F-58BCC4F1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3FFB9-E025-46A4-A0FD-F428A7972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4FAF-81BC-4352-88FC-86771FF3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15D36-8245-476D-BB8D-121029AA0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9699-31E8-4F36-B24F-D7936E0B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8C6A-78A2-4D8F-AAE5-B05CD009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1C4F-4FEE-43B8-AA04-019784CE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BA32-BC22-49BE-AAA4-145CACEA582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D919-F96F-4428-8EF2-C1B9C086E21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52C9-978E-4261-AB39-3FE3533F361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1B0B-658D-4A3D-A9EB-90535AA8A00D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A364-1538-42F5-AE4B-BA03D068778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153280" cy="246060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РОЗРОБКА ПРОГРАМНОГО ЗАБЕЗПЕЧЕННЯ КОМП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’</a:t>
            </a: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ЮТЕРНОЇ СИСТЕМИ ОБРАХУНКУ ВОДОПОСТАЧАННЯ ДЛЯ ВОДОКАНАЛІВ РАЙОННОГО ТИПУ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885840" y="3504960"/>
            <a:ext cx="4724280" cy="198108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 Black"/>
                <a:ea typeface="Tunga"/>
              </a:rPr>
              <a:t>СТ.ГР. 3К-14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 Black"/>
                <a:ea typeface="Tunga"/>
              </a:rPr>
              <a:t>ОЗЕРАНСЬКИЙ С.Л.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 Black"/>
                <a:ea typeface="Tunga"/>
              </a:rPr>
              <a:t>НАУКОВИЙ КЕРІВНИК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 Black"/>
                <a:ea typeface="Tunga"/>
              </a:rPr>
              <a:t>К.Т.Н., ДОЦ. ТКАЧЕНКО О.М.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56545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Franklin Gothic Medium"/>
              </a:rPr>
              <a:t>ДІАГРАМИ ПОТОКІВ ДАНИХ (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DFD)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457200" y="990720"/>
            <a:ext cx="4572000" cy="642600"/>
          </a:xfrm>
          <a:prstGeom prst="rect">
            <a:avLst/>
          </a:pr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є основним засобом моделювання функціональних вимог системи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Прямоугольник 4"/>
          <p:cNvSpPr/>
          <p:nvPr/>
        </p:nvSpPr>
        <p:spPr>
          <a:xfrm>
            <a:off x="457200" y="1951200"/>
            <a:ext cx="4114800" cy="1465560"/>
          </a:xfrm>
          <a:prstGeom prst="rect">
            <a:avLst/>
          </a:pr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Головна мета таких зaco6iв - продемонструвати, як кожен процес перетворить свої вхідні дані у вихідні, а також виявити відносини між цими процесами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4" name="Picture 10" descr=""/>
          <p:cNvPicPr/>
          <p:nvPr/>
        </p:nvPicPr>
        <p:blipFill>
          <a:blip r:embed="rId1"/>
          <a:stretch/>
        </p:blipFill>
        <p:spPr>
          <a:xfrm>
            <a:off x="5562720" y="828720"/>
            <a:ext cx="3047760" cy="5541840"/>
          </a:xfrm>
          <a:prstGeom prst="rect">
            <a:avLst/>
          </a:prstGeom>
          <a:ln w="0">
            <a:noFill/>
          </a:ln>
        </p:spPr>
      </p:pic>
      <p:sp>
        <p:nvSpPr>
          <p:cNvPr id="255" name="Title 1"/>
          <p:cNvSpPr/>
          <p:nvPr/>
        </p:nvSpPr>
        <p:spPr>
          <a:xfrm>
            <a:off x="380880" y="4191120"/>
            <a:ext cx="5029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ranklin Gothic Medium"/>
              </a:rPr>
              <a:t>Контексна д</a:t>
            </a:r>
            <a:r>
              <a:rPr b="0" lang="uk-UA" sz="2600" spc="-1" strike="noStrike">
                <a:solidFill>
                  <a:srgbClr val="000000"/>
                </a:solidFill>
                <a:latin typeface="Franklin Gothic Medium"/>
              </a:rPr>
              <a:t>іаграма 0-го рівня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6197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Medium"/>
              </a:rPr>
              <a:t>КОНТЕКСТНА ДІАГРАМА ТРЕТЬОГО РІВНЯ «ПРОВЕДЕННЯ РОЗРАХУНКІВ»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Rectangle 5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0" name="Picture 9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781680" cy="48276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24200" y="76320"/>
            <a:ext cx="5295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Franklin Gothic Medium"/>
              </a:rPr>
              <a:t>ДІАГРАМА «СУТНІСТЬ-ЗВ’ЯЗОК»</a:t>
            </a: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3" name="Picture 7" descr=""/>
          <p:cNvPicPr/>
          <p:nvPr/>
        </p:nvPicPr>
        <p:blipFill>
          <a:blip r:embed="rId1"/>
          <a:stretch/>
        </p:blipFill>
        <p:spPr>
          <a:xfrm>
            <a:off x="1752480" y="1063800"/>
            <a:ext cx="5378400" cy="5487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Rectangle 6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Rectangle 6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643896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Franklin Gothic Medium"/>
              </a:rPr>
              <a:t>ОРГАНІЗАЦІЙНА СТРУКТУРА СИСТЕМИ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68" name="Picture 9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6172200" cy="5190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Rectangle 6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1" name="Rectangle 6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643896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Franklin Gothic Medium"/>
              </a:rPr>
              <a:t>ФУНКЦІОНАЛЬНА СТРУКТУРА СИСТЕМИ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6477120" cy="47642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Franklin Gothic Medium"/>
              </a:rPr>
              <a:t>ЗАГАЛЬНА БЛОК-СХЕМА РОБОТИ ПРОГРАМИ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6" name="Picture 7" descr=""/>
          <p:cNvPicPr/>
          <p:nvPr/>
        </p:nvPicPr>
        <p:blipFill>
          <a:blip r:embed="rId1"/>
          <a:stretch/>
        </p:blipFill>
        <p:spPr>
          <a:xfrm>
            <a:off x="838080" y="1003320"/>
            <a:ext cx="7315200" cy="5632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3808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Medium"/>
              </a:rPr>
              <a:t>ЛОГІЧНА МОДЕЛЬ БАЗИ ДАНИХ «АБОНЕНТ – ПІДПРИЄМСТВО»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9" name="Picture 7" descr=""/>
          <p:cNvPicPr/>
          <p:nvPr/>
        </p:nvPicPr>
        <p:blipFill>
          <a:blip r:embed="rId1"/>
          <a:stretch/>
        </p:blipFill>
        <p:spPr>
          <a:xfrm>
            <a:off x="98280" y="1066680"/>
            <a:ext cx="8969400" cy="5562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3808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Medium"/>
              </a:rPr>
              <a:t>ФІЗИЧНА МОДЕЛЬ БАЗИ ДАНИХ «АБОНЕНТ – ПІДПРИЄМСТВО»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2" name="Picture 2" descr="ДиагрБД"/>
          <p:cNvPicPr/>
          <p:nvPr/>
        </p:nvPicPr>
        <p:blipFill>
          <a:blip r:embed="rId1"/>
          <a:stretch/>
        </p:blipFill>
        <p:spPr>
          <a:xfrm>
            <a:off x="76320" y="914400"/>
            <a:ext cx="9067680" cy="5791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85640" y="380880"/>
            <a:ext cx="53499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Franklin Gothic Medium"/>
              </a:rPr>
              <a:t>ГОЛОВНЕ ВІКНО АРМ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22240" y="1100160"/>
            <a:ext cx="7521840" cy="35798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80010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Franklin Gothic Medium"/>
              </a:rPr>
              <a:t>КАРТОТЕКА ЮРИДИЧНИХ ОСІБ</a:t>
            </a:r>
            <a:endParaRPr b="0" lang="en-US" sz="29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87" name="Picture 9" descr=""/>
          <p:cNvPicPr/>
          <p:nvPr/>
        </p:nvPicPr>
        <p:blipFill>
          <a:blip r:embed="rId1"/>
          <a:stretch/>
        </p:blipFill>
        <p:spPr>
          <a:xfrm>
            <a:off x="914400" y="1057320"/>
            <a:ext cx="7467480" cy="542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Franklin Gothic Medium"/>
              </a:rPr>
              <a:t>АКТУАЛЬНІСТЬ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9140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r>
              <a:rPr b="1" lang="uk-UA" sz="1600" spc="-1" strike="noStrike">
                <a:solidFill>
                  <a:srgbClr val="000000"/>
                </a:solidFill>
                <a:latin typeface="Franklin Gothic Book"/>
              </a:rPr>
              <a:t>Незважаючи на високі вимоги до водоканалам по безперервності подачі води в наші квартири, рівень автоматизації на цих підприємствах досить низький, або відсутній. Однак автоматизація на водоканалах необхідна, і в першу чергу, для більш ефективного управління технологічним процесом видобутку і транспортування води, так як це дозволяє знизити витрати енергії і більш раціонально розпорядитися наявними ресурсами, а також для більш ефективного обліку споживання водостоків населенням та підприємствами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Franklin Gothic Book"/>
              </a:rPr>
              <a:t>       </a:t>
            </a:r>
            <a:r>
              <a:rPr b="1" lang="uk-UA" sz="1600" spc="-1" strike="noStrike">
                <a:solidFill>
                  <a:srgbClr val="000000"/>
                </a:solidFill>
                <a:latin typeface="Franklin Gothic Book"/>
              </a:rPr>
              <a:t>На сьогоднішній день існують певні передумови впровадження програмного комплексу АРМ інспектора абонентського відділу ДП «Жмеринкаводоканал» м. Жмеринка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Title 1"/>
          <p:cNvSpPr/>
          <p:nvPr/>
        </p:nvSpPr>
        <p:spPr>
          <a:xfrm>
            <a:off x="623880" y="35971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900" spc="-1" strike="noStrike">
                <a:solidFill>
                  <a:srgbClr val="434342"/>
                </a:solidFill>
                <a:latin typeface="Franklin Gothic Medium"/>
              </a:rPr>
              <a:t>Мета</a:t>
            </a:r>
            <a:endParaRPr b="0" lang="en-US" sz="39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Content Placeholder 2"/>
          <p:cNvSpPr/>
          <p:nvPr/>
        </p:nvSpPr>
        <p:spPr>
          <a:xfrm>
            <a:off x="609480" y="4267080"/>
            <a:ext cx="8229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Franklin Gothic Book"/>
              </a:rPr>
              <a:t>Метою дипломної роботи є підвищення продуктивності праці персоналу, що досягається завдяки зменшення кількості рутинних операцій за рахунок розробки і впровадження в якості АРМ інспектора абонентського відділу ДП «Жмеринкаводоканал» м. Жмеринка для розрахунку за спожиті водостоки для юридичних осіб, підприємств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265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Franklin Gothic Medium"/>
              </a:rPr>
              <a:t>КАРТОТЕКА ОБ</a:t>
            </a:r>
            <a:r>
              <a:rPr b="0" lang="en-US" sz="2500" spc="-1" strike="noStrike">
                <a:solidFill>
                  <a:srgbClr val="000000"/>
                </a:solidFill>
                <a:latin typeface="Franklin Gothic Medium"/>
              </a:rPr>
              <a:t>’</a:t>
            </a:r>
            <a:r>
              <a:rPr b="0" lang="uk-UA" sz="2500" spc="-1" strike="noStrike">
                <a:solidFill>
                  <a:srgbClr val="000000"/>
                </a:solidFill>
                <a:latin typeface="Franklin Gothic Medium"/>
              </a:rPr>
              <a:t>ЄКТІВ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2388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90" name="Picture 7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6172200" cy="5157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266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Franklin Gothic Medium"/>
              </a:rPr>
              <a:t>ВИХІДНІ ДОКУМЕНТИ ТА ЗВІТИ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1511280" y="1392120"/>
            <a:ext cx="6121440" cy="4078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266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Franklin Gothic Medium"/>
              </a:rPr>
              <a:t>ФОРМА РАХУНКУ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2388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1"/>
          <a:stretch/>
        </p:blipFill>
        <p:spPr>
          <a:xfrm>
            <a:off x="990720" y="1096920"/>
            <a:ext cx="7848360" cy="525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266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Franklin Gothic Medium"/>
              </a:rPr>
              <a:t>ФОРМА ПОДАТКОВОЇ НАКЛАДНОЇ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2388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8077320" cy="5638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266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Franklin Gothic Medium"/>
              </a:rPr>
              <a:t>ОБОРОТНО-САЛЬДОВА ВІДОМІСТЬ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2388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30592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2662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Franklin Gothic Medium"/>
              </a:rPr>
              <a:t>ЕКОНОМІЧНА ЕФЕКТИВНІСТЬ ВІД ВПРОВАДЖЕННЯ</a:t>
            </a: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822240" y="1100160"/>
            <a:ext cx="7521840" cy="35798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"/>
          <p:cNvPicPr/>
          <p:nvPr/>
        </p:nvPicPr>
        <p:blipFill>
          <a:blip r:embed="rId2"/>
          <a:stretch/>
        </p:blipFill>
        <p:spPr>
          <a:xfrm>
            <a:off x="1011240" y="1676520"/>
            <a:ext cx="715176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2662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Franklin Gothic Medium"/>
              </a:rPr>
              <a:t>ЕКОНОМІЧНА ЕФЕКТИВНІСТЬ ВІД ВПРОВАДЖЕННЯ</a:t>
            </a: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838080" y="1828800"/>
            <a:ext cx="7521840" cy="21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Franklin Gothic Book"/>
              </a:rPr>
              <a:t>На підтвердження економічної доцільності розробки свідчить економічний ефект на експлуатаційних витратах, який становить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Franklin Gothic Book"/>
              </a:rPr>
              <a:t>∆Е = 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12</a:t>
            </a:r>
            <a:r>
              <a:rPr b="1" lang="uk-UA" sz="2800" spc="-1" strike="noStrike">
                <a:solidFill>
                  <a:srgbClr val="000000"/>
                </a:solidFill>
                <a:latin typeface="Franklin Gothic Book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160</a:t>
            </a:r>
            <a:r>
              <a:rPr b="1" lang="uk-UA" sz="2800" spc="-1" strike="noStrike">
                <a:solidFill>
                  <a:srgbClr val="000000"/>
                </a:solidFill>
                <a:latin typeface="Franklin Gothic Book"/>
              </a:rPr>
              <a:t> грн./рік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push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 rot="19140000">
            <a:off x="818280" y="1726920"/>
            <a:ext cx="5651640" cy="120636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Franklin Gothic Medium"/>
              </a:rPr>
              <a:t>ВИСНОВКИ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16080" y="2468160"/>
            <a:ext cx="65102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  <a:ea typeface="Tunga"/>
            </a:endParaRPr>
          </a:p>
        </p:txBody>
      </p:sp>
    </p:spTree>
  </p:cSld>
  <p:transition spd="slow"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Franklin Gothic Medium"/>
              </a:rPr>
              <a:t>ОТЖЕ,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294920"/>
            <a:ext cx="8229600" cy="838440"/>
          </a:xfrm>
          <a:prstGeom prst="rect">
            <a:avLst/>
          </a:prstGeom>
          <a:solidFill>
            <a:srgbClr val="7c984a"/>
          </a:solidFill>
          <a:ln w="25560">
            <a:solidFill>
              <a:srgbClr val="596e34"/>
            </a:solidFill>
            <a:miter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Franklin Gothic Book"/>
              </a:rPr>
              <a:t>1    Для малих підприємств районного типу, до яких відноситься ДП «Жмеринкаводоканал», доцільним є використання локальних баз даних </a:t>
            </a: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Paradox, </a:t>
            </a:r>
            <a:r>
              <a:rPr b="1" lang="uk-UA" sz="1600" spc="-1" strike="noStrike">
                <a:solidFill>
                  <a:srgbClr val="ffffff"/>
                </a:solidFill>
                <a:latin typeface="Franklin Gothic Book"/>
              </a:rPr>
              <a:t>по файл-серверній технології. А це не потребує установки додаткового ПЗ і додаткових коштів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Content Placeholder 2"/>
          <p:cNvSpPr/>
          <p:nvPr/>
        </p:nvSpPr>
        <p:spPr>
          <a:xfrm>
            <a:off x="457200" y="2324160"/>
            <a:ext cx="8229600" cy="838080"/>
          </a:xfrm>
          <a:prstGeom prst="rect">
            <a:avLst/>
          </a:prstGeom>
          <a:solidFill>
            <a:srgbClr val="7c984a"/>
          </a:solidFill>
          <a:ln w="25560">
            <a:solidFill>
              <a:srgbClr val="596e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Franklin Gothic Book"/>
              </a:rPr>
              <a:t>2    </a:t>
            </a:r>
            <a:r>
              <a:rPr b="1" lang="ru-RU" sz="1600" spc="-1" strike="noStrike">
                <a:solidFill>
                  <a:srgbClr val="ffffff"/>
                </a:solidFill>
                <a:latin typeface="Franklin Gothic Book"/>
              </a:rPr>
              <a:t>Завдяки запровадженню у виробництво розроблюваного програмного комплексу було отримано економію на питомих капітальних вкладеннях,  яка складає 21300 (грн.) і на експлуатаційних витратах – 127161 (грн../рік)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Content Placeholder 2"/>
          <p:cNvSpPr/>
          <p:nvPr/>
        </p:nvSpPr>
        <p:spPr>
          <a:xfrm>
            <a:off x="442800" y="3314880"/>
            <a:ext cx="8229600" cy="647640"/>
          </a:xfrm>
          <a:prstGeom prst="rect">
            <a:avLst/>
          </a:prstGeom>
          <a:solidFill>
            <a:srgbClr val="7c984a"/>
          </a:solidFill>
          <a:ln w="25560">
            <a:solidFill>
              <a:srgbClr val="596e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Franklin Gothic Book"/>
              </a:rPr>
              <a:t>3    </a:t>
            </a:r>
            <a:r>
              <a:rPr b="1" lang="ru-RU" sz="1600" spc="-1" strike="noStrike">
                <a:solidFill>
                  <a:srgbClr val="ffffff"/>
                </a:solidFill>
                <a:latin typeface="Franklin Gothic Book"/>
              </a:rPr>
              <a:t>Було проведено розрахунок ціни програмного продукту, який склав 8263 (грн.), що дешевше ніж аналогічне на 12737 (грн.)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Content Placeholder 2"/>
          <p:cNvSpPr/>
          <p:nvPr/>
        </p:nvSpPr>
        <p:spPr>
          <a:xfrm>
            <a:off x="442800" y="4191120"/>
            <a:ext cx="8229600" cy="761760"/>
          </a:xfrm>
          <a:prstGeom prst="rect">
            <a:avLst/>
          </a:prstGeom>
          <a:solidFill>
            <a:srgbClr val="7c984a"/>
          </a:solidFill>
          <a:ln w="25560">
            <a:solidFill>
              <a:srgbClr val="596e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Franklin Gothic Book"/>
              </a:rPr>
              <a:t>4    Завдяки впроводженню АРМ було значно зменшено кількість рутиних операцій, що призвело до більш ефективної праці бухгалтера та інспектора абонентського відділу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Franklin Gothic Medium"/>
              </a:rPr>
              <a:t>ДЯКУЮ ЗА УВАГУ!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 rot="19140000">
            <a:off x="121248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ЗАПИТАННЯ?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ПРИЗНАЧЕННЯ РОЗРОБКИ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219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Franklin Gothic Book"/>
              </a:rPr>
              <a:t>Функціональне призначення</a:t>
            </a:r>
            <a:r>
              <a:rPr b="1" i="1" lang="uk-UA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1" lang="uk-UA" sz="1800" spc="-1" strike="noStrike">
                <a:solidFill>
                  <a:srgbClr val="000000"/>
                </a:solidFill>
                <a:latin typeface="Franklin Gothic Book"/>
              </a:rPr>
              <a:t>о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рганізація автоматизованого вирішення задач управлінського обліку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" name="Content Placeholder 2"/>
          <p:cNvSpPr/>
          <p:nvPr/>
        </p:nvSpPr>
        <p:spPr>
          <a:xfrm>
            <a:off x="609480" y="3124080"/>
            <a:ext cx="8229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97b7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Franklin Gothic Book"/>
              </a:rPr>
              <a:t>розрахунок нарахувань вартості послуг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97b7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Franklin Gothic Book"/>
              </a:rPr>
              <a:t>облік й контроль платежів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97b7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Franklin Gothic Book"/>
              </a:rPr>
              <a:t>формування необхідних форм звітів та документів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182520" indent="-182520" algn="just">
              <a:lnSpc>
                <a:spcPct val="90000"/>
              </a:lnSpc>
              <a:spcBef>
                <a:spcPts val="601"/>
              </a:spcBef>
              <a:buClr>
                <a:srgbClr val="797b7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1" name="Content Placeholder 2"/>
          <p:cNvSpPr/>
          <p:nvPr/>
        </p:nvSpPr>
        <p:spPr>
          <a:xfrm>
            <a:off x="533520" y="19810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Franklin Gothic Book"/>
              </a:rPr>
              <a:t>Експлуатаційне призначення</a:t>
            </a:r>
            <a:r>
              <a:rPr b="1" i="1" lang="uk-UA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автоматизація управлінського  обліку абонентського відділу послуг водопостачання й водовідведення, зроблених підприємствам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Franklin Gothic Medium"/>
              </a:rPr>
              <a:t>ЯКІ Ж Є НА ДАНИЙ МОМЕНТ ІСНУЮЧІ СИСТЕМИ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09480" y="1371600"/>
          <a:ext cx="7521840" cy="4846680"/>
        </p:xfrm>
        <a:graphic>
          <a:graphicData uri="http://schemas.openxmlformats.org/drawingml/2006/table">
            <a:tbl>
              <a:tblPr/>
              <a:tblGrid>
                <a:gridCol w="1881360"/>
                <a:gridCol w="2004840"/>
                <a:gridCol w="1755720"/>
                <a:gridCol w="1879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Локальні систе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8a1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Малі інтегровані систе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8a1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Середні інтегровані систе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8a1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Великі інтегровані систе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8a1d9"/>
                    </a:solidFill>
                  </a:tcPr>
                </a:tc>
              </a:tr>
              <a:tr h="42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•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БЕ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•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Інот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•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ІНФІ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•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Інфософ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•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упер-Менедж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•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урбо-Бухгалт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•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Інфо-Бухгалт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•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 більше 100 сист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0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oncorde X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x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S-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Platin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PRO/M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a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un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•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БОСС-Корпораці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•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Галактика/Пар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•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есур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•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тал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xapt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0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JD Edwards (Robertson &amp; Blum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MFG-Pro (QAD/BM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yteLine (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ОКАП/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YMI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0f1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·SAP/R3 (SAP A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·Baan (Baa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·BPCS (ITS/SS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·Oracle Applications (Oracl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  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iRenaiss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0f1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Franklin Gothic Medium"/>
              </a:rPr>
              <a:t>ОРІЄНТОВНА ВАРТІСТЬ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09480" y="1371600"/>
          <a:ext cx="7521840" cy="2259000"/>
        </p:xfrm>
        <a:graphic>
          <a:graphicData uri="http://schemas.openxmlformats.org/drawingml/2006/table">
            <a:tbl>
              <a:tblPr/>
              <a:tblGrid>
                <a:gridCol w="1881360"/>
                <a:gridCol w="2004840"/>
                <a:gridCol w="1755720"/>
                <a:gridCol w="1879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Локальні систе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8a1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Малі інтегровані систе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8a1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Середні інтегровані систе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8a1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Великі інтегровані систе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8a1d9"/>
                    </a:solidFill>
                  </a:tcPr>
                </a:tc>
              </a:tr>
              <a:tr h="134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5-250 тис.Гр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0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50-1500 тис. Грн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0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000-2500 тис. Гр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0f1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2500-5000 тис. Гр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0f1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0440" y="6858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Franklin Gothic Medium"/>
              </a:rPr>
              <a:t>       </a:t>
            </a:r>
            <a:r>
              <a:rPr b="0" lang="uk-UA" sz="2800" spc="-1" strike="noStrike">
                <a:solidFill>
                  <a:srgbClr val="000000"/>
                </a:solidFill>
                <a:latin typeface="Franklin Gothic Medium"/>
              </a:rPr>
              <a:t>СПІВВІДНОШЕННЯ ЦІНА ЯКІСТЬ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0" y="712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9" name="Picture 7" descr="Рис1"/>
          <p:cNvPicPr/>
          <p:nvPr/>
        </p:nvPicPr>
        <p:blipFill>
          <a:blip r:embed="rId1"/>
          <a:stretch/>
        </p:blipFill>
        <p:spPr>
          <a:xfrm>
            <a:off x="914400" y="1371600"/>
            <a:ext cx="620064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Medium"/>
              </a:rPr>
              <a:t>СОСТАВ ДОДАТКОВОГО ПЗ ТА ЦІНОВІ ХАРАКТЕРИСТИКИ КОМПЛЕКСІВ 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57200" y="990720"/>
          <a:ext cx="7521480" cy="5554440"/>
        </p:xfrm>
        <a:graphic>
          <a:graphicData uri="http://schemas.openxmlformats.org/drawingml/2006/table">
            <a:tbl>
              <a:tblPr/>
              <a:tblGrid>
                <a:gridCol w="1504800"/>
                <a:gridCol w="1603440"/>
                <a:gridCol w="1405080"/>
                <a:gridCol w="1503360"/>
                <a:gridCol w="1504800"/>
              </a:tblGrid>
              <a:tr h="1065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Times New Roman"/>
                        </a:rPr>
                        <a:t>Назва програмного продук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8a1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Times New Roman"/>
                        </a:rPr>
                        <a:t>Необхідність установки клиєнт-серверних СКБ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8a1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Times New Roman"/>
                        </a:rPr>
                        <a:t>Необхідність установки додаткових платфор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8a1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Times New Roman"/>
                        </a:rPr>
                        <a:t>Операційна сис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8a1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Times New Roman"/>
                        </a:rPr>
                        <a:t>Ці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8a1d9"/>
                    </a:solidFill>
                  </a:tcPr>
                </a:tc>
              </a:tr>
              <a:tr h="1460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Програмний комплекс "1С: Підприємство 8. Технічний розрахунковий центр водоканалу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0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Microsoft SQL-Ser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0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1С: Підприємство 8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0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Windows 2003 Ser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0f1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        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26500 гр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0f1"/>
                    </a:solidFill>
                  </a:tcPr>
                </a:tc>
              </a:tr>
              <a:tr h="912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Програмний комплекс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«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Дебет Плюс – Водоканал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Oracle, MS SQL або DB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JRE –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 віртуальна ява маш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Windows, Linux, або Mac 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23500 гр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8"/>
                    </a:solidFill>
                  </a:tcPr>
                </a:tc>
              </a:tr>
              <a:tr h="1095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Програмні комплекси “Абонент-населення” та “Абонента-підприємства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0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InterBase або FireBi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0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0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Windows-XP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 і вище, Linux або FreeBS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0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21000 гр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0f1"/>
                    </a:solidFill>
                  </a:tcPr>
                </a:tc>
              </a:tr>
              <a:tr h="1095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Розробка власного програмного забезпечення для водоканалу районного тип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Windows-XP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і вищ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8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00 гр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8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Franklin Gothic Medium"/>
              </a:rPr>
              <a:t>АБСОЛЮТНИЙ ЕФЕКТ НА КАПІТАЛЬНИХ ВКЛАДЕННЯХ І НА ЕКСПЛУАТАЦІЙНИХ ВИТРАТАХ: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3" name="Title 1"/>
          <p:cNvSpPr/>
          <p:nvPr/>
        </p:nvSpPr>
        <p:spPr>
          <a:xfrm>
            <a:off x="533520" y="182880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0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Medium"/>
              </a:rPr>
              <a:t>К</a:t>
            </a:r>
            <a:r>
              <a:rPr b="1" lang="ru-RU" sz="2000" spc="-1" strike="noStrike">
                <a:solidFill>
                  <a:srgbClr val="000000"/>
                </a:solidFill>
                <a:latin typeface="Franklin Gothic Medium"/>
              </a:rPr>
              <a:t>ЕФ</a:t>
            </a:r>
            <a:r>
              <a:rPr b="1" lang="ru-RU" sz="2600" spc="-1" strike="noStrike">
                <a:solidFill>
                  <a:srgbClr val="000000"/>
                </a:solidFill>
                <a:latin typeface="Franklin Gothic Medium"/>
              </a:rPr>
              <a:t> = К1 - К2  = 31500 – 10200 = 21300 (ГРН.)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Medium"/>
              </a:rPr>
              <a:t>Е</a:t>
            </a:r>
            <a:r>
              <a:rPr b="1" lang="ru-RU" sz="2000" spc="-1" strike="noStrike">
                <a:solidFill>
                  <a:srgbClr val="000000"/>
                </a:solidFill>
                <a:latin typeface="Franklin Gothic Medium"/>
              </a:rPr>
              <a:t>ЕФ</a:t>
            </a:r>
            <a:r>
              <a:rPr b="1" lang="ru-RU" sz="2600" spc="-1" strike="noStrike">
                <a:solidFill>
                  <a:srgbClr val="000000"/>
                </a:solidFill>
                <a:latin typeface="Franklin Gothic Medium"/>
              </a:rPr>
              <a:t> = Е1 – Е2 = 80850 – 23375 = 57475 (ГРН./РІК.)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56386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ranklin Gothic Medium"/>
              </a:rPr>
              <a:t>ЗАСОБИ РОЗРОБКИ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822240" y="1752480"/>
            <a:ext cx="7521840" cy="29275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"/>
          <p:cNvPicPr/>
          <p:nvPr/>
        </p:nvPicPr>
        <p:blipFill>
          <a:blip r:embed="rId2"/>
          <a:stretch/>
        </p:blipFill>
        <p:spPr>
          <a:xfrm>
            <a:off x="762120" y="1981080"/>
            <a:ext cx="7799400" cy="4534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Jenny</dc:creator>
  <dc:description/>
  <dc:language>en-US</dc:language>
  <cp:lastModifiedBy>sergoz</cp:lastModifiedBy>
  <dcterms:modified xsi:type="dcterms:W3CDTF">2016-03-28T22:32:22Z</dcterms:modified>
  <cp:revision>90</cp:revision>
  <dc:subject/>
  <dc:title>Метод оперативного контролю відхилень ваг роздядів ацп послідовного наближення</dc:title>
</cp:coreProperties>
</file>