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4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FD37-8DAB-4C92-9CED-80AA45DB2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3382-BC1F-4EA1-8F4E-6FBE3FAE2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44E1-1149-4B53-A6FB-EF5D5D1C0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368D-A2DC-49DB-96E9-C1BD6D383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FC15-CEF9-4D4C-869B-D667CED9D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C13A-6EB1-4D3E-8A9B-CB80A2D69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AC21-0219-4E4D-9DB3-0573B5430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0A0E-158F-4536-861B-0C34A087E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BB9-16FA-49DC-8A4D-AE0ACFA9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DDC-3BC5-4A23-8304-5C35EF8E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F3D-00F3-4F6D-A4CB-D96B93AA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0C2-3BA8-49A2-B67B-D5BC747D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FD11-5BA4-4104-B7A2-D260F131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F5B0-CE06-481B-A361-07005758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18AD-3A6A-440C-A240-3AC93DBE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4AEA-7C47-4588-A1B9-CBE2EDDF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CF7D-8382-4E03-983D-57D5FBB3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1442-E982-473C-8ECC-6F954F93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B125-4BF8-4C0D-8903-C9FC6537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03E5-A02B-47B8-A1ED-5FF6B769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650C-4578-4247-A172-7D86A122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CF1C-A6C5-4FFA-98EB-A42ACB03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85B7-DFDB-4304-87A4-66FDA158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59C0-95C1-4E0C-B7CC-D3788E15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89BB-7A28-442E-A864-0114784D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905A-2379-486A-9AAD-EAE0D5AA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7F2B4-1F4C-4F09-9F55-D906FC59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60FEA-8D2E-463E-AB5B-D0B20B2E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94AD-7F13-44EB-8EE2-2123F38E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3319F-65D0-482B-869B-CB6067A0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BC3-E782-4933-888C-01C776DC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C23D8-3D89-4CC9-9771-691BB805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5B74-8DC0-4215-8281-53342FFA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9892D-5F35-4BFF-804D-50DDDC5C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6D851-F694-4413-B694-060F9BAA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940CA-E140-4997-B1E0-F13CFD27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6ABA-85C8-4668-A256-15032EC7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5E01-3495-4B47-8390-F7E5C689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7C027-AC72-42CC-9BDB-CF3CE96A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A6106-D7E4-4632-93BE-50D697FB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05642-ED59-4E49-A674-F7395AFF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291-1466-41A2-9504-54A6D644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56A51-B590-40AE-BBB0-735A11A8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5C103-EB31-4BBC-8FAA-4FDA53E8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F381D-7B5E-48EC-B99A-EF772A09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9969F-9A66-41C2-A908-09377355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8AA8E-A577-4BCA-95DB-8B51EB01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A15E6-C1A0-4898-BFBD-AD78D541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36ED-5651-435D-9D3F-2267E619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C6073-5C32-4525-9AD5-5D778280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72503-E0A2-4E56-8ED3-9C962840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40B2F-81CF-4C19-AF56-01869C9E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346-1730-41FC-85A8-2704D17E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EE1C7-0C6D-4226-A772-FDE8402A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437C7-3C05-4C15-A09C-1F891D33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A17F8-42BB-412F-B5B9-8C3A4F63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F6074-A61A-4554-941B-C738D60E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E5742-541A-457B-B6FB-AC13D274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78CE9-2B93-4198-98B5-D1AF5B2E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9D06B-2DDE-46AD-A2F7-66EEBC1E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A7393-5DEF-4BEE-A8BC-DA3851FD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3BCC6-448D-4043-BDA0-C00F3B05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01DF9-0FDE-4492-9EBE-EB23951D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424-77C8-414A-B69C-7E3B88A6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F6380-5BE8-44F9-8E73-19BF0C01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F60-3ABF-4C90-BE0B-EA58912D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C842-AF9A-4EC6-8170-CD2CCBB2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85B-31F5-4642-BDBC-4D93B709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6363-2B4D-49BE-9635-2B135917EE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716C-27C3-4DEA-842E-F07D0D50EB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2DCE-AE6E-427E-975D-73B92B36EF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15A6-B3DB-48CB-BDE0-77193D4E52E5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40CF-DD1A-481F-8117-FC854E6FF84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153280" cy="24606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РОЗРОБКА ПРОГРАМНОГО ЗАБЕЗПЕЧЕННЯ КОМП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ЮТЕРНОЇ СИСТЕМИ ОБРАХУНКУ ВОДОПОСТАЧАННЯ ДЛЯ ВОДОКАНАЛІВ РАЙОННОГО ТИПУ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85840" y="3504960"/>
            <a:ext cx="4724280" cy="198108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unga"/>
              </a:rPr>
              <a:t>СТ.ГР. 3К-14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unga"/>
              </a:rPr>
              <a:t>ОЗЕРАНСЬКИЙ С.Л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unga"/>
              </a:rPr>
              <a:t>НАУКОВИЙ КЕРІВНИК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unga"/>
              </a:rPr>
              <a:t>К.Т.Н., ДОЦ. ТКАЧЕНКО О.М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6545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ДІАГРАМИ ПОТОКІВ ДАНИХ (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FD)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457200" y="990720"/>
            <a:ext cx="4572000" cy="642600"/>
          </a:xfrm>
          <a:prstGeom prst="rect">
            <a:avLst/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є основним засобом моделювання функціональних вимог системи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Прямоугольник 4"/>
          <p:cNvSpPr/>
          <p:nvPr/>
        </p:nvSpPr>
        <p:spPr>
          <a:xfrm>
            <a:off x="457200" y="1951200"/>
            <a:ext cx="4114800" cy="1465560"/>
          </a:xfrm>
          <a:prstGeom prst="rect">
            <a:avLst/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Головна мета таких зaco6iв - продемонструвати, як кожен процес перетворить свої вхідні дані у вихідні, а також виявити відносини між цими процесами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4" name="Picture 10" descr=""/>
          <p:cNvPicPr/>
          <p:nvPr/>
        </p:nvPicPr>
        <p:blipFill>
          <a:blip r:embed="rId1"/>
          <a:stretch/>
        </p:blipFill>
        <p:spPr>
          <a:xfrm>
            <a:off x="5562720" y="828720"/>
            <a:ext cx="3047760" cy="5541840"/>
          </a:xfrm>
          <a:prstGeom prst="rect">
            <a:avLst/>
          </a:prstGeom>
          <a:ln w="0">
            <a:noFill/>
          </a:ln>
        </p:spPr>
      </p:pic>
      <p:sp>
        <p:nvSpPr>
          <p:cNvPr id="255" name="Title 1"/>
          <p:cNvSpPr/>
          <p:nvPr/>
        </p:nvSpPr>
        <p:spPr>
          <a:xfrm>
            <a:off x="380880" y="4191120"/>
            <a:ext cx="5029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ranklin Gothic Medium"/>
              </a:rPr>
              <a:t>Контексна д</a:t>
            </a:r>
            <a:r>
              <a:rPr b="0" lang="uk-UA" sz="2600" spc="-1" strike="noStrike">
                <a:solidFill>
                  <a:srgbClr val="000000"/>
                </a:solidFill>
                <a:latin typeface="Franklin Gothic Medium"/>
              </a:rPr>
              <a:t>іаграма 0-го рівня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КОНТЕКСТНА ДІАГРАМА ТРЕТЬОГО РІВНЯ «ПРОВЕДЕННЯ РОЗРАХУНКІВ»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781680" cy="4827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24200" y="76320"/>
            <a:ext cx="5295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ДІАГРАМА «СУТНІСТЬ-ЗВ’ЯЗОК»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3" name="Picture 7" descr=""/>
          <p:cNvPicPr/>
          <p:nvPr/>
        </p:nvPicPr>
        <p:blipFill>
          <a:blip r:embed="rId1"/>
          <a:stretch/>
        </p:blipFill>
        <p:spPr>
          <a:xfrm>
            <a:off x="1752480" y="1063800"/>
            <a:ext cx="5378400" cy="548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3896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ОРГАНІЗАЦІЙНА СТРУКТУРА СИСТЕМ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8" name="Picture 9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172200" cy="5190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Rectangle 6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3896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ФУНКЦІОНАЛЬНА СТРУКТУРА СИСТЕМ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477120" cy="476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ЗАГАЛЬНА БЛОК-СХЕМА РОБОТИ ПРОГРАМ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6" name="Picture 7" descr=""/>
          <p:cNvPicPr/>
          <p:nvPr/>
        </p:nvPicPr>
        <p:blipFill>
          <a:blip r:embed="rId1"/>
          <a:stretch/>
        </p:blipFill>
        <p:spPr>
          <a:xfrm>
            <a:off x="838080" y="1003320"/>
            <a:ext cx="7315200" cy="5632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ЛОГІЧНА МОДЕЛЬ БАЗИ ДАНИХ «АБОНЕНТ – ПІДПРИЄМСТВО»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98280" y="1066680"/>
            <a:ext cx="896940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ФІЗИЧНА МОДЕЛЬ БАЗИ ДАНИХ «АБОНЕНТ – ПІДПРИЄМСТВО»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2" name="Picture 2" descr="ДиагрБД"/>
          <p:cNvPicPr/>
          <p:nvPr/>
        </p:nvPicPr>
        <p:blipFill>
          <a:blip r:embed="rId1"/>
          <a:stretch/>
        </p:blipFill>
        <p:spPr>
          <a:xfrm>
            <a:off x="76320" y="914400"/>
            <a:ext cx="9067680" cy="5791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5640" y="380880"/>
            <a:ext cx="5349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ГОЛОВНЕ ВІКНО АРМ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22240" y="1100160"/>
            <a:ext cx="7521840" cy="3579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8001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Franklin Gothic Medium"/>
              </a:rPr>
              <a:t>КАРТОТЕКА ЮРИДИЧНИХ ОСІБ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7" name="Picture 9" descr=""/>
          <p:cNvPicPr/>
          <p:nvPr/>
        </p:nvPicPr>
        <p:blipFill>
          <a:blip r:embed="rId1"/>
          <a:stretch/>
        </p:blipFill>
        <p:spPr>
          <a:xfrm>
            <a:off x="914400" y="1057320"/>
            <a:ext cx="7467480" cy="542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АКТУАЛЬНІСТЬ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9140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uk-UA" sz="1600" spc="-1" strike="noStrike">
                <a:solidFill>
                  <a:srgbClr val="000000"/>
                </a:solidFill>
                <a:latin typeface="Franklin Gothic Book"/>
              </a:rPr>
              <a:t>Незважаючи на високі вимоги до водоканалам по безперервності подачі води в наші квартири, рівень автоматизації на цих підприємствах досить низький, або відсутній. Однак автоматизація на водоканалах необхідна, і в першу чергу, для більш ефективного управління технологічним процесом видобутку і транспортування води, так як це дозволяє знизити витрати енергії і більш раціонально розпорядитися наявними ресурсами, а також для більш ефективного обліку споживання водостоків населенням та підприємствами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1" lang="uk-UA" sz="1600" spc="-1" strike="noStrike">
                <a:solidFill>
                  <a:srgbClr val="000000"/>
                </a:solidFill>
                <a:latin typeface="Franklin Gothic Book"/>
              </a:rPr>
              <a:t>На сьогоднішній день існують певні передумови впровадження програмного комплексу АРМ інспектора абонентського відділу ДП «Жмеринкаводоканал» м. Жмеринк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Title 1"/>
          <p:cNvSpPr/>
          <p:nvPr/>
        </p:nvSpPr>
        <p:spPr>
          <a:xfrm>
            <a:off x="623880" y="3597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434342"/>
                </a:solidFill>
                <a:latin typeface="Franklin Gothic Medium"/>
              </a:rPr>
              <a:t>Мета</a:t>
            </a:r>
            <a:endParaRPr b="0" lang="en-US" sz="3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Content Placeholder 2"/>
          <p:cNvSpPr/>
          <p:nvPr/>
        </p:nvSpPr>
        <p:spPr>
          <a:xfrm>
            <a:off x="609480" y="42670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Franklin Gothic Book"/>
              </a:rPr>
              <a:t>Метою дипломної роботи є підвищення продуктивності праці персоналу, що досягається завдяки зменшення кількості рутинних операцій за рахунок розробки і впровадження в якості АРМ інспектора абонентського відділу ДП «Жмеринкаводоканал» м. Жмеринка для розрахунку за спожиті водостоки для юридичних осіб, підприємств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26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Franklin Gothic Medium"/>
              </a:rPr>
              <a:t>КАРТОТЕКА ОБ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’</a:t>
            </a:r>
            <a:r>
              <a:rPr b="0" lang="uk-UA" sz="2500" spc="-1" strike="noStrike">
                <a:solidFill>
                  <a:srgbClr val="000000"/>
                </a:solidFill>
                <a:latin typeface="Franklin Gothic Medium"/>
              </a:rPr>
              <a:t>ЄКТІВ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38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0" name="Picture 7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172200" cy="5157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266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ВИХІДНІ ДОКУМЕНТИ ТА ЗВІТ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511280" y="1392120"/>
            <a:ext cx="612144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266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ФОРМА РАХУНК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238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990720" y="1096920"/>
            <a:ext cx="784836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266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ФОРМА ПОДАТКОВОЇ НАКЛАДНОЇ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238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807732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266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ОБОРОТНО-САЛЬДОВА ВІДОМІСТЬ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238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3059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266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Franklin Gothic Medium"/>
              </a:rPr>
              <a:t>ЕКОНОМІЧНА ЕФЕКТИВНІСТЬ ВІД ВПРОВАДЖЕННЯ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822240" y="1100160"/>
            <a:ext cx="7521840" cy="3579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1011240" y="1676520"/>
            <a:ext cx="71517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266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Franklin Gothic Medium"/>
              </a:rPr>
              <a:t>ЕКОНОМІЧНА ЕФЕКТИВНІСТЬ ВІД ВПРОВАДЖЕННЯ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38080" y="1828800"/>
            <a:ext cx="752184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На підтвердження економічної доцільності розробки свідчить економічний ефект на експлуатаційних витратах, який становить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∆Е =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12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160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 грн./рік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 rot="19140000">
            <a:off x="818280" y="1726920"/>
            <a:ext cx="5651640" cy="12063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Franklin Gothic Medium"/>
              </a:rPr>
              <a:t>ВИСНОВКИ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608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p:transition spd="slow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ОТЖЕ,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294920"/>
            <a:ext cx="8229600" cy="838440"/>
          </a:xfrm>
          <a:prstGeom prst="rect">
            <a:avLst/>
          </a:prstGeom>
          <a:solidFill>
            <a:srgbClr val="7c984a"/>
          </a:solidFill>
          <a:ln w="25560">
            <a:solidFill>
              <a:srgbClr val="596e34"/>
            </a:solidFill>
            <a:miter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Franklin Gothic Book"/>
              </a:rPr>
              <a:t>1    Для малих підприємств районного типу, до яких відноситься ДП «Жмеринкаводоканал», доцільним є використання локальних баз даних </a:t>
            </a: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Paradox, </a:t>
            </a:r>
            <a:r>
              <a:rPr b="1" lang="uk-UA" sz="1600" spc="-1" strike="noStrike">
                <a:solidFill>
                  <a:srgbClr val="ffffff"/>
                </a:solidFill>
                <a:latin typeface="Franklin Gothic Book"/>
              </a:rPr>
              <a:t>по файл-серверній технології. А це не потребує установки додаткового ПЗ і додаткових коштів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Content Placeholder 2"/>
          <p:cNvSpPr/>
          <p:nvPr/>
        </p:nvSpPr>
        <p:spPr>
          <a:xfrm>
            <a:off x="457200" y="2324160"/>
            <a:ext cx="8229600" cy="838080"/>
          </a:xfrm>
          <a:prstGeom prst="rect">
            <a:avLst/>
          </a:prstGeom>
          <a:solidFill>
            <a:srgbClr val="7c984a"/>
          </a:solidFill>
          <a:ln w="25560">
            <a:solidFill>
              <a:srgbClr val="596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Franklin Gothic Book"/>
              </a:rPr>
              <a:t>2    </a:t>
            </a:r>
            <a:r>
              <a:rPr b="1" lang="ru-RU" sz="1600" spc="-1" strike="noStrike">
                <a:solidFill>
                  <a:srgbClr val="ffffff"/>
                </a:solidFill>
                <a:latin typeface="Franklin Gothic Book"/>
              </a:rPr>
              <a:t>Завдяки запровадженню у виробництво розроблюваного програмного комплексу було отримано економію на питомих капітальних вкладеннях,  яка складає 21300 (грн.) і на експлуатаційних витратах – 127161 (грн../рік)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Content Placeholder 2"/>
          <p:cNvSpPr/>
          <p:nvPr/>
        </p:nvSpPr>
        <p:spPr>
          <a:xfrm>
            <a:off x="442800" y="3314880"/>
            <a:ext cx="8229600" cy="647640"/>
          </a:xfrm>
          <a:prstGeom prst="rect">
            <a:avLst/>
          </a:prstGeom>
          <a:solidFill>
            <a:srgbClr val="7c984a"/>
          </a:solidFill>
          <a:ln w="25560">
            <a:solidFill>
              <a:srgbClr val="596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Franklin Gothic Book"/>
              </a:rPr>
              <a:t>3    </a:t>
            </a:r>
            <a:r>
              <a:rPr b="1" lang="ru-RU" sz="1600" spc="-1" strike="noStrike">
                <a:solidFill>
                  <a:srgbClr val="ffffff"/>
                </a:solidFill>
                <a:latin typeface="Franklin Gothic Book"/>
              </a:rPr>
              <a:t>Було проведено розрахунок ціни програмного продукту, який склав 8263 (грн.), що дешевше ніж аналогічне на 12737 (грн.)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Content Placeholder 2"/>
          <p:cNvSpPr/>
          <p:nvPr/>
        </p:nvSpPr>
        <p:spPr>
          <a:xfrm>
            <a:off x="442800" y="4191120"/>
            <a:ext cx="8229600" cy="761760"/>
          </a:xfrm>
          <a:prstGeom prst="rect">
            <a:avLst/>
          </a:prstGeom>
          <a:solidFill>
            <a:srgbClr val="7c984a"/>
          </a:solidFill>
          <a:ln w="25560">
            <a:solidFill>
              <a:srgbClr val="596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Franklin Gothic Book"/>
              </a:rPr>
              <a:t>4    Завдяки впроводженню АРМ було значно зменшено кількість рутиних операцій, що призвело до більш ефективної праці бухгалтера та інспектора абонентського відділу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Franklin Gothic Medium"/>
              </a:rPr>
              <a:t>ДЯКУЮ ЗА УВАГУ!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ЗАПИТАННЯ?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ПРИЗНАЧЕННЯ РОЗРОБК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Функціональне призначення</a:t>
            </a:r>
            <a:r>
              <a:rPr b="1" i="1" lang="uk-UA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uk-UA" sz="18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ганізація автоматизованого вирішення задач управлінського обліку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Content Placeholder 2"/>
          <p:cNvSpPr/>
          <p:nvPr/>
        </p:nvSpPr>
        <p:spPr>
          <a:xfrm>
            <a:off x="609480" y="312408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97b7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розрахунок нарахувань вартості послуг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97b7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облік й контроль платежів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97b7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формування необхідних форм звітів та документів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82520" indent="-182520" algn="just">
              <a:lnSpc>
                <a:spcPct val="90000"/>
              </a:lnSpc>
              <a:spcBef>
                <a:spcPts val="601"/>
              </a:spcBef>
              <a:buClr>
                <a:srgbClr val="797b7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Content Placeholder 2"/>
          <p:cNvSpPr/>
          <p:nvPr/>
        </p:nvSpPr>
        <p:spPr>
          <a:xfrm>
            <a:off x="533520" y="19810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Експлуатаційне призначення</a:t>
            </a:r>
            <a:r>
              <a:rPr b="1" i="1" lang="uk-UA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втоматизація управлінського  обліку абонентського відділу послуг водопостачання й водовідведення, зроблених підприємствам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ЯКІ Ж Є НА ДАНИЙ МОМЕНТ ІСНУЮЧІ СИСТЕМИ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09480" y="1371600"/>
          <a:ext cx="7521840" cy="4846680"/>
        </p:xfrm>
        <a:graphic>
          <a:graphicData uri="http://schemas.openxmlformats.org/drawingml/2006/table">
            <a:tbl>
              <a:tblPr/>
              <a:tblGrid>
                <a:gridCol w="1881360"/>
                <a:gridCol w="2004840"/>
                <a:gridCol w="1755720"/>
                <a:gridCol w="1879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Локальні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алі інтегровані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Середні інтегровані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Великі інтегровані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Інот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ІНФІ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Інфософ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упер-Менедж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урбо-Бухгал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Інфо-Бухгал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 більше 100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ncorde X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x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S-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lat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RO/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a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un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ОСС-Корпорац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алактика/Пар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есур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тал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xap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JD Edwards (Robertson &amp; Blum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FG-Pro (QAD/BM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yteLine (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КАП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YMI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·SAP/R3 (SAP A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·Baan (Ba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·BPCS (ITS/S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·Oracle Applications (Orac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iRenaiss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ОРІЄНТОВНА ВАРТІСТЬ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09480" y="1371600"/>
          <a:ext cx="7521840" cy="2259000"/>
        </p:xfrm>
        <a:graphic>
          <a:graphicData uri="http://schemas.openxmlformats.org/drawingml/2006/table">
            <a:tbl>
              <a:tblPr/>
              <a:tblGrid>
                <a:gridCol w="1881360"/>
                <a:gridCol w="2004840"/>
                <a:gridCol w="1755720"/>
                <a:gridCol w="1879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Локальні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алі інтегровані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Середні інтегровані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Великі інтегровані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</a:tr>
              <a:tr h="13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-250 тис.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0-1500 тис. Грн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00-2500 тис.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500-5000 тис. Гр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440" y="6858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СПІВВІДНОШЕННЯ ЦІНА ЯКІСТ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712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9" name="Picture 7" descr="Рис1"/>
          <p:cNvPicPr/>
          <p:nvPr/>
        </p:nvPicPr>
        <p:blipFill>
          <a:blip r:embed="rId1"/>
          <a:stretch/>
        </p:blipFill>
        <p:spPr>
          <a:xfrm>
            <a:off x="914400" y="1371600"/>
            <a:ext cx="620064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СОСТАВ ДОДАТКОВОГО ПЗ ТА ЦІНОВІ ХАРАКТЕРИСТИКИ КОМПЛЕКСІВ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" y="990720"/>
          <a:ext cx="7521480" cy="5554440"/>
        </p:xfrm>
        <a:graphic>
          <a:graphicData uri="http://schemas.openxmlformats.org/drawingml/2006/table">
            <a:tbl>
              <a:tblPr/>
              <a:tblGrid>
                <a:gridCol w="1504800"/>
                <a:gridCol w="1603440"/>
                <a:gridCol w="1405080"/>
                <a:gridCol w="1503360"/>
                <a:gridCol w="1504800"/>
              </a:tblGrid>
              <a:tr h="1065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Times New Roman"/>
                        </a:rPr>
                        <a:t>Назва програмного проду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Times New Roman"/>
                        </a:rPr>
                        <a:t>Необхідність установки клиєнт-серверних СК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Times New Roman"/>
                        </a:rPr>
                        <a:t>Необхідність установки додаткових платфо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Times New Roman"/>
                        </a:rPr>
                        <a:t>Операційна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Times New Roman"/>
                        </a:rPr>
                        <a:t>Ці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</a:tr>
              <a:tr h="1460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Програмний комплекс "1С: Підприємство 8. Технічний розрахунковий центр водоканалу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Microsoft SQL-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С: Підприємство 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Windows 2003 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        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6500 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</a:tr>
              <a:tr h="91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Програмний комплекс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«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Дебет Плюс – Водоканал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Oracle, MS SQL або DB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JRE –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 віртуальна ява маш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Windows, Linux, або Mac 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3500 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109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Програмні комплекси “Абонент-населення” та “Абонента-підприємства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InterBase або FireBi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Windows-XP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 і вище, Linux або FreeBS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1000 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</a:tr>
              <a:tr h="109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Розробка власного програмного забезпечення для водоканалу районного тип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Windows-XP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і вищ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0 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Franklin Gothic Medium"/>
              </a:rPr>
              <a:t>АБСОЛЮТНИЙ ЕФЕКТ НА КАПІТАЛЬНИХ ВКЛАДЕННЯХ І НА ЕКСПЛУАТАЦІЙНИХ ВИТРАТАХ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Title 1"/>
          <p:cNvSpPr/>
          <p:nvPr/>
        </p:nvSpPr>
        <p:spPr>
          <a:xfrm>
            <a:off x="533520" y="18288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Medium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ЕФ</a:t>
            </a:r>
            <a:r>
              <a:rPr b="1" lang="ru-RU" sz="2600" spc="-1" strike="noStrike">
                <a:solidFill>
                  <a:srgbClr val="000000"/>
                </a:solidFill>
                <a:latin typeface="Franklin Gothic Medium"/>
              </a:rPr>
              <a:t> = К1 - К2  = 31500 – 10200 = 21300 (ГРН.)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Medium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ЕФ</a:t>
            </a:r>
            <a:r>
              <a:rPr b="1" lang="ru-RU" sz="2600" spc="-1" strike="noStrike">
                <a:solidFill>
                  <a:srgbClr val="000000"/>
                </a:solidFill>
                <a:latin typeface="Franklin Gothic Medium"/>
              </a:rPr>
              <a:t> = Е1 – Е2 = 80850 – 23375 = 57475 (ГРН./РІК.)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ЗАСОБИ РОЗРОБКИ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822240" y="1752480"/>
            <a:ext cx="7521840" cy="2927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799400" cy="4534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enny</dc:creator>
  <dc:description/>
  <dc:language>en-US</dc:language>
  <cp:lastModifiedBy>sergoz</cp:lastModifiedBy>
  <dcterms:modified xsi:type="dcterms:W3CDTF">2016-03-28T22:32:22Z</dcterms:modified>
  <cp:revision>90</cp:revision>
  <dc:subject/>
  <dc:title>Метод оперативного контролю відхилень ваг роздядів ацп послідовного наближення</dc:title>
</cp:coreProperties>
</file>