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3CF5-2D70-40D0-BDF2-757E1C6D68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326F-130F-4725-AAC0-0AA69565A33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250-0BBF-4C2E-BB1F-131F7F7F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4987-28B3-479C-988E-86633FE3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F70-A9E8-49C8-950C-3AB17B05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B1E-A2B6-415C-9191-DA5EAB2D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9C8-55E1-4329-BCE0-35C360F9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6202-6AB1-448F-9D2B-0C3A2995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A4AE-88CD-41BA-8FFE-60C5F01A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004-9EDC-45AC-8F8C-935D3B6E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428-86CB-4E6D-A5E7-FAEC130D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CB4-4507-43C1-B3DE-62B90E0D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160-0DB5-4B52-8153-D5E235B8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52E-293E-4237-8028-7126D21F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72F3-25F7-467E-A615-3135484F5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00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шов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потоки і їх оптимізація на підприємстві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886280"/>
            <a:ext cx="84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иконав: слухач 2 курсу, групи 2М-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пеціальності 7.03060101 – «Менеджмент організацій і адмініструванн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Горбова Ю.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ерівник: к.е.н., доц. кафедри П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Безсмертна О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960" y="259920"/>
            <a:ext cx="49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інницький національний технічний уні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акультет менеджме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федра підготовки менедже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838260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882F-A67F-42EA-8909-92747FDB7F09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6520" y="5875920"/>
            <a:ext cx="5821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2.8 – Факторний аналіз зміни грошових коштів ПрАТ «ВЗФКі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55640" y="765000"/>
          <a:ext cx="8137080" cy="4895640"/>
        </p:xfrm>
        <a:graphic>
          <a:graphicData uri="http://schemas.openxmlformats.org/drawingml/2006/table">
            <a:tbl>
              <a:tblPr/>
              <a:tblGrid>
                <a:gridCol w="3938040"/>
                <a:gridCol w="1050480"/>
                <a:gridCol w="1050120"/>
                <a:gridCol w="2098440"/>
              </a:tblGrid>
              <a:tr h="74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 змі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шові кош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інвестований приб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0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 за вирахуванням реінвестованого прибу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зобов’язання та забезпе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і зобов’язання та забезпе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2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оротні акти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і активи за вирахуванням грошових кошт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6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9540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838260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FBEC-959F-4001-805C-7F0CBB58FBD8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8000" y="6164640"/>
            <a:ext cx="6689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2.9 – Показники, які характеризують кошти у розрахунках ПрАТ «ВЗФКі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11240" y="692280"/>
          <a:ext cx="7305480" cy="5096880"/>
        </p:xfrm>
        <a:graphic>
          <a:graphicData uri="http://schemas.openxmlformats.org/drawingml/2006/table">
            <a:tbl>
              <a:tblPr/>
              <a:tblGrid>
                <a:gridCol w="1901520"/>
                <a:gridCol w="738000"/>
                <a:gridCol w="738000"/>
                <a:gridCol w="738000"/>
                <a:gridCol w="738360"/>
                <a:gridCol w="853200"/>
                <a:gridCol w="832680"/>
                <a:gridCol w="765720"/>
              </a:tblGrid>
              <a:tr h="780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3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іна значень 2014р. порівняно із 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іна значень 2014р. порівняно із 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о-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 при-росту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о-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 при-росту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ротність грошових коштів, оборот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1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0,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,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,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ивалість обороту грошових коштів, дн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,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,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32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інімальна сума грошей, необхідна для проведення господарських операцій, тис.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87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63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1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95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7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972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2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ефіцієнт участі грошових коштів в оборотному капітал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0,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33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9540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838260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A7DE-112D-4853-A217-3F0D11F78052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761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201080" cy="5538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72200" y="6164640"/>
            <a:ext cx="536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унок 2.6 –Організаційна структура управління ПрАТ «ВЗФКі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838260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B058-79E3-4730-B3B9-67F8C5D5AC6C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19160" y="5804640"/>
            <a:ext cx="745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лиця 3.2 – Зб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ьшення обсягу виробництва продукції ПрАТ «ВЗФКіВ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00000" y="765000"/>
          <a:ext cx="7848360" cy="4679640"/>
        </p:xfrm>
        <a:graphic>
          <a:graphicData uri="http://schemas.openxmlformats.org/drawingml/2006/table">
            <a:tbl>
              <a:tblPr/>
              <a:tblGrid>
                <a:gridCol w="1689120"/>
                <a:gridCol w="1596240"/>
                <a:gridCol w="1596240"/>
                <a:gridCol w="1030680"/>
                <a:gridCol w="1936080"/>
              </a:tblGrid>
              <a:tr h="221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продук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робництва продукції, тис.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івартість реалізованої продукції, тис.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робництва продукції, тис.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івартість реалізованоїпродукції, тис.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к концентрований яблуч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2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84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2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алкогольний нап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6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ь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0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0" y="52513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838260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03B1-4CA2-4992-8D99-A31719452064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333360"/>
            <a:ext cx="8424720" cy="57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СН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дипломній роботі розроблено пропозиції щодо покращення фінансового стану підприємства на основі аналізу управління грошовими пото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конання поставлених завдань дозволяє зробити такі виснов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гляд літературних джерел показав, що різноманітність підходів до розуміння економічної сутності грошових потоків обумовлене тим, що вони складають основу всієї фінансової системи підприємства і мають тісний зв'язок фактично з усіма його економічними процесами. Можна виділити два підходи до визначення поняття грошового потоку, а саме як різницю між отриманими і виплаченими підприємством грошовими коштами, та як рух грошових кошт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аналізовано внутрішні та зовнішні фактори, що впливають на управління грошовими потоками суб’єкта господарю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гальна мета управління грошовими коштами — забезпечення збалансованості їх потоків, що надає можливість підтримувати достатній рівень платоспроможності та фінансової стійкості підприєм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відь завершено, дякую за уваг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831888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81A4-7EB2-40B0-8B9E-A70475CABC7E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3000" y="6155280"/>
            <a:ext cx="802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1.2 - Принципи управління грошовими потоками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4360" y="549360"/>
          <a:ext cx="7703640" cy="5471640"/>
        </p:xfrm>
        <a:graphic>
          <a:graphicData uri="http://schemas.openxmlformats.org/drawingml/2006/table">
            <a:tbl>
              <a:tblPr/>
              <a:tblGrid>
                <a:gridCol w="2049480"/>
                <a:gridCol w="565416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зва принцип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нформативної достовір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безпечення системи управління грошовими потоками підприємства необхідною інформаційною базою, яка містить повну, правдиву та неупереджену інформацію про рух грошових коштів у результаті різних видів діяль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безпечення збалансова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в'язана з оптимізацією грошових потоків підприємства в процесі управління ни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іквід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процесі управління грошовими потоками полягає у забезпеченні ефективного використання грошових коштів, що сприяє формуванню додаткових інвестиційних ресурсів для здійснення фінансових інвестиц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фектив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алізація цього принципу може бути досягнута шляхом синхронізації вхідного та вихідного грошових потоків досліджуваного пері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831888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6405-F6C7-436F-AB40-25E39E089C18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2920" y="115920"/>
          <a:ext cx="8893080" cy="6516720"/>
        </p:xfrm>
        <a:graphic>
          <a:graphicData uri="http://schemas.openxmlformats.org/drawingml/2006/table">
            <a:tbl>
              <a:tblPr/>
              <a:tblGrid>
                <a:gridCol w="1981080"/>
                <a:gridCol w="922320"/>
                <a:gridCol w="924120"/>
                <a:gridCol w="925560"/>
                <a:gridCol w="923760"/>
                <a:gridCol w="1187640"/>
                <a:gridCol w="923760"/>
                <a:gridCol w="1104840"/>
              </a:tblGrid>
              <a:tr h="465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13р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іна значень 2014р.порівняно із 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іна значень 2014р.порівняно із 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о-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 при-росту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о-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 при- росту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гальна вартість майна, тис. 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31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114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187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73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,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92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2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асний капітал.тис. 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38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3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0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лучений капітал.тис. 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3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4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1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923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3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ротні активи, тис. 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07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44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40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63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1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оборотні активи, тис. 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3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тий дохід, тис. 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06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21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51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4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30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1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бівартість реалізованої продукції, тис. 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7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11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54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33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3,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ловий прибуток, тис. 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8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9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7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інансовий результат від операційної діяльності, тис. 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3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0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інансовий результат до оподаткування, тис, 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98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9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92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тий прибуток, тис. грн.(чистий фінансовий результа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9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9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92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50920" y="0"/>
          <a:ext cx="8642160" cy="6897600"/>
        </p:xfrm>
        <a:graphic>
          <a:graphicData uri="http://schemas.openxmlformats.org/drawingml/2006/table">
            <a:tbl>
              <a:tblPr/>
              <a:tblGrid>
                <a:gridCol w="2954160"/>
                <a:gridCol w="738360"/>
                <a:gridCol w="749160"/>
                <a:gridCol w="770040"/>
                <a:gridCol w="855720"/>
                <a:gridCol w="876240"/>
                <a:gridCol w="833400"/>
                <a:gridCol w="865080"/>
              </a:tblGrid>
              <a:tr h="423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3р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порівняно із 2012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значень 2014р.порівняно із 2013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-лют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-росту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-лют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- росту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автономі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концентрації залученого капітал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фінансового ризи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маневреності власного капітал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забезпеченості власними оборотними актив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покритт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,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швидкої ліквідност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абсолютної ліквідност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2,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активів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,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,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власного капіталу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,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залученого капіталу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,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рентабельності продажу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,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,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оборотності активів, оборот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1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оборотності власного капіталу, оборот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оборотності залученого капіталу, оборот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3,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9,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ефіцієнт оборотності дебіторської заборгованості, оборот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,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,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,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0,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6,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ефіцієнт оборотності кредиторської заборгованості, оборот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31,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8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ивалість обороту дебіторської заборгованості, дн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,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,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,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9,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31,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ивалість обороту кредиторської заборгованості, дн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2,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6,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5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6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61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61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831888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4450-1782-4102-AA24-77B927B91E84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260280"/>
          <a:ext cx="7991280" cy="60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0280"/>
                    <a:ext cx="799128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35080" y="630036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2.3 ─ Динаміка коефіцієнтів фінансової стійкості ПрАТ «ВЗФК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447984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831888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DAA2-7952-417F-B86D-38DAF544E6CB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260280"/>
          <a:ext cx="8281800" cy="582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828180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493640" y="6221160"/>
            <a:ext cx="595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2.4 ─ Динаміка коефіцієнтів ліквідності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Т «ВЗФК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1"/>
          <p:cNvSpPr/>
          <p:nvPr/>
        </p:nvSpPr>
        <p:spPr>
          <a:xfrm>
            <a:off x="0" y="-2890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31888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0B8A-7C64-4ABA-92A5-3E081F7487BC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95280" y="0"/>
          <a:ext cx="8497800" cy="6857640"/>
        </p:xfrm>
        <a:graphic>
          <a:graphicData uri="http://schemas.openxmlformats.org/drawingml/2006/table">
            <a:tbl>
              <a:tblPr/>
              <a:tblGrid>
                <a:gridCol w="2436840"/>
                <a:gridCol w="836640"/>
                <a:gridCol w="828720"/>
                <a:gridCol w="812880"/>
                <a:gridCol w="812520"/>
                <a:gridCol w="852480"/>
                <a:gridCol w="960480"/>
                <a:gridCol w="957240"/>
              </a:tblGrid>
              <a:tr h="657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іна значень 2014 р. порівняно із 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іна значень 2014 р. порівняно із 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о-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-росту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о-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 при-росту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тий рух коштів від операційної діяльності всь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4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1,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1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ому числі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алізації продукції (товарів, робіт, послу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5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9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2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0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дходження авансів від покупців і замовник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5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91,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39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96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дходження від повернення аванс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9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99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дходження від операційної орен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3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трачання на оплату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варів (робіт, послу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4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4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5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9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44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8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ц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рахувань на соціальні захо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обов'язань з податків і збор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трачання на оплату повернення аванс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Інші витрач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831888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CE14-9046-4125-A2E0-C91162B8F5DF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66600" y="6091920"/>
            <a:ext cx="7063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аблиця 2.6 - Аналіз руху грошових коштів ПрАТ «ВЗФКіВ» від інвестиційної діяль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30160" y="692280"/>
          <a:ext cx="7702200" cy="4847760"/>
        </p:xfrm>
        <a:graphic>
          <a:graphicData uri="http://schemas.openxmlformats.org/drawingml/2006/table">
            <a:tbl>
              <a:tblPr/>
              <a:tblGrid>
                <a:gridCol w="2089080"/>
                <a:gridCol w="657360"/>
                <a:gridCol w="657720"/>
                <a:gridCol w="657360"/>
                <a:gridCol w="717840"/>
                <a:gridCol w="1145160"/>
                <a:gridCol w="767880"/>
                <a:gridCol w="1009800"/>
              </a:tblGrid>
              <a:tr h="789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іна значень 2014 р. порівняно із 2012р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іна значень 2014 р. порівняно із 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о-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 при-росту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о-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-присту 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тий рух коштів від інвестиційної діяльності всь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7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6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2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6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ому числі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дходження від реалізації необоротних актив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трачання на придбання необоротних актив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6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318880" y="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B222-B3CA-4730-8955-1DD4A3149B69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0400" y="6164640"/>
            <a:ext cx="6861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аблиця 2.7 - Аналіз руху грошових коштів ПрАТ «ВЗФКІВ» від фінансової діяль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4560" y="549360"/>
          <a:ext cx="8100720" cy="5147640"/>
        </p:xfrm>
        <a:graphic>
          <a:graphicData uri="http://schemas.openxmlformats.org/drawingml/2006/table">
            <a:tbl>
              <a:tblPr/>
              <a:tblGrid>
                <a:gridCol w="2109600"/>
                <a:gridCol w="819000"/>
                <a:gridCol w="700920"/>
                <a:gridCol w="819000"/>
                <a:gridCol w="771120"/>
                <a:gridCol w="1107720"/>
                <a:gridCol w="924120"/>
                <a:gridCol w="849240"/>
              </a:tblGrid>
              <a:tr h="822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іна значень 2014р. порівняно із 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іна значень 2014р. порівняно із 2013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о-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 при-росту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о-лют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 при-росту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тий рух коштів від фінансової діяль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2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15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60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дходження ві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римання поз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9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4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трачання н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гашення поз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36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трачання на сплату відсотк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0" y="56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07:42:50Z</dcterms:created>
  <dc:creator>Юлия</dc:creator>
  <dc:description/>
  <dc:language>en-US</dc:language>
  <cp:lastModifiedBy>Юля</cp:lastModifiedBy>
  <dcterms:modified xsi:type="dcterms:W3CDTF">2016-03-29T21:53:28Z</dcterms:modified>
  <cp:revision>290</cp:revision>
  <dc:subject/>
  <dc:title>Слайд 1</dc:title>
</cp:coreProperties>
</file>