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0F09-8853-4713-BF41-C578C1FAC5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B009-37AD-466D-86C9-3570FA0C54A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CE2-0EEE-4C56-A487-3E0F38BC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074-CA36-4D9C-B67E-66505CFD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497-FC3B-4653-BF53-48A5F2EE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018-48CF-41BB-AB7F-D2FAB634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B87-B32D-46FB-8EBB-D2246748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8DB-5E18-4AA9-A36C-07F26659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9F0-F37D-49B3-97AA-17E869C0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C77-3F98-4386-8231-B8DA9875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365-8E17-44D3-AB3E-6074DAEA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ADD-A34A-4436-A1A4-D534908E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A56-0983-439C-B97D-CA8B3368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096-2D33-4754-B7F9-85BAAD35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2B8C-19F3-4EB0-8974-3E1EEC211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00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шов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потоки і їх оптимізація на підприємстві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886280"/>
            <a:ext cx="84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иконав: слухач 2 курсу, групи 2М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пеціальності 7.03060101 – «Менеджмент організацій і адмініструванн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Горбова Ю.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ерівник: к.е.н., доц. кафедри П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Безсмертна О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960" y="259920"/>
            <a:ext cx="49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акультет менеджме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федра підготовки менедже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838260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7117-9057-4FB2-808D-615F0F84775C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6520" y="5875920"/>
            <a:ext cx="5821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2.8 – Факторний аналіз зміни грошових коштів ПрАТ «ВЗФКі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765000"/>
          <a:ext cx="8137080" cy="4895640"/>
        </p:xfrm>
        <a:graphic>
          <a:graphicData uri="http://schemas.openxmlformats.org/drawingml/2006/table">
            <a:tbl>
              <a:tblPr/>
              <a:tblGrid>
                <a:gridCol w="3938040"/>
                <a:gridCol w="1050480"/>
                <a:gridCol w="1050120"/>
                <a:gridCol w="2098440"/>
              </a:tblGrid>
              <a:tr h="74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 змі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ові кош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інвестований приб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0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 за вирахуванням реінвестованого прибу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зобов’язання та 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і зобов’язання та 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2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оротні акти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активи за вирахуванням грошових кошт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6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9540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838260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A0D7-3713-49C5-A908-612459799FFA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8000" y="6164640"/>
            <a:ext cx="6689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2.9 – Показники, які характеризують кошти у розрахунках ПрАТ «ВЗФКі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11240" y="692280"/>
          <a:ext cx="7305480" cy="5096880"/>
        </p:xfrm>
        <a:graphic>
          <a:graphicData uri="http://schemas.openxmlformats.org/drawingml/2006/table">
            <a:tbl>
              <a:tblPr/>
              <a:tblGrid>
                <a:gridCol w="1901520"/>
                <a:gridCol w="738000"/>
                <a:gridCol w="738000"/>
                <a:gridCol w="738000"/>
                <a:gridCol w="738360"/>
                <a:gridCol w="853200"/>
                <a:gridCol w="832680"/>
                <a:gridCol w="765720"/>
              </a:tblGrid>
              <a:tr h="780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р. порівняно із 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р. порівняно із 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при-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при-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ротність грошових коштів, оборот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1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,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ивалість обороту грошових коштів, д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2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інімальна сума грошей, необхідна для проведення господарських операцій, 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7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63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1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95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7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972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2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ефіцієнт участі грошових коштів в оборотному капітал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3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9540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838260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653A-C710-4DD1-8BBE-A46F5426B581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761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201080" cy="5538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72200" y="6164640"/>
            <a:ext cx="53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2.6 –Організаційна структура управління ПрАТ «ВЗФКі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838260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E8D4-AFB2-49BB-BC59-29FF312DA8B5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9160" y="5804640"/>
            <a:ext cx="745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я 3.2 – Зб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ьшення обсягу виробництва продукції ПрАТ «ВЗФКіВ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765000"/>
          <a:ext cx="7848360" cy="4679640"/>
        </p:xfrm>
        <a:graphic>
          <a:graphicData uri="http://schemas.openxmlformats.org/drawingml/2006/table">
            <a:tbl>
              <a:tblPr/>
              <a:tblGrid>
                <a:gridCol w="1689120"/>
                <a:gridCol w="1596240"/>
                <a:gridCol w="1596240"/>
                <a:gridCol w="1030680"/>
                <a:gridCol w="1936080"/>
              </a:tblGrid>
              <a:tr h="221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продук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робництва продукції, тис.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івартість реалізованої продукції, тис.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робництва продукції, тис.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івартість реалізованоїпродукції, тис.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к концентрований яблуч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2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84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2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алкогольний нап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6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0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52513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838260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9052-1C7E-4988-8C94-AA4034AA8887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333360"/>
            <a:ext cx="8424720" cy="57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СН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дипломній роботі розроблено пропозиції щодо покращення фінансового стану підприємства на основі аналізу управління грошовими пото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конання поставлених завдань дозволяє зробити такі виснов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ляд літературних джерел показав, що різноманітність підходів до розуміння економічної сутності грошових потоків обумовлене тим, що вони складають основу всієї фінансової системи підприємства і мають тісний зв'язок фактично з усіма його економічними процесами. Можна виділити два підходи до визначення поняття грошового потоку, а саме як різницю між отриманими і виплаченими підприємством грошовими коштами, та як рух грошових кошт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аналізовано внутрішні та зовнішні фактори, що впливають на управління грошовими потоками суб’єкта господарю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гальна мета управління грошовими коштами — забезпечення збалансованості їх потоків, що надає можливість підтримувати достатній рівень платоспроможності та фінансової стійкості підприєм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відь завершено, дякую за уваг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831888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2E34-45BD-4032-8889-FFAC6BF35009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3000" y="6155280"/>
            <a:ext cx="802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1.2 - Принципи управління грошовими потоками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4360" y="549360"/>
          <a:ext cx="7703640" cy="5471640"/>
        </p:xfrm>
        <a:graphic>
          <a:graphicData uri="http://schemas.openxmlformats.org/drawingml/2006/table">
            <a:tbl>
              <a:tblPr/>
              <a:tblGrid>
                <a:gridCol w="2049480"/>
                <a:gridCol w="565416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зва принцип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нформативної достовір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безпечення системи управління грошовими потоками підприємства необхідною інформаційною базою, яка містить повну, правдиву та неупереджену інформацію про рух грошових коштів у результаті різних видів діяль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безпечення збаланс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'язана з оптимізацією грошових потоків підприємства в процесі управління н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іквід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процесі управління грошовими потоками полягає у забезпеченні ефективного використання грошових коштів, що сприяє формуванню додаткових інвестиційних ресурсів для здійснення фінансових інвестиц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фектив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алізація цього принципу може бути досягнута шляхом синхронізації вхідного та вихідного грошових потоків досліджува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831888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5CA8-1C2D-455A-8DA0-AEE1D29864B7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2920" y="115920"/>
          <a:ext cx="8893080" cy="6516720"/>
        </p:xfrm>
        <a:graphic>
          <a:graphicData uri="http://schemas.openxmlformats.org/drawingml/2006/table">
            <a:tbl>
              <a:tblPr/>
              <a:tblGrid>
                <a:gridCol w="1981080"/>
                <a:gridCol w="922320"/>
                <a:gridCol w="924120"/>
                <a:gridCol w="925560"/>
                <a:gridCol w="923760"/>
                <a:gridCol w="1187640"/>
                <a:gridCol w="923760"/>
                <a:gridCol w="1104840"/>
              </a:tblGrid>
              <a:tr h="465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13р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р.порівняно із 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р.порівняно із 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при-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при- 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гальна вартість майна, 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31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11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187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7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92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2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сний капітал.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8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лучений капітал.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1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92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3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ротні активи, 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07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44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4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63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1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оборотні активи, 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3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тий дохід, 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06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21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51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4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30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бівартість реалізованої продукції, 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7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1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54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33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3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ловий прибуток, 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9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7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інансовий результат від операційної діяльності, 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3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0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інансовий результат до оподаткування, тис,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98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92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тий прибуток, тис. грн.(чистий фінансовий результа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9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92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50920" y="0"/>
          <a:ext cx="8642160" cy="6897600"/>
        </p:xfrm>
        <a:graphic>
          <a:graphicData uri="http://schemas.openxmlformats.org/drawingml/2006/table">
            <a:tbl>
              <a:tblPr/>
              <a:tblGrid>
                <a:gridCol w="2954160"/>
                <a:gridCol w="738360"/>
                <a:gridCol w="749160"/>
                <a:gridCol w="770040"/>
                <a:gridCol w="855720"/>
                <a:gridCol w="876240"/>
                <a:gridCol w="833400"/>
                <a:gridCol w="865080"/>
              </a:tblGrid>
              <a:tr h="423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3р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порівняно із 2012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порівняно із 2013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-лют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-росту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-лют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- росту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автономі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концентрації залученого капітал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фінансового ризи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маневреності власного капітал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забезпеченості власними оборотними акти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покритт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,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швидкої ліквідно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абсолютної ліквідно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2,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активів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,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,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власного капіталу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,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залученого капіталу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продажу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,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активів, оборот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1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власного капіталу, оборот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залученого капіталу, оборот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3,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9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ефіцієнт оборотності дебіторської заборгованості, оборот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6,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ефіцієнт оборотності кредиторської заборгованості, оборот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31,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8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ивалість обороту дебіторської заборгованості, дн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,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,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9,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31,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ивалість обороту кредиторської заборгованості, дн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2,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6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5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6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61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61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831888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36C2-6254-4BD5-AF46-5D1B5A651226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260280"/>
          <a:ext cx="799128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799128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35080" y="630036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2.3 ─ Динаміка коефіцієнтів фінансової стійкості ПрАТ «ВЗФК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47984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831888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3554-E1BB-4651-AC14-D70FC7DFDBA8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260280"/>
          <a:ext cx="8281800" cy="582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28180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493640" y="6221160"/>
            <a:ext cx="595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2.4 ─ Динаміка коефіцієнтів ліквідності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Т «ВЗФК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1"/>
          <p:cNvSpPr/>
          <p:nvPr/>
        </p:nvSpPr>
        <p:spPr>
          <a:xfrm>
            <a:off x="0" y="-2890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31888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43AB-3A24-4973-8A31-793C086D3EA3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95280" y="0"/>
          <a:ext cx="8497800" cy="6857640"/>
        </p:xfrm>
        <a:graphic>
          <a:graphicData uri="http://schemas.openxmlformats.org/drawingml/2006/table">
            <a:tbl>
              <a:tblPr/>
              <a:tblGrid>
                <a:gridCol w="2436840"/>
                <a:gridCol w="836640"/>
                <a:gridCol w="828720"/>
                <a:gridCol w="812880"/>
                <a:gridCol w="812520"/>
                <a:gridCol w="852480"/>
                <a:gridCol w="960480"/>
                <a:gridCol w="957240"/>
              </a:tblGrid>
              <a:tr h="657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 р. порівняно із 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 р. порівняно із 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-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при-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тий рух коштів від операційної діяльності всь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1,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1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ому числі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лізації продукції (товарів, робіт, послу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9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2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дходження авансів від покупців і замовник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5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91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39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96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дходження від повернення аванс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9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99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дходження від операційної орен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3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трачання на оплату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варів (робіт, послу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4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5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9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4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8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ц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рахувань на соціальні захо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обов'язань з податків і збор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трачання на оплату повернення аванс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нші витрач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831888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E1DF-D68D-4BE0-8202-6530A63E7BDC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66600" y="6091920"/>
            <a:ext cx="7063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2.6 - Аналіз руху грошових коштів ПрАТ «ВЗФКіВ» від інвестиційної діяль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30160" y="692280"/>
          <a:ext cx="7702200" cy="4847760"/>
        </p:xfrm>
        <a:graphic>
          <a:graphicData uri="http://schemas.openxmlformats.org/drawingml/2006/table">
            <a:tbl>
              <a:tblPr/>
              <a:tblGrid>
                <a:gridCol w="2089080"/>
                <a:gridCol w="657360"/>
                <a:gridCol w="657720"/>
                <a:gridCol w="657360"/>
                <a:gridCol w="717840"/>
                <a:gridCol w="1145160"/>
                <a:gridCol w="767880"/>
                <a:gridCol w="1009800"/>
              </a:tblGrid>
              <a:tr h="789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 р. порівняно із 2012р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 р. порівняно із 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при-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-присту 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тий рух коштів від інвестиційної діяльності всь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7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6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6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ому числі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дходження від реалізації необоротних актив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трачання на придбання необоротних актив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6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1888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94C2-263F-4081-8D05-F090407CC804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0400" y="6164640"/>
            <a:ext cx="6861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2.7 - Аналіз руху грошових коштів ПрАТ «ВЗФКІВ» від фінансової діяль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4560" y="549360"/>
          <a:ext cx="8100720" cy="5147640"/>
        </p:xfrm>
        <a:graphic>
          <a:graphicData uri="http://schemas.openxmlformats.org/drawingml/2006/table">
            <a:tbl>
              <a:tblPr/>
              <a:tblGrid>
                <a:gridCol w="2109600"/>
                <a:gridCol w="819000"/>
                <a:gridCol w="700920"/>
                <a:gridCol w="819000"/>
                <a:gridCol w="771120"/>
                <a:gridCol w="1107720"/>
                <a:gridCol w="924120"/>
                <a:gridCol w="849240"/>
              </a:tblGrid>
              <a:tr h="822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р. порівняно із 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р. порівняно із 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при-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при-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тий рух коштів від фінансової діяль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15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60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дходження ві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римання поз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4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трачання н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гашення поз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6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трачання на сплату відсотк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0" y="56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07:42:50Z</dcterms:created>
  <dc:creator>Юлия</dc:creator>
  <dc:description/>
  <dc:language>en-US</dc:language>
  <cp:lastModifiedBy>Юля</cp:lastModifiedBy>
  <dcterms:modified xsi:type="dcterms:W3CDTF">2016-03-29T21:53:28Z</dcterms:modified>
  <cp:revision>290</cp:revision>
  <dc:subject/>
  <dc:title>Слайд 1</dc:title>
</cp:coreProperties>
</file>