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ай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AA0-2904-47FF-A840-46CAC566D44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3F5-2C77-49FA-80E5-FA65B53CA0A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Верхний колонтитул 4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ай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8CB-1A92-4B0F-A533-F2637B0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7CE-4D6F-4072-9BD7-F3A3106C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3A9-A620-4923-A8B8-16F59193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56E-7931-476C-8C2E-47DB3681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717-6C43-497D-A3FA-CEA0ED5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D35-7767-42DC-9A7B-586430E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BCE-5FF5-4F8C-ACB2-8FDB1CF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3CE-A6B5-47E5-A57A-1536418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AA4-81BD-4687-AF25-52F0216F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4EC-8D2C-4BA7-864A-CF6D221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AA8-FF3C-48B9-9CC2-E5441ED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F43-D881-4D82-ABC1-C0F4DF2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BA2F-3FCB-467C-9D97-432AAE6429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661-40CF-4BE7-ACF4-363D23358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47600"/>
            <a:ext cx="9144000" cy="67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нститут інтеграції навчання з виробництвом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Центр післядипломної освіт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нститут менеджмен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афедра підготовки менеджерів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ЛЮСТРАТИВНИЙ МАТЕРІАЛ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до дипломної робот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за освітньо-кваліфікаційним рівнем «Спеціаліст»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на тему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УПРАВЛІННЯ ЕФЕКТИВНІСТЮ ПЕРСОНАЛУ ОРГАНІЗАЦІЇ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иконав: слухач 2 курсу, групи 1М-1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спеціальності 7.03060101 – «Менеджмент організацій і адміністрування (за видами економічної діяльності)»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учук Ю. В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ерівник: к.е.н., доц. кафедри ПМЕН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Чаплигіна О.В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інниця ВНТУ - 2016 рі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10058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4.7 – Вихідні дані для проведення аналізу руху кадрів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4440" y="1123920"/>
          <a:ext cx="10877400" cy="5599080"/>
        </p:xfrm>
        <a:graphic>
          <a:graphicData uri="http://schemas.openxmlformats.org/drawingml/2006/table">
            <a:tbl>
              <a:tblPr/>
              <a:tblGrid>
                <a:gridCol w="5734080"/>
                <a:gridCol w="1295280"/>
                <a:gridCol w="1276200"/>
                <a:gridCol w="1295640"/>
                <a:gridCol w="1276200"/>
              </a:tblGrid>
              <a:tr h="946080">
                <a:tc>
                  <a:txBody>
                    <a:bodyPr lIns="64440" rIns="64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,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овне 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6528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штатних працівни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2876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ості працівників, звільнених за даний період за причинами виробничого і загальнодержавного характ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020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звільнених за даний період за власним бажанням, за прогули та інші порушення трудової дисциплі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6384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звільнених за всіма причин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з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492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прийнятих на роботу за даний пері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0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10515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8 - Показники (коефіцієнти) руху робочої си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76320" y="938160"/>
          <a:ext cx="12192120" cy="5278320"/>
        </p:xfrm>
        <a:graphic>
          <a:graphicData uri="http://schemas.openxmlformats.org/drawingml/2006/table">
            <a:tbl>
              <a:tblPr/>
              <a:tblGrid>
                <a:gridCol w="3676680"/>
                <a:gridCol w="1981440"/>
                <a:gridCol w="1209600"/>
                <a:gridCol w="1208160"/>
                <a:gridCol w="1388880"/>
                <a:gridCol w="1389240"/>
                <a:gridCol w="1338120"/>
              </a:tblGrid>
              <a:tr h="316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овне 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ки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ідхи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/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/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єнт необхідного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ор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н.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плинності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звільнення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в.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прийому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пр.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2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змін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стабільності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ста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4"/>
          <p:cNvSpPr/>
          <p:nvPr/>
        </p:nvSpPr>
        <p:spPr>
          <a:xfrm>
            <a:off x="11010960" y="428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4080" y="5532120"/>
            <a:ext cx="10515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Д.1 – Річний цикл управління ефективністю в «Тев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616120" y="438120"/>
            <a:ext cx="8032680" cy="509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7360" y="5513400"/>
            <a:ext cx="10515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Д.2 – Оцінка ефективності: ключові компонент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2633760" y="1792440"/>
            <a:ext cx="6765840" cy="3468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877400" y="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3440" y="0"/>
            <a:ext cx="10515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9 ‑ Перелік ключових компетенцій в залежності від посад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00" y="696960"/>
          <a:ext cx="11753640" cy="5756400"/>
        </p:xfrm>
        <a:graphic>
          <a:graphicData uri="http://schemas.openxmlformats.org/drawingml/2006/table">
            <a:tbl>
              <a:tblPr/>
              <a:tblGrid>
                <a:gridCol w="2000160"/>
                <a:gridCol w="2322360"/>
                <a:gridCol w="2889360"/>
                <a:gridCol w="2033640"/>
                <a:gridCol w="2508120"/>
              </a:tblGrid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івні пос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ще керівництво та провідні 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ерівники середньої ланки та старш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первайзери та 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дміністративно-техніч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сон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тен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ве вико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ієнтація на кліє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тегіч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ітичне мисл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ін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мі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іння змі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критість до змі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рівництво командо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ота у команд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ійна експерт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івпраця і впл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лова х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99960"/>
            <a:ext cx="12192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10 ‑ Шкала рейтингів для відображення варіантів оцінки результативності працівник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325520"/>
          <a:ext cx="12192120" cy="5532480"/>
        </p:xfrm>
        <a:graphic>
          <a:graphicData uri="http://schemas.openxmlformats.org/drawingml/2006/table">
            <a:tbl>
              <a:tblPr/>
              <a:tblGrid>
                <a:gridCol w="1130400"/>
                <a:gridCol w="1860480"/>
                <a:gridCol w="9201240"/>
              </a:tblGrid>
              <a:tr h="6634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і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рбальна оці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ії оціню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638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удов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є видатними, послідовно та суттєво виділяються понад встановлені очікування керівника чи вимог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649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еревищує очікуванн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перевищують очікування керівника чи вимоги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845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ідповідає очікування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відповідають та іноді перевищують очікування керівника чи вимоги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062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езультати нижче запланованих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в основному відповідають очікуванням керівника чи вимогам роботи, цілей та обов’язків, але трапляється, що результати падають нижче очікувань чи вим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6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1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відповідають очікування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нижче очікувань керівника чи вимогам ефективності, цілей чи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42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має оцін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й працівник / рано оцінювати результати робо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66360"/>
            <a:ext cx="10515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Головні цілі процесу управління ефективністю у компанії «Тева»: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повідність індивідуальних зусиль співробітників стратегічним цілям «Тева»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цінка результатів співробітника, щоб переконатись у досягненні ним цілей та очікувань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ндивідуальний розвиток та зростання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охочення співробітництва та діалогу між менеджерами та співробітниками для підтримки та сприяння індивідуального та командного розвитку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145960"/>
            <a:ext cx="10515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вдання, які вирішує система управління ефективністю </a:t>
            </a:r>
            <a:br>
              <a:rPr sz="2000"/>
            </a:b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а переваги, які надає її використанн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співробітників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розуміння свого особистого внеску в успіх «Тева» локально та у сві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едення відкритого та ефективного діалогу з керівником та обговорення майбутніх очікуван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ланування свого індивідуального розвит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менеджері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ідповідність індивідуальних цілей співробітників цілям бізнес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едення регулярного й відкритого діалогу зі співробітниками щодо цілей, розвитку та ефектив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дання менеджменту зворотного зв'язку про те, як співробітники себе відчувають: всю роботу, роль та актуальну ефективні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«Teвa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посіб зосередити зусилля усієї компанії на єдиних короткострокових та довгострокових цілях, досягненні загального результат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росування культури високої ефективності через визнання орієнтованих на досягнення успіху співробітників та їх відповідне матеріальне винагороджен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-223920"/>
            <a:ext cx="12191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3.3.1 – Витрати на здійснення та ефекти від реалізації заходів з              удосконалення управління  ефективністю персоналу ТОВ «Тева Україн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743040"/>
          <a:ext cx="12192120" cy="6105600"/>
        </p:xfrm>
        <a:graphic>
          <a:graphicData uri="http://schemas.openxmlformats.org/drawingml/2006/table">
            <a:tbl>
              <a:tblPr/>
              <a:tblGrid>
                <a:gridCol w="2743200"/>
                <a:gridCol w="5695920"/>
                <a:gridCol w="1066680"/>
                <a:gridCol w="1047960"/>
                <a:gridCol w="1638360"/>
              </a:tblGrid>
              <a:tr h="102384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міст заходів з удосконалення ефективності управління персоналом ТОВ «Те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чікувані ефекти від запровадження зах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трати на здійснення заходів, (Ві) тис. 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ти від здійснення заходів, (Еі) 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тивність або чистий економічний ефект від здійснення заходів, (ЧЕі) 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8588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 Удосконалення іміджу компанії «Тева Україна» як роботодавця, у т.ч. засобами електронного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ний імідж компанії приверне увагу найбільш кваліфікованих претендентів на посаду, що створить передумови для більш ефективної роботи компанії у стратегічній перспективі та буде додатковою маркетинговою переваг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,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32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 Удосконалення системи встановлення особистісних ці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ілі, встановлені працівником, будуть більш адекватними та досяжними, отже і працівник більш успішним у побудові власної ділової кар’єр та досягненні цілей організ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080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 Регламентація діяльності спеціалі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иятиме як підвищенню ефективності підбору кваліфікованого персоналу на певні фармацевтичні посади, так і оптимальній оцінці роботи вже працюючих спеціалістів під час атестації, та визначенню потреби в їх подальшому навчанні, що суттєво підвищить ефективність їх подальш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,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944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  Уточнення критеріїв оцінювання для підвищення  його об’єктивності та, відповідно удосконалення процедури та результ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менеджера покликані підвищити адекватність оцінки та ефективність процедури оцінювання за рахунок зменшення менеджером витрат часу та прозорості вимог; для працівника – сприятиме розумінню організаційних цілей по відношенню до персоналу та полегшить процедуру встановлення цілей та самоконтро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9712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    Запровадження програми роботи менеджера з низькою ефективністю співробітникі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працівників – це підвищення вмотивованості, задоволення потреб у надійності та безпеці, підвищення результативності праці, для організації – скорочення витрат на персонал та підвищення трудової віддачі, відданості колективу та організа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264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 Удосконалення системи внутрішнього електронного документообігу G-TO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ономія робочого часу працівників та підвищення ефективності трудової віддач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5480">
                <a:tc>
                  <a:txBody>
                    <a:bodyPr lIns="31320" rIns="31320" tIns="0" bIns="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,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59840"/>
            <a:ext cx="121921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Л.3 – Інтерпретація SWOT-аналізу для розроблення плану  особистісного розвитку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47680"/>
          <a:ext cx="12192120" cy="5710320"/>
        </p:xfrm>
        <a:graphic>
          <a:graphicData uri="http://schemas.openxmlformats.org/drawingml/2006/table">
            <a:tbl>
              <a:tblPr/>
              <a:tblGrid>
                <a:gridCol w="1562040"/>
                <a:gridCol w="3619440"/>
                <a:gridCol w="7010640"/>
              </a:tblGrid>
              <a:tr h="633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лементи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Інтерпретація для проведення індивідуального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клади індивідуального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6016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eng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і сторони, якими можна пишатися; істотні здібності та досягнення; області, які сприяли успіх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аю бізнес-освіту, що дозволяє мені швидко і точно розраховувати основні показники діяльності компанії, добре розбираюся в ситуації на ринку. При першій необхідності я готова вирішувати проблему клієнта. Я завжди дбаю про те, щоб клієнт вчасно отримав від нас необхідну інформацію, документ, ріш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63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akn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кі області, де не вистачає здібностей, інтересу, впевненості і т.д.; де є можливість перевірити свої здібності або набути досвіду. Визначення ситуацій, з якими найважче справлятися. Навички, яких не вистачає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дуже хвилююся перед виступом на велику аудиторію , починаю дуже швидко говорити і можу допускати неточності при проведенні презентації. Керівник зазначає, що я занадто багато часу приділяю опрацюванні деталей, займаюся перевіркою роботи, яку повинні робити інші співробіт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55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ливості для розвитку. Всі можливості, навіть ті, які здаються примарними або утопічн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ізноманітні конференції часто потрібні ведучі. Мене запрошують проводити курс лекцій у бізнес-школі . Програми оцінки та розвитку впроваджуються в більшості великих компані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555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рози, потенційні бар'єри. Шляхи їх подолання. Перешкоди, які вставали на шляху досягнення цілей у минулому, і які вдалося подола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же багато часу з'їдає поточна робота, немає зайвих рук, важко планувати наперед. Посилилася конкуренція. У компанії працюють фахівці з великим досвідом публічних виступів на конференціях і фору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4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3.1.2 ‑ Уточнюючі вимоги для проведення менеджером оцінювання                                 результатів роботи працівник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825480"/>
          <a:ext cx="12192120" cy="5845320"/>
        </p:xfrm>
        <a:graphic>
          <a:graphicData uri="http://schemas.openxmlformats.org/drawingml/2006/table">
            <a:tbl>
              <a:tblPr/>
              <a:tblGrid>
                <a:gridCol w="1695600"/>
                <a:gridCol w="2076480"/>
                <a:gridCol w="2019240"/>
                <a:gridCol w="2190600"/>
                <a:gridCol w="1981080"/>
                <a:gridCol w="2229120"/>
              </a:tblGrid>
              <a:tr h="390600">
                <a:tc rowSpan="2"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рямовуючі пи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5"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іанти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ідповідає очікуванн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нижче запланова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2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ає очікуванн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3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ищує очі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3956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ким чином співробітник виконує свої функції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ує низькі результати, що не відповідають очікуванням відповідно до рівня посади та обов'язків. Результати нижчі, ніж у ко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тягує до стандартів роботи і результатів, очікуваних від рівня посади і функці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відповідають і іноді перевищують очікування від рівня посади та обов'язків. Відповідність вимог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ослідовно і значно перевищують очікування від рівня посади і виконуваних обов'язк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ає найвищим вимогам і перевершує ї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суттєво перевищують очікування від рівня посади та обов'язків. Рівень виконання роботи - дійсно видат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71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ким чином співробітник робить свій внесок у бізнес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ідовно демонструє нездатність здійснювати необхідний внесок у бізн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носить необхідного вкладу в успішну роботу органі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ить внесок в успішну роботу організації, у повному обсязі приймаючи на себе відповідальність та обов'язки, пов'язані з посадою і функці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 виявляє і бере на себе додаткові обов'язки, що сприяють розширенню і поліпшенню бізнес-результа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ює значний внесок в успішну роботу організації, який відбивається на бізнес-результатах, розширюючи бізнес за рахунок нових клієнтів, ринків, продуктів або предметного змі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798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Яким чином співробітник розвиває і підвищує свої можливості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являє готовність до освоєння нових навичок. Проявляє нездатність покращувати пов'язані з посадою потенціал і вим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дійснює підтримки змін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ує недостатню прихильність принципам саморозвитку. Брак деяких ключових навичок. Опір змін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користовує можливості для набуття нових навичок і знань. Підтримує змі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ійно вибудовує свої можливості і результати. Сприяє просуванню змі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олює значні особисті та організаційні зміни в органі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44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Яким чином співробітник працює в команді і сприяє її зростанню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тує деякими обов'язками або не приймає на себе відповідальності за власні результати і роботу коман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ить незначний внесок у роботу команди, працює з командою поверхово. Мало стурбований командним розвит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 член команди / лідер. Розширює коло обов'язків команди і сприяє її розвитк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ючовий лідер коман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ює внесок в успішну роботу і розвиток ко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 рольовою моделлю для команди, відділу та підрозді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31440"/>
            <a:ext cx="10515600" cy="17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’єкт дослідже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‑ система управління персоналом.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едмет дослідже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‑ процеси управління ефективністю персоналу ТОВ «Тева Україна».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ета робо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розробити пропозиції щодо удосконалення системи управління ефективністю персоналу компанії «Тева Україна»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авдання, що поставлені у робот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слідження та узагальнення теоретичних та практичних засад ефективного управління персоналом, дослідження концепції управління ефективністю управління персоналом та її практичного застосування у кадровому менеджмент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діяльності, стану менеджменту та місця на фармацевтичному ринку корпорації «ТЕВА» та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фінансово-економічних результатів діяльності ТОВ «Тева Україна» у 2012-2014 р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стану та чинної системи управління персоналом у ТОВ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явлення основних тенденцій, ризиків та можливостей світового та національного фармацевтичного ринків з метою розробки рекомендацій щодо удосконалення діяльності ТОВ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значення напрямів підвищення ефективності розроблення практичних рекомендацій щодо забезпечення ефективного управління ефективністю персоналу ТОВ «Тева Украї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6440" y="5532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3.1.1 – Вікно Джохарі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9" name="Группа 51"/>
          <p:cNvGrpSpPr/>
          <p:nvPr/>
        </p:nvGrpSpPr>
        <p:grpSpPr>
          <a:xfrm>
            <a:off x="2052720" y="606600"/>
            <a:ext cx="6916680" cy="4757400"/>
            <a:chOff x="2052720" y="606600"/>
            <a:chExt cx="6916680" cy="4757400"/>
          </a:xfrm>
        </p:grpSpPr>
        <p:sp>
          <p:nvSpPr>
            <p:cNvPr id="110" name="כותרת 2"/>
            <p:cNvSpPr/>
            <p:nvPr/>
          </p:nvSpPr>
          <p:spPr>
            <a:xfrm>
              <a:off x="4701240" y="4755240"/>
              <a:ext cx="3843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797979"/>
                  </a:solidFill>
                  <a:latin typeface="Cambria"/>
                  <a:ea typeface="Times New Roman"/>
                </a:rPr>
                <a:t>Інформаці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קבוצה 5"/>
            <p:cNvGrpSpPr/>
            <p:nvPr/>
          </p:nvGrpSpPr>
          <p:grpSpPr>
            <a:xfrm>
              <a:off x="4135320" y="1026720"/>
              <a:ext cx="4834080" cy="3640680"/>
              <a:chOff x="4135320" y="1026720"/>
              <a:chExt cx="4834080" cy="3640680"/>
            </a:xfrm>
          </p:grpSpPr>
          <p:sp>
            <p:nvSpPr>
              <p:cNvPr id="112" name="צורה חופשית 7"/>
              <p:cNvSpPr/>
              <p:nvPr/>
            </p:nvSpPr>
            <p:spPr>
              <a:xfrm>
                <a:off x="4135320" y="102672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44546a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Відкрит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צורה חופשית 8"/>
              <p:cNvSpPr/>
              <p:nvPr/>
            </p:nvSpPr>
            <p:spPr>
              <a:xfrm>
                <a:off x="6663240" y="102672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a5a5a5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Сл</a:t>
                </a: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іп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צורה חופשית 9"/>
              <p:cNvSpPr/>
              <p:nvPr/>
            </p:nvSpPr>
            <p:spPr>
              <a:xfrm>
                <a:off x="4179600" y="291456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afaba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Прихован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צורה חופשית 10"/>
              <p:cNvSpPr/>
              <p:nvPr/>
            </p:nvSpPr>
            <p:spPr>
              <a:xfrm>
                <a:off x="6663240" y="291456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5b9bd5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Не</a:t>
                </a: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відом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TextBox 21"/>
            <p:cNvSpPr/>
            <p:nvPr/>
          </p:nvSpPr>
          <p:spPr>
            <a:xfrm>
              <a:off x="4499640" y="606600"/>
              <a:ext cx="166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мен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22"/>
            <p:cNvSpPr/>
            <p:nvPr/>
          </p:nvSpPr>
          <p:spPr>
            <a:xfrm>
              <a:off x="2260440" y="1430280"/>
              <a:ext cx="18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інш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חץ שמאלה 15"/>
            <p:cNvSpPr/>
            <p:nvPr/>
          </p:nvSpPr>
          <p:spPr>
            <a:xfrm>
              <a:off x="5435280" y="2353320"/>
              <a:ext cx="2360520" cy="860400"/>
            </a:xfrm>
            <a:prstGeom prst="leftArrow">
              <a:avLst>
                <a:gd name="adj1" fmla="val 50000"/>
                <a:gd name="adj2" fmla="val 55823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48a54"/>
                  </a:solidFill>
                  <a:latin typeface="Calibri"/>
                  <a:ea typeface="Times New Roman"/>
                </a:rPr>
                <a:t>Зворотний зв’яз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6767640" y="606600"/>
              <a:ext cx="209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Не</a:t>
              </a: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мені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0"/>
            <p:cNvSpPr/>
            <p:nvPr/>
          </p:nvSpPr>
          <p:spPr>
            <a:xfrm>
              <a:off x="2052720" y="3438360"/>
              <a:ext cx="201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Не</a:t>
              </a: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інш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Box 63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762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 Light"/>
              </a:rPr>
              <a:t>Таблиця Б.4 – Цілі та завдання учасників системи управління ефективністю персоналу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1700280"/>
          <a:ext cx="10420560" cy="4906800"/>
        </p:xfrm>
        <a:graphic>
          <a:graphicData uri="http://schemas.openxmlformats.org/drawingml/2006/table">
            <a:tbl>
              <a:tblPr/>
              <a:tblGrid>
                <a:gridCol w="2955960"/>
                <a:gridCol w="3272040"/>
                <a:gridCol w="41925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ан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івробі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ері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5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тримує ефективну систему управління персонал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є корпоративні плани навчан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тримує лояльність співробітникі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ймає рішення щодо змін оплати праці та виплати премій співробіт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є, до чого треба прагнути і яких цілей досяга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мує зворотний зв'язок від керівника про свою робот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мує адекватну винагороду за підсумками своєї робо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ивається, спираючись на індивідуальний план розвит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дує свою кар'є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ямовує діяльність співробітників за допомогою встановлення ціл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будовує відкриті і довірчі відносини з співробітник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езпечує зворотний зв'язок підлеглим щодо їх робо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ктно оцінює підсумки роботи та навички співробітни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ішує питання про винагороду за підсумками робо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иває своїх підлеглих, складаючи індивідуальні плани розви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10420200" y="166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ілі впровадження системи управління ефективністю персоналу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становлення цілей та завдань відповідним категоріям персоналу, а також визначення критеріїв для проведення оцінювання результатів робо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тивування співробітників на забезпечення високих стандартів виконання (через постановку амбітних і об’ємних цілей, через забезпечення позитивної підтримк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ення адекватної винагороди персоналу (через систему матеріальних та нематеріальних стимулі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декватна оцінка результатів роботи персоналу та їх відповідності встановленим ціля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правлення низької якості виконання персоналом встановлених цілей та завдань (визначення необхідності розвитк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твердження цінностей та культури підприємства, у т. ч. забезпечення дотримання персоналом корпоративної культури та етичного кодекс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ення розвитку співробітників для виконання більш складних ролей та загальне зростання їх трудового потенціал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лідовне планування розвитку і просування тих співробітників, які складають кадровий резерв організації та досягли відповідного рівня компетен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05720" y="5278320"/>
            <a:ext cx="5486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2.1.1 – Склад керівництва глобальної «Тев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6" descr=""/>
          <p:cNvPicPr/>
          <p:nvPr/>
        </p:nvPicPr>
        <p:blipFill>
          <a:blip r:embed="rId1"/>
          <a:stretch/>
        </p:blipFill>
        <p:spPr>
          <a:xfrm>
            <a:off x="573120" y="-42840"/>
            <a:ext cx="10515600" cy="6980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0515600" y="204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хема 5" descr=""/>
          <p:cNvPicPr/>
          <p:nvPr/>
        </p:nvPicPr>
        <p:blipFill>
          <a:blip r:embed="rId1"/>
          <a:stretch/>
        </p:blipFill>
        <p:spPr>
          <a:xfrm>
            <a:off x="3219480" y="-324000"/>
            <a:ext cx="5711760" cy="750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1480" y="5532480"/>
            <a:ext cx="4400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2.1.2 – Організаційна структура «Тева Україн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152280" y="0"/>
            <a:ext cx="10747440" cy="6991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840" y="347760"/>
            <a:ext cx="11121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2.1 – Загальні фінансово-економічні показники діяльності ТОВ «Тева Україна» у 2012–2014 р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55600" y="1278000"/>
          <a:ext cx="11036520" cy="5580000"/>
        </p:xfrm>
        <a:graphic>
          <a:graphicData uri="http://schemas.openxmlformats.org/drawingml/2006/table">
            <a:tbl>
              <a:tblPr/>
              <a:tblGrid>
                <a:gridCol w="6956640"/>
                <a:gridCol w="1406520"/>
                <a:gridCol w="1365120"/>
                <a:gridCol w="1308240"/>
              </a:tblGrid>
              <a:tr h="396720">
                <a:tc row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 показників, 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тий дохід (виручка) від реалізації продукції (товарів, робіт, послуг)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67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тий прибуток (збиток)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7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2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ласний капітал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9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7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70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боротні актив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204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вгострокові зобов’язанн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9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откострокові кредити та позик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біторська заборгованість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70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с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ласні оборотні засоб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4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іонуючий капітал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9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7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0" y="28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402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Таблиця 2.3.1 – Економічні показники трудової діяльності ТОВ «Тев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Україна» у 2012–2014 рр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765000"/>
          <a:ext cx="10515600" cy="3310200"/>
        </p:xfrm>
        <a:graphic>
          <a:graphicData uri="http://schemas.openxmlformats.org/drawingml/2006/table">
            <a:tbl>
              <a:tblPr/>
              <a:tblGrid>
                <a:gridCol w="7226280"/>
                <a:gridCol w="1105200"/>
                <a:gridCol w="1126800"/>
                <a:gridCol w="1057320"/>
              </a:tblGrid>
              <a:tr h="416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 показників, 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нд оплати праці, тис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працівників,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місячна заробітна плата працівників, тис. грн./місяц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ивність праці, тис. грн./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0" y="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51340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Таблиця 2.3.6 – Структура кадрів підприємства та її динаміка у 2012–2014 рр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080" y="228600"/>
          <a:ext cx="12099960" cy="5006880"/>
        </p:xfrm>
        <a:graphic>
          <a:graphicData uri="http://schemas.openxmlformats.org/drawingml/2006/table">
            <a:tbl>
              <a:tblPr/>
              <a:tblGrid>
                <a:gridCol w="2547720"/>
                <a:gridCol w="1036800"/>
                <a:gridCol w="647640"/>
                <a:gridCol w="777960"/>
                <a:gridCol w="906480"/>
                <a:gridCol w="976320"/>
                <a:gridCol w="846000"/>
                <a:gridCol w="1398600"/>
                <a:gridCol w="1249560"/>
                <a:gridCol w="1220760"/>
                <a:gridCol w="492120"/>
              </a:tblGrid>
              <a:tr h="2840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ідхи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/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/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-лютне, 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-н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-лютне, 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-н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85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працівників облікового скла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 них жі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8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цюючі за цивільно-правовими догово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0" y="28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5:39:32Z</dcterms:created>
  <dc:creator>Lenovo</dc:creator>
  <dc:description/>
  <dc:language>en-US</dc:language>
  <cp:lastModifiedBy>Lenovo</cp:lastModifiedBy>
  <dcterms:modified xsi:type="dcterms:W3CDTF">2016-03-24T18:13:17Z</dcterms:modified>
  <cp:revision>15</cp:revision>
  <dc:subject/>
  <dc:title>Вінницький національний технічний університет Інститут інтеграції навчання з виробництвом Центр післядипломної освіти   Інститут менеджменту Кафедра підготовки менеджерів   Ілюстративний матеріал до дипломної роботи за освітньо-кваліфікаційним рівнем «Спеціаліст»   на тему: Управління ефективністю персоналу організації</dc:title>
</cp:coreProperties>
</file>