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5E89-99F5-4D4F-96CD-EEFFD2D803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9F1A-6D0E-4462-87A5-FFEFD506B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F10-8590-4525-8CA6-B6AB1CE4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295-3574-4C03-B502-3ECD864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8F352-92CA-48D5-9A10-7625125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59A00-1E7E-4D4C-BBAE-0D2ACB0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882EA-97EE-4AD7-8D99-8E2AFB72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675C3-D946-47B6-A590-FFC5541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EA271-CFF1-4848-907F-11959A7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31589-961D-48B9-97F6-5843222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5D321-5C4D-4E73-8CC0-7A1779BB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AF546-80D6-4D22-95BB-8976C8FD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D9715-93F8-4A30-998F-3831994E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7E457-3EC7-4C6E-9834-676DE662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3D2-83DA-4E6A-ACDB-41ABA02E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D9EB5-FDB9-4C15-AE15-DB644FC0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3465D-0C93-4D4E-B698-2725BF4C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E44BF-8C6A-450A-8962-CA8FC7CA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904B1-9EF0-4E2A-9ADC-CFE2036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4467B-0BCC-4176-871E-A2F8849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EE19B-0527-45DE-9A3E-0D02D88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DDB09-5889-4D35-8C34-9B4939CC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BB8EE-98D0-4B3A-B0E5-7812C40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D5718-192E-4DC5-8990-922DFB03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66C73-A649-4F1B-8F49-4CEE742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2B7-0A87-4287-80B4-0814ABA0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1F85C-D1E4-49AA-AAAC-7F269E89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F0CA6-F61D-4992-B94A-EFF9A238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E6BE5-EF1B-4D85-A471-C7B82B6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17131-7A68-433F-9431-1E60D15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C2EEA-09D4-4E89-A03A-26335EDC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C7F3-1AA4-4C3F-AAED-DA65C2F2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36339-B31E-4BC3-B6DE-BBFED91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98BDB-5759-4DEF-A9FD-499E9C7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69F29-C1BC-4508-A82B-A47188E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D0ADC-9B8A-45C0-BD69-4176DA40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8359-DD2B-40B9-99FD-16492344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5D9E9-189F-4DD3-8E56-233560E2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21ECF-F7E2-49BA-AFE1-108ED67E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B3A4-A7EE-4C9C-B98F-900F5444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A0D8B-63C1-4607-AC17-34F35622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07CF0-38F7-41F7-900C-F3EE0358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D6CBD-6DA4-49CC-8330-AE1C3A0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F2A95-81D8-4C72-A864-3A2F8C30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27A32-4EA3-48C1-9BBD-EFDA453C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B4F51-48CE-408D-A6E5-A21725B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10D59-F61D-4E72-9D27-FC785FA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9C8A-0064-47B6-8510-7DC7C2DD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B777A-FC54-4832-8FC2-1608713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4178A-E86F-4F40-91BF-3725E59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8411A-8349-49F2-A48B-0EB03014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C39E4-97A7-49AD-9655-B1C52001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EE7B0-6A05-475F-BEF2-84F58EF3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CA4C-EC02-4670-9403-01E35A4C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39D-69EB-4EB7-A060-8E3C7501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B152-AC36-489B-AB66-246B9162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4540-8E19-4374-9E05-99892EF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51D7-2E7D-4829-8362-8FF73618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440-7994-46DA-B6F1-219FD2FB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1A21-645A-4607-A9C4-211F7597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71AE-E3B5-4323-93F3-814382F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DBC4-4BDD-4AF7-9AD9-1A50D0B6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6787-75F2-4F14-8E4F-6228CDB6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1F2D-2669-4F37-9EEE-D0805590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B2D5-4CA0-4EE0-BE31-5E42996D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6CDE-FF8A-4267-8254-876589B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06898-A4BE-4537-8F1D-166EDDC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8266-1B05-442F-A0AD-1CAAA32B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CB0A-2710-4F49-90E3-938E482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637-2FAC-4CAE-A8AD-35619DF7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E824-8E27-462C-B134-E6165EE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7B5E-D374-4973-A91C-687F2FC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FD28-E2E0-4DD8-B818-CFED074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0743-3C11-405E-A69A-612AF69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7E68-203A-420E-A58D-88E175DE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07AB-A0D5-439C-B0B8-7D33634E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3161-E8D4-4B32-8D90-11B7D511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C329-486D-4A43-9478-4715D192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A939-DE6B-463E-821B-F2D9F464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9D5E-8D8F-440B-9A63-9ED505F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339-438A-4939-8F04-C4BC0D57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E540-87B8-43B9-83D6-3615B0FC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E577-8177-4E2F-9619-9AD40F41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3119-3A2D-43E0-AE6F-7E8494DC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F19B-3E53-4E7F-B95D-B6A96FA4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81A46-6B26-4AAB-862B-F9555249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FFCBE-CFAA-466C-9A34-E79D144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8C9F-1176-4B3F-9AF0-EC2A6B7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1D00F-C6AF-42FE-913B-3ED7B90A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E1C9-3D48-4F81-8BF1-85FC7D70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3EFF-34F0-45BE-B8D2-87F7E2E6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DCF-4DDB-450E-836D-04FA843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CC83-51DA-48E3-BFD7-DB5180BC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E7BD-E20D-4BE4-A93A-79E6D16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2C6B-4F3C-421C-B646-2FEE679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D637E-0C3C-4E58-B73C-C7AD62A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ECC5-C8A1-4475-B3F7-C866A0A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A281-71EE-487F-9F6F-E3E2380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55F3-14FC-4308-9646-DBF7007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5915-A56D-448C-A2C4-03B8251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BDC6-1A72-4E8C-B760-D48443E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DA2D-1DE6-4D0B-95DD-1B3B0C9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753-DCAF-4007-AD85-F0F60E3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D210-AC6B-483D-8025-0F63A020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3574-7E78-46FD-BF6F-FCF85A2B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4E61F-1EF1-4656-87A1-07B0AB0B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E5C16-CDC4-4674-A209-4C0DCB7C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336A-79C5-4792-B5AD-A8DBD090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5F3B-5C47-4428-B402-5B34B1BA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6A5D5-888B-4B4F-9D7D-920D4C15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C4EE6-7ED1-4B80-8DB2-894DFFB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775E-149D-49BB-A4A9-9D4FF32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D88F-7D9B-43F8-862C-4DBA28A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C42-A5C0-4710-B877-6404EA3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3358-8625-410D-8982-D7374741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174D-3741-4CE2-B3C7-6FB39B45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B25A-5CA6-4003-B538-9C6FFC73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6E85-6D04-4E38-AAD0-F32ED0B1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81522-B335-405F-8547-4939FEC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9076-DEF0-4EF4-A812-D103D76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6505B-5CF6-4D19-A6B0-4FB45A0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857F-432C-4EBF-9BBF-326F81F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17D8-1A9F-4131-BB09-E17FD42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EEFE7-0655-431D-AC27-E9E9637E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18A-E82B-4738-B973-9AC81AD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AF13-559F-42EA-869B-556477D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751A-7CF8-441E-AB5E-B994688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EBF4-2E55-41A0-92A6-7B7EAF9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11BB-5996-41B6-87BC-055A76E3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BDB96-4797-425B-99BF-79E169A2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E6295-2B8D-48B0-A7A4-BCD17382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0957-DE96-4ADB-AAE7-D6DC829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FD17A-0849-4471-BFEE-4C2FAA5B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01FA-1F8A-4207-9407-8499F255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77AD-9F8D-4A2F-A0B5-AECD4367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D29-4E2D-46F1-97A3-C39C3DE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F40B-4AA6-4849-86D0-E38053BD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BE69B-2512-4F34-A73D-F65FC8C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AE92-00E5-4464-9CC2-6F340BF7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8A884-A533-4151-B43C-C6E0F3F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444B-9E36-497E-B0BC-1B303A28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A7AB3-DC1C-41C4-9CE4-58B84D4D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FDA6E-29A2-4EEF-8FAC-9B62BCBF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D81F2-583E-47A1-BD8B-A5527041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FEBD-650C-402D-BBBE-EBA2C4D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079B8-862F-421D-BDD0-08E506D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8BBC-904F-4690-B6BE-CD0F2482E3C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6F6C-5D71-40B1-8290-0DC70E750A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85E6-4CEE-48D7-A177-A9734B086CD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B159-2191-4AE6-A51B-B26980082E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A046-1597-43CE-B350-8D2734AEDE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44BA-0253-4457-9A51-6157977C30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A49-B4A2-4AC4-AA93-0EF840F9F1D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14A0-8DE9-4536-A022-D7C5FF1B0D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5E96-EE0D-4708-95E3-8B1F837BE6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D7E8-E0D0-4A91-BDC9-54A4E8C23E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74D6-4A99-43DB-91E3-FEBDC9F34AF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9A45-CA50-4295-96BD-C57108832C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FF7-28C6-458E-AD08-6438184DEDE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121-4A66-4BB8-85D8-9C78E5C897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2F0-B147-4724-8833-F2619A64C43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1BA8-9D3E-4286-BE32-735E6F359F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0BA-BA5D-4C2E-907A-69617E3EAA5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753-EC84-4058-8623-11EA602EB64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5DAD-F74C-472E-A4C4-BDA2E7074FC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5834-A1C9-43FC-96AE-D683689292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05A7-1A21-44B8-A1A3-E860A75A82C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05B-57AD-4C32-9394-F236C42F11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C94-9B93-4410-A98A-AFA7E21635E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B87A-57AC-4A82-BB03-6A97E534B9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480" y="3933360"/>
            <a:ext cx="7499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сп-14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тюк П. О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571400"/>
            <a:ext cx="814392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ГЕС ПОТУЖНІСТЮ 108 МВТ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ГРЕГАТАМИ ТИПУ ВГС-650/130-3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214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ань го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1" descr=""/>
          <p:cNvPicPr/>
          <p:nvPr/>
        </p:nvPicPr>
        <p:blipFill>
          <a:blip r:embed="rId1"/>
          <a:srcRect l="22909" t="15193" r="3334" b="8155"/>
          <a:stretch/>
        </p:blipFill>
        <p:spPr>
          <a:xfrm>
            <a:off x="468360" y="692280"/>
            <a:ext cx="82803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ереч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із головної будівлі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6" descr=""/>
          <p:cNvPicPr/>
          <p:nvPr/>
        </p:nvPicPr>
        <p:blipFill>
          <a:blip r:embed="rId1"/>
          <a:srcRect l="20772" t="12670" r="2645" b="6489"/>
          <a:stretch/>
        </p:blipFill>
        <p:spPr>
          <a:xfrm>
            <a:off x="755640" y="907920"/>
            <a:ext cx="7632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ВРУ-15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6" descr=""/>
          <p:cNvPicPr/>
          <p:nvPr/>
        </p:nvPicPr>
        <p:blipFill>
          <a:blip r:embed="rId1"/>
          <a:srcRect l="20637" t="14822" r="4766" b="9394"/>
          <a:stretch/>
        </p:blipFill>
        <p:spPr>
          <a:xfrm>
            <a:off x="468360" y="765000"/>
            <a:ext cx="81756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розозахист ВРУ-15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Рисунок 2" descr=""/>
          <p:cNvPicPr/>
          <p:nvPr/>
        </p:nvPicPr>
        <p:blipFill>
          <a:blip r:embed="rId1"/>
          <a:srcRect l="22779" t="9913" r="5208" b="16593"/>
          <a:stretch/>
        </p:blipFill>
        <p:spPr>
          <a:xfrm>
            <a:off x="539640" y="692280"/>
            <a:ext cx="81043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14292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2071800" y="1429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лейний захист трансформатора зв‘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2" descr=""/>
          <p:cNvPicPr/>
          <p:nvPr/>
        </p:nvPicPr>
        <p:blipFill>
          <a:blip r:embed="rId1"/>
          <a:srcRect l="24009" t="9765" r="4766" b="18374"/>
          <a:stretch/>
        </p:blipFill>
        <p:spPr>
          <a:xfrm>
            <a:off x="395280" y="692280"/>
            <a:ext cx="829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611280" y="142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слуговування вимірювальних трансформаторів та кабе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" descr=""/>
          <p:cNvPicPr/>
          <p:nvPr/>
        </p:nvPicPr>
        <p:blipFill>
          <a:blip r:embed="rId1"/>
          <a:srcRect l="22917" t="16200" r="4780" b="9913"/>
          <a:stretch/>
        </p:blipFill>
        <p:spPr>
          <a:xfrm>
            <a:off x="395280" y="598320"/>
            <a:ext cx="840600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77004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показники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rcRect l="24445" t="10111" r="4780" b="17578"/>
          <a:stretch/>
        </p:blipFill>
        <p:spPr>
          <a:xfrm>
            <a:off x="468360" y="669960"/>
            <a:ext cx="82072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/>
  <dc:description/>
  <dc:language>en-US</dc:language>
  <cp:lastModifiedBy>1</cp:lastModifiedBy>
  <dcterms:modified xsi:type="dcterms:W3CDTF">2015-06-15T17:56:04Z</dcterms:modified>
  <cp:revision>44</cp:revision>
  <dc:subject/>
  <dc:title>Керівник: к.т.н., ст.викл. каф. ЕСС Тептя В. В.  Виконав: студент групи ЕСсп-14 Скоропадик О. І.</dc:title>
</cp:coreProperties>
</file>