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1950-A82F-4B22-8F46-E997AACA26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C30C-3B04-4368-B65B-DFD4816B1F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75DB-F10E-4580-B9C7-C1497BFC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3D8-FBCD-44EF-A577-9F0688BE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58CFA-2F3A-44E7-ACAD-6141C289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CC80C-CD2C-43CC-81E0-EE954E1D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3C99F-219F-4B9B-A7C6-74821F1A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2CACC-055A-4C2C-A98E-EBA365BC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A6E7E-B833-4B8B-8A9E-C32D5CEE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F143D-3571-4B5E-B1EB-865F11C4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CF1DD-C319-4283-AE4D-2910B0DC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665A8-F03C-4F29-BC49-6FE35CE3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D4145-40CB-4159-AA58-DBB09C9D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075BA-271C-42DC-A01B-BEF7B56C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9A4A-8BB4-40BC-996E-9BBAFF9D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8D46A-05B7-4FB6-A1DF-BB630500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657BA-1E80-4D30-AED4-68BC8498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724AD-B3BE-4B0E-BC90-D6C1DC6B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1FC15-AC95-414F-AA18-178A76AF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4AD26-ED57-4B31-A264-7D24639C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9E2F6-0A68-4FA8-9AB4-F626953B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90364-7E37-4789-98FE-9485140C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C626D-635C-46F6-A5F4-46F72280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5D519-5FCF-43BE-99C3-5B660C41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7CC54-88F7-40F9-9090-D32F0E6F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CC15-9926-406A-B9FB-5999BB9B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CE57F-3520-4271-9B44-206DE693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5ADF5-5086-4A79-B65F-3DAF4BF2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B0182-194E-4FD3-90CC-26284C7C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E27EA-162A-47CA-B81D-A11CAECB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EACDB-A1B5-48D6-BCC0-FC72F0A2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D27F3-8495-488B-8021-6562C3BB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B7BFC-086D-4A29-80F8-8377A1B4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CD7CF-3E5A-4DC6-B5AF-2DAD98AE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829B9-4ED0-430F-BDD5-F977980C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F55A8-7555-42A5-A480-EF13D79A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7E53-113A-44E5-88E3-F1F707A0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F26AC-E29C-438E-BA18-E9FCDD1E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83B38-8369-4398-95F6-8E814702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CEDE9-A9C3-443D-B972-82857967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9F568-3EE5-413B-B4C8-F16AF7EB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3B89F-93EE-492F-A738-728CBA33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C2B6A-8D83-41FB-B2BF-76B40BA9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90752-95F8-460D-9C71-D9EEC732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6CC3A-DB4A-4A40-9091-F87E97D7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C57EB-BAC6-4896-93C9-B45D7C28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4D7EE-A7A5-443A-BC6E-5E08189F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1A06-07A4-4220-BC3C-E8C78707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52DA9-BE12-4E85-9A8D-40503F12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FF842-C916-40C6-93DF-1DEEA059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5CA91-6FA6-49E8-84B0-CBE0E0B6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71D06-BE13-4112-BE1A-06E2E478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B68FD-C8E7-487F-BB37-D74FBC54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B0E2-32FC-464F-BB0C-8845AA29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15A8-C97A-431E-B26F-023D50B9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CF17-C6A8-40D8-AF91-3D7AB0C2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7FC5-49F4-49E9-ACC1-229FB9DC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C7BB-EF1B-4D1E-8560-837CC41C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BF3-A4E4-444C-AB5D-1013F28C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3EF7-308A-45D9-ADE5-D43A4674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D946-33E1-457E-B199-035EF830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0F4C-1E30-4C6E-AD01-BF711296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20C2-5283-413B-BA76-B86191B3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A93C-4D23-418F-B4A0-FE9E2524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65FA4-0A6C-44A0-A383-CE397FEE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3DBDB-6071-4A30-8CE9-6681B8A9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7F481-4C9F-4E5F-8964-A6CB9C57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3AD2E-D375-4169-8E1B-C4190385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20477-A512-4678-AE49-A5ADD59E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747D-0207-46AF-BE50-5B9F0F9C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B067F-7CFC-4557-8255-6B95A0F1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0D0D7-1D60-493B-9E8C-1D0F23C1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911EE-19DC-4049-9B3B-5F6FBF5D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44893-55D0-433E-AFD4-7290AB02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8D0C8-48BD-4435-8FAF-6D2C1AE1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AEF30-9427-4FDF-9ABD-CE57A954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9843B-2A56-41D8-90BE-456F6918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C60FA-C987-413B-A123-0427F764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D1FA1-D669-4946-8F08-899DDE3A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11D2A-EE02-4D55-91E6-02655422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0F8-470D-45EF-8ADC-2801A3A7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DFE5E-730E-45D1-B0BF-A257D4C9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E4A66-E91B-4BC7-B554-165AF430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0CDB7-68F5-4725-91B9-4557B37E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9D8AE-421F-4C78-8BF3-608491D4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3EDA7-44A1-4F9C-8A06-BA9EA2C4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953FA-76E7-4521-BB17-F958E018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DB2F9-B651-4195-AE45-683762A5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5F1E9-3051-4F24-A903-8B825CA3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C4DFF-0DEE-4750-ADC5-1E503A01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F4FD8-B076-4AB5-9084-1F04D36F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F4D4-AF62-45BF-BDE5-F55EE9A2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41A45-1D9E-47EA-99CB-A092F29F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49986-1048-4011-8054-2799E045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2F664-9003-4249-94BD-AAC351CE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AA190-BD99-49AA-A5E0-36B2C796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24CB8-7021-4AC5-A14E-21184909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B7EFC-928D-45AC-9B25-70E9F80D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1BAA8-C967-4A68-B3BB-D066B50B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C7556-5F80-4C1B-A4DB-ADCFEBCF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99FB1-347E-4DF4-ABB1-7C712223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564DC-F333-4DE7-ACFF-07B30659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816-0220-43D7-9500-2FAF87D4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3E406-D84F-4092-8403-61733D66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D9428-0C72-43ED-8F84-455F9115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970D9-5B4C-4544-9DE1-CFCAEAA0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83BDA-6C8C-4D93-8CB0-CD11803D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4C657-C2F5-49AB-A6DE-4139EFCB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80B97-0C61-4C3C-8123-CE06A42F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F76B0-8711-4BC9-BAE9-91923E6F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881D5-2BE4-4FE6-A2B3-3A43C858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54C79-0934-48BA-8D23-ACC8C71A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F9A07-4889-46A7-9047-7E93DE97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A663-1020-4A73-9DE9-80490006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67F83-E868-412A-B759-931DABDF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EB798-BD8A-415C-B364-F65E5CAB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2F724-BF27-4877-A738-D1BB9DF5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F05AD-8381-4DB9-803B-C0F2BC2D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E1D75-59A2-44C4-89D1-265C0BED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432DD-6DDF-41AE-B6EF-47C6EB38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F4262-49CF-442D-B7AC-300E8958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75F78-5065-4ECA-A216-E6BF9111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A5981-CF7B-469D-AD92-4F8E960C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2E3C2-3BB1-43FA-83C4-35021F5A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CC6-DAB1-416A-9F13-B5712F9D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3A303-E8C6-4AF4-983D-30FC6AEC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AEA54-0051-42A1-988E-9B961BA4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73921-AA3C-499D-8B9B-90D8DCE2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81F25-97A1-4AC3-A1F1-2EA2CA78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B5DCB-B113-4711-84E5-0305224C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D1445-8412-492C-B02D-0B7DA58A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6C17B-B12B-4263-BB79-72AFB2F5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61A81-1F43-4B29-8ECB-4B5D4DAE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12827-5CAD-4FF3-8896-5301F493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40AFD-523D-4543-8980-FF9B4818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094-202C-4D95-B6D9-BD28B796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E5482-86AA-4905-BFD1-DA7573B1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FE597-C43E-4C5E-AA02-C6B53433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02559-C7C7-421D-97B0-06541F71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15914-AF5B-4FFC-9FAB-BE386BEF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053FA-3F97-4FE3-915C-CE89A74E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DAD32-CC4B-49A0-B7FE-87169F81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EAB4D-0FAD-49BB-986B-352CB3D4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79AE5-0C7C-4649-BCB7-2239BBDD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95FBB-A7EF-401A-BD59-F40AA22D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89B35-01C5-42A1-AA39-15F22FF5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101B-5995-408D-BD8D-5935AF39642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94D8-FA8E-41CA-ADFD-4148659E76C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89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3505-59BB-46DB-A0D2-21313E2673E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C3D5-5991-4375-A5F2-654D4C06F0E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42D0-52B9-4CA1-840A-032748D3A60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5758-BF86-4315-BFD3-328DD1F572D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BF97-6E91-4777-9688-CBDB21D06E5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1D33-1BFB-4A55-93C8-2C5E67D863F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49" name="Овал 12" descr=""/>
            <p:cNvPicPr/>
            <p:nvPr/>
          </p:nvPicPr>
          <p:blipFill>
            <a:blip r:embed="rId2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0BAA-1695-4CD6-BC05-3AC27210313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AE7E-ED61-4B89-A822-8563D68B335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7C37-05A4-4602-8341-E2A8D1B9B84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DAC8-2B55-4075-820F-C11B80D70B3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37" name="Овал 15" descr=""/>
            <p:cNvPicPr/>
            <p:nvPr/>
          </p:nvPicPr>
          <p:blipFill>
            <a:blip r:embed="rId2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2585-87CB-40B9-9D37-517487421D7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8724-1C72-4F50-90BE-1A17AEE45A8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B4B9-8DD9-4885-AA82-A641BF5F767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F25B-D0EE-4311-9BAD-32D170A8A2C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7A22-1865-40B2-B477-4E7FEF91AAF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7E13-014B-4A44-BB56-9041894F6B3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0446-2A4A-4822-83FD-56F429D14AB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4FDC-4D5C-46CB-B20D-EF56DD3B35F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170B-E191-442D-8208-E10665E4706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C1A9-0284-406F-85E8-8C70344D5B7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DE7B-23CC-42F5-B305-413A2A75B29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736A-D52E-48FB-8C5C-A314E1F4BD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28480" y="3933360"/>
            <a:ext cx="74991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в: студент групи ЕСсп-14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тюк П. О.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00040" y="1571400"/>
            <a:ext cx="8143920" cy="15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А ЧАСТИНА ГЕС ПОТУЖНІСТЮ 108 МВТ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АГРЕГАТАМИ ТИПУ ВГС-650/130-3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7"/>
          <p:cNvSpPr/>
          <p:nvPr/>
        </p:nvSpPr>
        <p:spPr>
          <a:xfrm>
            <a:off x="1357200" y="2142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хема електричних з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днань го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Рисунок 1" descr=""/>
          <p:cNvPicPr/>
          <p:nvPr/>
        </p:nvPicPr>
        <p:blipFill>
          <a:blip r:embed="rId1"/>
          <a:srcRect l="22909" t="15193" r="3334" b="8155"/>
          <a:stretch/>
        </p:blipFill>
        <p:spPr>
          <a:xfrm>
            <a:off x="468360" y="692280"/>
            <a:ext cx="82803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7"/>
          <p:cNvSpPr/>
          <p:nvPr/>
        </p:nvSpPr>
        <p:spPr>
          <a:xfrm>
            <a:off x="1571760" y="21420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переч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різ головної будівлі стан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Объект 6" descr=""/>
          <p:cNvPicPr/>
          <p:nvPr/>
        </p:nvPicPr>
        <p:blipFill>
          <a:blip r:embed="rId1"/>
          <a:srcRect l="20772" t="12670" r="2645" b="6489"/>
          <a:stretch/>
        </p:blipFill>
        <p:spPr>
          <a:xfrm>
            <a:off x="755640" y="907920"/>
            <a:ext cx="76327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600" y="0"/>
            <a:ext cx="6280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лан та поперечний розріз ВРУ-150 кВ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2" name="Номер слайда 3"/>
          <p:cNvSpPr/>
          <p:nvPr/>
        </p:nvSpPr>
        <p:spPr>
          <a:xfrm>
            <a:off x="8643960" y="7128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Объект 6" descr=""/>
          <p:cNvPicPr/>
          <p:nvPr/>
        </p:nvPicPr>
        <p:blipFill>
          <a:blip r:embed="rId1"/>
          <a:srcRect l="20637" t="14822" r="4766" b="9394"/>
          <a:stretch/>
        </p:blipFill>
        <p:spPr>
          <a:xfrm>
            <a:off x="468360" y="765000"/>
            <a:ext cx="817560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67863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Грозозахист ВРУ-150 кВ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36" name="Рисунок 2" descr=""/>
          <p:cNvPicPr/>
          <p:nvPr/>
        </p:nvPicPr>
        <p:blipFill>
          <a:blip r:embed="rId1"/>
          <a:srcRect l="22779" t="9913" r="5208" b="16593"/>
          <a:stretch/>
        </p:blipFill>
        <p:spPr>
          <a:xfrm>
            <a:off x="539640" y="692280"/>
            <a:ext cx="810432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Номер слайда 3"/>
          <p:cNvSpPr/>
          <p:nvPr/>
        </p:nvSpPr>
        <p:spPr>
          <a:xfrm>
            <a:off x="8572680" y="142920"/>
            <a:ext cx="3855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7"/>
          <p:cNvSpPr/>
          <p:nvPr/>
        </p:nvSpPr>
        <p:spPr>
          <a:xfrm>
            <a:off x="2071800" y="14292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лейний захист трансформатора зв‘я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Объект 2" descr=""/>
          <p:cNvPicPr/>
          <p:nvPr/>
        </p:nvPicPr>
        <p:blipFill>
          <a:blip r:embed="rId1"/>
          <a:srcRect l="24009" t="9765" r="4766" b="18374"/>
          <a:stretch/>
        </p:blipFill>
        <p:spPr>
          <a:xfrm>
            <a:off x="395280" y="692280"/>
            <a:ext cx="829800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7"/>
          <p:cNvSpPr/>
          <p:nvPr/>
        </p:nvSpPr>
        <p:spPr>
          <a:xfrm>
            <a:off x="611280" y="1429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бслуговування вимірювальних трансформаторів та кабе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Рисунок 1" descr=""/>
          <p:cNvPicPr/>
          <p:nvPr/>
        </p:nvPicPr>
        <p:blipFill>
          <a:blip r:embed="rId1"/>
          <a:srcRect l="22917" t="16200" r="4780" b="9913"/>
          <a:stretch/>
        </p:blipFill>
        <p:spPr>
          <a:xfrm>
            <a:off x="395280" y="598320"/>
            <a:ext cx="840600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770040" y="14292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іко-економічні показники стан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Рисунок 1" descr=""/>
          <p:cNvPicPr/>
          <p:nvPr/>
        </p:nvPicPr>
        <p:blipFill>
          <a:blip r:embed="rId1"/>
          <a:srcRect l="24445" t="10111" r="4780" b="17578"/>
          <a:stretch/>
        </p:blipFill>
        <p:spPr>
          <a:xfrm>
            <a:off x="468360" y="669960"/>
            <a:ext cx="820728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9:37:45Z</dcterms:created>
  <dc:creator/>
  <dc:description/>
  <dc:language>en-US</dc:language>
  <cp:lastModifiedBy>1</cp:lastModifiedBy>
  <dcterms:modified xsi:type="dcterms:W3CDTF">2015-06-15T17:56:04Z</dcterms:modified>
  <cp:revision>44</cp:revision>
  <dc:subject/>
  <dc:title>Керівник: к.т.н., ст.викл. каф. ЕСС Тептя В. В.  Виконав: студент групи ЕСсп-14 Скоропадик О. І.</dc:title>
</cp:coreProperties>
</file>