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6DA4-BB34-4A77-9771-E66A3FB2F0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05FD-B3D3-49EA-8A42-38372B16B7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550-281F-4309-A99B-626691B0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481-6FD2-4921-BC45-1EF7D5C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DDFD9-77C8-4B0E-B8B3-3226F153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E00FC-C4FE-4CB3-9C0B-1CF3BF4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E59A8-847E-4C4A-AB4D-2710CEDE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FC21F-CE0C-473A-AD09-30319A4A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2C076-BB9D-47D6-9117-7950FEA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088B0-5E4A-4DD7-8B2D-1FF544E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6151E-2BE0-4496-AE12-9D88B217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9FDE6-CB88-4D5F-8E1F-FF295151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F0051-D389-4BC7-8C75-561A9AA3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73D23-D234-45E9-AF48-F4A8D117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B73-BCA1-4254-9543-338BD972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5EF85-8F9B-4B25-A8FE-406B2D58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0560C-117B-4F74-9D7A-D2B96D7B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63894-FC7F-415B-9CEE-F233EA2D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55FC0-08D0-4042-9464-C3AF507E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32A27-AD89-4349-8B32-83811F3B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6FEC0-A300-4C9B-BEB0-6C6319C8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FDDAA-B147-4507-A092-1CA6B347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B7C1D-7CAC-41A9-B349-5FBA0D3E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591BD-43E2-4B1A-A21C-0EE3EAE9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73CD1-B589-434F-A240-72046874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F2D-C975-423E-8738-3266C384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13162-00B1-4594-B63F-2CD4A010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51BA1-890E-4CA3-B2AE-6CF1A432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60BDA-FC60-4973-9892-12DC6FF0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087D8-9060-4A98-B4D6-284568CF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EE1E8-42B3-41A0-9E7F-AF9EEAF6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BF101-FACC-44CC-BFF6-1815EAB6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A0A48-8672-4D4D-BFD2-9B9EEB87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6B5C7-E539-4E29-861A-C53313D9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08EE1-9F9B-4459-A1AB-038ABFDB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6B94C-4C18-4C89-BA20-16E5D405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E392-75C3-4BC2-B5D1-4939EE51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4B06F-D31F-4BAE-B589-457ADC2B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D6D4A-774E-4678-BC05-D36FB90C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ADF94-3EA3-4E7D-BBDB-51D73CDF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23EE5-2649-43C2-B2C9-CB6FA0D2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7D6F2-53CC-4B13-B3C5-37B9E9E7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565AB-CF7F-4637-82E8-7B03C619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B93DD-9C79-44ED-B236-A29465A3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01798-951D-43E4-9FBC-C4B66E13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FDA70-E920-4BD7-AC49-D009543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BEAAE-8445-4042-9D4F-03003CB8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335E-8359-4024-882B-1CF31AA0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558D4-E5C8-4968-B5CC-5FEF5F5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1D5C9-A952-4E14-AD02-9C642874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B7779-9456-43D9-AF4D-824F8DAC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CF86D-CFC8-4877-88DF-92EF8E7A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D7ED5-71B3-4187-A21A-D7E13535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8CDD-C0FC-4653-B5B9-8E8D1EC5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F782-6270-4C4D-BADA-D43DA509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EC4-D308-4539-BC01-525B1B9F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EFBC-A7E0-4F08-B774-56BEFC6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C6DE-6B16-46D5-850C-62AD3E76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435-70BE-4A5B-BE3A-592C10CF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954E-47B6-4D50-8776-36AFAAA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6E0F-C6CB-4EDD-8AAA-D5E70991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24E9-88CA-4D67-B646-1668863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A668-6866-4929-8513-ED17AC70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5090-4F87-4088-91E2-DE35D37D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4F49-525E-42FA-AB58-8B1FB319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C9DD-D656-4AD5-992C-CD837263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5475-EC63-49B7-AA80-FC1CE1F4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B3AC-2D81-436E-9A01-B66F271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1C2F-B298-483C-9E86-9CF5A110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161-F77E-4724-9DFA-18E3E320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3647-0FA3-4C35-B702-50444B25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76E1-E8B6-43E5-82A1-534052C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A5EC-5AAE-4AFC-86B9-FE30F7A4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FBC8-5334-4F5D-A584-81CB702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EA16-8940-4D9C-BD3A-3FF3AF84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8BF8-2ADE-45CE-85FB-D6A99073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6AB8-B30C-46B2-AB84-2FC64918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6761D-E342-42C1-ACA8-40CE4086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2011-80A7-49C1-9E9F-280974B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1F2B-8C7C-4505-93A9-AAFCE0CB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892-BE6E-4D6B-B6DE-873A878C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FBE6-76C3-463F-B3A1-C23AE1E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055C-DCDA-4192-BBB1-EC3673E1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82CA-8AFC-4298-B579-B8724FA1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D593-1B46-4C09-A354-751ED84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958F-C2CF-47DE-ABD2-E509189E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21A2-D8BF-4619-BA84-C75FCCF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F9E5-216C-4C54-9C78-D4775622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01A6-5B9B-4F18-BB6D-D4A1D92B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1386-ADC6-44E4-A57F-16B77842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FDEC-C52B-4330-BA27-EC2CA390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DA0-7BF9-4357-B82C-C4DC744C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C41F2-CAD2-4003-BCFD-9A1941E0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3E8BF-7178-422B-A9B6-1EA4CEEE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C7273-4539-4DAE-82B9-9382CD47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3EC4D-22D5-427F-82ED-02CE1417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3E39E-4918-448D-8E23-443EC506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A97B-C0B7-4658-AF74-AF58A55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369E1-EE48-4109-897D-9FF6752E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E61B2-29CC-45C4-B4FA-A8A6575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8974-DF02-460A-B142-73D65A22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B6A0-7B40-4F7C-8DD9-8BC4C306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443-B241-4326-8A64-D5AD63E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C720-6E09-43B9-9D75-97EAC8F6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0062-C595-4CCB-8162-860B167D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ED18-D6C4-4CA4-B46F-6654B98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4ACC-B5A6-45F8-BFC4-F8A9BB34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7447-1277-4BE9-962D-2B22C413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E456-EBF5-47A3-8B7C-5D667B59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5B84-83A7-4E88-8048-6C5BFFA9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CECC9-55E2-4F37-8ACC-B2FA7CBC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135E0-D9DA-460E-9566-CF91627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D11A-527C-403A-9529-A82DD0FA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89C-54FF-4B8B-AD8E-C9927FD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5EF6-8C3F-4095-AD9F-538F730F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34D2-E0F6-4E8D-AB53-4265BB27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5D16-813D-403B-94F8-BEC313F3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A3E33-DD29-4400-BEE1-42333CA4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858A-921D-4B9B-814E-A8AD7A9D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37AFE-AC70-4D63-9CBA-5CE201FF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5115-8922-41BF-9010-A425D632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C093C-EE34-4050-A61D-F885CFA6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B2E28-F4D7-460B-9608-4EA8C0AB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4E8E3-F08E-4532-A499-4B4E4D6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BDB-0ED2-4C98-BC9F-BC722D13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D5EFA-8F82-45DC-8861-E4628CB1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71B5-6DC8-410C-9FA9-A919B2A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11471-47DA-4A84-9FAF-6658851E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3121-6BA2-4808-B81F-4D1064AE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AE31-2CA1-4BE4-8722-24C815CC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EFF77-B2E7-4FD0-A05F-107E06C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4D224-70A1-47FC-86E2-F43E595D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075B-C9DD-4EA7-B96A-F51EA27D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3FED6-E1C1-419E-A301-A82BCE3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90E6-23E3-4A24-B3BC-FC1CB16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9F1-4E06-41DA-8315-1AAF1C2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8F0FC-3DCE-49AE-A518-AE969620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70C55-78D6-449A-811C-388FFFE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A127B-7433-46E5-80CC-2CF10791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4785-2CC8-4AAD-B51F-87379C5E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32987-BDF5-4E83-B951-9DA8CCB5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7C0C-CF42-4C9A-A0A1-7C587C3F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1FFB-5A2E-4966-85A3-B976D496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2238F-C7B3-4862-AF29-BD399F1C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CE97C-F8AC-4C5E-A8B5-1EED5595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B67A5-1689-4380-8D95-A30A948C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D1D5-EBC8-4A54-A7B3-9F864006CDE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AC4-89C1-42EF-B745-78DC67F8EF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9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E8A0-C4B7-4065-8104-8FDAD0B3277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1567-AB39-4EFF-A868-713F1C69CB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70DF-8571-4B5B-87F4-70612D75CED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7134-68B6-4CEC-80FD-68898830E4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1755-989B-4CB1-B142-8F07642F53A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50E-1BEA-439A-8107-65AF1B3DBA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2" descr=""/>
            <p:cNvPicPr/>
            <p:nvPr/>
          </p:nvPicPr>
          <p:blipFill>
            <a:blip r:embed="rId2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2DA3-6219-4162-9ECE-1CF064CC19E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3E66-760C-4F19-BE0F-86451E1C61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FD17-7EC7-49FB-A29C-59E88E2C25E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B91A-F89F-42BE-AE22-93DC9755DC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87E-B55F-486B-8363-FEF0109FA93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5437-CD1A-4289-8726-1AA3D4BB4F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A9D-662C-43FF-8ACD-B4D4779FD2C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E7AD-CC5A-4E95-AF9A-8BB5C019EA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3344-614C-4588-AB67-93A698ECCA8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2741-5680-4D4F-8914-FC0DB2D144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704-5929-43DB-88FA-585E7CCCEE8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9D94-A05E-4266-BA74-F3F9D5FA94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F6B3-5FBF-47F9-83E7-DC53E818445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AA60-554F-4CA8-938E-1D9DCEFB17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5058-4044-4A04-B8CA-42664AF0BB7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EE59-9ABD-4739-9CB6-9F7B2D8A1F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8480" y="4214520"/>
            <a:ext cx="7499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ЕСсп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усик В. А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571400"/>
            <a:ext cx="814392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стю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Вт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х200+3х800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1357200" y="586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електричних з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днань го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2" descr=""/>
          <p:cNvPicPr/>
          <p:nvPr/>
        </p:nvPicPr>
        <p:blipFill>
          <a:blip r:embed="rId1"/>
          <a:srcRect l="24861" t="16200" r="2222" b="10111"/>
          <a:stretch/>
        </p:blipFill>
        <p:spPr>
          <a:xfrm>
            <a:off x="380880" y="644400"/>
            <a:ext cx="843444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571760" y="1429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із головного корп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К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Объект 2" descr=""/>
          <p:cNvPicPr/>
          <p:nvPr/>
        </p:nvPicPr>
        <p:blipFill>
          <a:blip r:embed="rId1"/>
          <a:srcRect l="24608" t="16508" r="2383" b="10507"/>
          <a:stretch/>
        </p:blipFill>
        <p:spPr>
          <a:xfrm>
            <a:off x="254160" y="644400"/>
            <a:ext cx="86295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0"/>
            <a:ext cx="6280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 та поперечний розріз ВРУ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2" descr=""/>
          <p:cNvPicPr/>
          <p:nvPr/>
        </p:nvPicPr>
        <p:blipFill>
          <a:blip r:embed="rId1"/>
          <a:srcRect l="29966" t="17907" r="2975" b="14165"/>
          <a:stretch/>
        </p:blipFill>
        <p:spPr>
          <a:xfrm>
            <a:off x="439560" y="647640"/>
            <a:ext cx="8209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7863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власних потреб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6" name="Рисунок 1" descr=""/>
          <p:cNvPicPr/>
          <p:nvPr/>
        </p:nvPicPr>
        <p:blipFill>
          <a:blip r:embed="rId1"/>
          <a:srcRect l="25139" t="9126" r="3196" b="17773"/>
          <a:stretch/>
        </p:blipFill>
        <p:spPr>
          <a:xfrm>
            <a:off x="558720" y="692280"/>
            <a:ext cx="8190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8572680" y="71280"/>
            <a:ext cx="3855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78588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лейний захист пускорезервного трансформатора власних потр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Объект 2" descr=""/>
          <p:cNvPicPr/>
          <p:nvPr/>
        </p:nvPicPr>
        <p:blipFill>
          <a:blip r:embed="rId1"/>
          <a:srcRect l="22555" t="9574" r="2848" b="15469"/>
          <a:stretch/>
        </p:blipFill>
        <p:spPr>
          <a:xfrm>
            <a:off x="324000" y="620640"/>
            <a:ext cx="84960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71280" y="71280"/>
            <a:ext cx="85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плуатація асинхронних електродвигу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1" descr=""/>
          <p:cNvPicPr/>
          <p:nvPr/>
        </p:nvPicPr>
        <p:blipFill>
          <a:blip r:embed="rId1"/>
          <a:srcRect l="22083" t="14825" r="2916" b="8537"/>
          <a:stretch/>
        </p:blipFill>
        <p:spPr>
          <a:xfrm>
            <a:off x="343080" y="546120"/>
            <a:ext cx="847692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7"/>
          <p:cNvSpPr/>
          <p:nvPr/>
        </p:nvSpPr>
        <p:spPr>
          <a:xfrm>
            <a:off x="78588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томатизована система керування ТП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" descr=""/>
          <p:cNvPicPr/>
          <p:nvPr/>
        </p:nvPicPr>
        <p:blipFill>
          <a:blip r:embed="rId1"/>
          <a:srcRect l="24445" t="9715" r="3196" b="16005"/>
          <a:stretch/>
        </p:blipFill>
        <p:spPr>
          <a:xfrm>
            <a:off x="417600" y="584280"/>
            <a:ext cx="828684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9:37:45Z</dcterms:created>
  <dc:creator>1</dc:creator>
  <dc:description/>
  <dc:language>en-US</dc:language>
  <cp:lastModifiedBy>1</cp:lastModifiedBy>
  <dcterms:modified xsi:type="dcterms:W3CDTF">2015-06-15T16:59:09Z</dcterms:modified>
  <cp:revision>50</cp:revision>
  <dc:subject/>
  <dc:title>Виконав: студент групи ЕСсп-12 Рижмань Є. О.</dc:title>
</cp:coreProperties>
</file>