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4B3-C483-4F59-9045-FA1D52D7B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AA53-6E88-4D67-8AFD-CD3CF866F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DE7-7C7D-4204-B5EF-12BB7E07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B83-FE46-4F57-9419-55971256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37125-FC9F-4948-A204-7C957859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12625-95AE-4174-BA73-1EB7820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A45BF-3B5F-47C1-9752-892DB1E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6011-64DE-4BA6-BE5B-093361E0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AC4FC-8E6A-4EA7-A470-47100C6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3309B-533A-4F23-858C-BC1D80B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1FE88-22E8-4C19-9E38-04A75AF4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91CAE-DF40-4707-9C11-111731CD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BA1F1-5DF9-4AAA-8203-A14ECE4E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50ECF-6A91-421E-85EA-E5B2343C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EAD-D4D9-4D97-A7B0-C4220EE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E576C-D08F-4DD6-8582-794FDD8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905EA-CA13-49C9-B446-1E3E94FC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CEB53-884C-4B96-BD49-402913E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5E49E-BD79-4939-9F6C-CCFEDE3D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BDA3E-196D-4C72-91A9-C7329E68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B67C-0166-4061-A721-662673F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2E503-AAF7-47C3-94B0-414ABBB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82A9E-BB78-4101-A6A9-AA759B2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EB83-CDB8-451E-871A-287450B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576FF-8112-4A19-AC19-6444AF7D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FFD-4760-4B67-8437-3156501A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2FE0-55FA-4129-8CF2-DE9B009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7823F-FC32-441C-8961-2AF752F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37249-054F-4310-8C9F-C372AD4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60D6-1137-4B67-9409-D11E52F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8BB08-433B-41D4-A611-56712E3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3E29-D9C6-4D27-A400-E0F0FE1C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D6BCD-0389-4B6A-ACFA-C9F89E6B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73A3-8FFF-4DA2-8EA9-1FA8E9C4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77948-E6C9-4FE3-A7AC-8A77DC2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00A5-5B69-432E-83A2-5A4001F1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7FA-0417-4BE2-A539-E17C6BE2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8946A-7CE6-425B-9719-53AEFD0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463B-B8C4-4FF9-933D-E36E37C0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D53E8-94A1-49DF-BD78-3A1EACF6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FFC71-7F49-42A1-BF6C-1DA00A17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3BDCF-DE3F-42A2-811C-2C3A134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86C36-25B8-417A-BF9A-0646CC2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8A2F5-0CAF-470B-BE20-0812C70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1A92-0061-4B76-9552-FA6927E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BF885-754C-45BB-83F2-2D764532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7BE20-6E3E-459D-80A4-E3B6224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2456-B45C-4164-9EF1-2B2DA7C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D1E3B-123E-4037-A68E-3DF5BA2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3F936-372E-48F2-A9B6-329FA2E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9344-5DC1-458E-8CF9-E42F0526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D87FD-7C94-4329-A32D-9A1BE46A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F34F-8D39-4F0E-A02D-F24CAEF5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0646-F0E6-45E3-B204-B39078AD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267-A008-41DC-BE28-184088B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9A8-19E2-452E-87B4-F65ADED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8975-182F-4747-965D-0F1E20FB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6C9B-83FF-4AC6-BFD6-BFFA0F8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631-6718-4F75-B471-33B4300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A8D-6975-424C-87DB-D441636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084F-E5E0-4454-9FB2-533237DB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AEAB-3A8D-4908-964C-5209CC93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B7D-6D97-43B8-9918-1788E023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A50E-A80E-4B12-8CFC-16E34AD0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3C93-F966-4A97-B9ED-0EECBBFF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1DE4-2BDA-461F-B573-0949C28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4FBC-6ACC-41F2-8354-9CD5AEE0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030E-D0E1-4851-899F-3E59D32D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C6B7-D157-48B8-9104-703484AB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6C1-4A93-44A3-A6BD-174E19F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8F81-7C31-4490-8EDF-DEC972B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80A6-FEE6-475B-A24F-8317DA9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8AF1-DC0F-4105-990C-7925615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8070-A513-448A-8E93-423127A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DB77-6CDA-44E9-A6D3-2A93B0F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70A1-64FB-4026-B9CB-0CE380E2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82E9-FE1F-4189-8030-73D53235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D868-5956-4DAF-B966-2BCC5D25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306B-784B-49B2-B2CB-FBAE421E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92FD-B886-48F7-8495-4FDC8055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5D0-FFED-4A23-8BB7-159BA84A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D4D2-68EF-47A6-9584-E3DF1C0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03BD-95A8-4099-80E4-9A09314F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C6EC-93B2-4D2C-971D-FA6F2278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D042-16E4-4C97-A429-0903E17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7384-9C8D-4D55-8EB5-134996F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CBA5-6FBC-4D8B-B118-5C3A234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8FFA-9480-4539-B023-4BA89DF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8B13-9CCB-49B4-B480-0BB8371F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DBDE-692A-48FD-B28A-8379DD51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E55D-77B4-44A8-AF7B-289405B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595-FB2C-4A3D-A5AC-A82734D6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34D5C-CC75-466D-9FE2-97B6E05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BB9BA-FA5C-4527-88B6-BFE6989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EA66-846F-4B00-9B26-C023CAA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1C2B-32A0-49C4-B3ED-B7E73889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DB55-4B0A-48AC-8A08-47F122B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63D1-FFD9-4169-BED7-956D824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9257-B6A1-4912-BF9B-2C5CA21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BDBD-7555-448B-9E8E-4BBF550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0433-603D-4E0C-8787-9F480ACA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1234-A05F-44D6-BE8A-9DA1CC00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5D-3DE7-458E-94AC-D3BE7B2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6FA8-C9C8-46C8-8145-97AC85CA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81E9-76F1-45ED-9FE1-ABA0568C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5545-8372-4F5C-B5AA-37E0C64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D476-3A90-402A-AC3D-3109A9D3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97C4-7ADA-4707-9B6E-8FCD97D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ECD5-D345-40E2-A929-177BCA6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E3F10-1411-4CA5-A3E9-A428394B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5428-FC49-4226-AB59-2F73121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31FC-6738-4FBB-9CE8-577AB84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A4C8-F2EB-4594-8F72-8311AE2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9C8-501B-41B9-B63A-22EA71B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F6D1-CC39-4E4F-9A8A-F82BFDE6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70DB-250E-4D48-9E4F-D917DEBB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84C76-9743-4DF2-981E-72401604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435C-29A2-4151-A427-EE7F3FE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6326D-4B4D-4CAF-8889-ADF5568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DCAA-F01A-4859-A997-2C6F64F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1BCA-E8ED-4A2F-B8E3-2FB1E46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FE94B-2824-4255-BBAE-21F0283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09D5-C37A-4FBB-936E-546DE0EF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3099-DACE-46D0-B649-6462CAF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910-2B07-4673-A535-A9B2635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8599-1E0B-4202-A7DF-D6E22AC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DE59-F1F6-4DA0-ABF7-3E92B73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94C1-2F56-48AA-BA97-7721AE9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15778-B5AD-45FD-AA4C-A8F53DA1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47CF-4E3C-4096-B8C6-A59C8DD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3C3F-16B6-4E29-8243-CD22AA2C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8ABF-2BF8-406D-8AE6-892F66E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9230-FB43-4598-BF61-30B1C30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944E-A6C7-402D-93C6-40CBF4D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4C3F-391D-4AF7-B4CE-951A8C6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4E0-A028-44FE-831C-BA850AB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BFFB2-EC13-4C8C-B19A-D3D4439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86775-4928-46A7-8BFE-4EAABE0D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3AA8-7084-4D08-A8C7-220021B8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92E8-AEE2-467D-BC20-BA130DB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11AA6-2C1D-4A50-8DD5-E4780DB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5E57-73A0-40E0-B1CD-3B1DCD42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92E7-062F-4DC1-B59E-1C5E9E8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82762-B6C4-4B6C-908B-7C87DB34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4C42F-1399-4AF4-B82C-16EFB04A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D5025-125B-481E-83D8-7B7C458C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5CA7-659F-48A0-A7D4-684CB9FF7F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C6B9-59DD-4E78-8F32-9073326D21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4D98-336E-4CCF-8195-C333FE9246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4EC9-1E05-4A0C-B655-28063803A4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4333-900E-4F2D-B154-4252A652E7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A091-8C0E-4CBB-98EE-F8B2B5986B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6058-1718-4093-B71C-887B0B17EF8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143-2CBC-41C2-AB24-1CF295788D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FC3-F64F-4444-B2CE-6A4EAE7BC1F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2DE-61FE-4E57-801B-60B68888E6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970E-74C7-42B3-A34B-66B7DBC4805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FBBD-E03D-4FEE-B917-51261520E5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A35B-1734-4DA4-9EE7-EFA183ABB14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15FC-82BB-459C-8F98-87E07B44BE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ACD-7D16-46FA-B5AC-6BDE89C2AEE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63B-F085-49F9-83E7-4205443A4D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434-0AC8-4961-8992-72BE2F1576E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BFF-5E51-4164-AD47-D3EBCC6CFD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952-AEC5-46D1-ACC0-BF356EA3152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8E4-B24C-4933-89A7-0D4139905E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991-AFF0-4768-97D3-1E6E0821D33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B8A-13EC-4396-B4E6-38889ED899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ED9-ACA1-4892-84AF-C013EBEA534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02B-17A9-4208-91E7-167DF81327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480" y="4214520"/>
            <a:ext cx="7499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сп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усик В. А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571400"/>
            <a:ext cx="814392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ю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Вт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х200+3х80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586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2" descr=""/>
          <p:cNvPicPr/>
          <p:nvPr/>
        </p:nvPicPr>
        <p:blipFill>
          <a:blip r:embed="rId1"/>
          <a:srcRect l="24861" t="16200" r="2222" b="10111"/>
          <a:stretch/>
        </p:blipFill>
        <p:spPr>
          <a:xfrm>
            <a:off x="380880" y="644400"/>
            <a:ext cx="843444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142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го корп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2" descr=""/>
          <p:cNvPicPr/>
          <p:nvPr/>
        </p:nvPicPr>
        <p:blipFill>
          <a:blip r:embed="rId1"/>
          <a:srcRect l="24608" t="16508" r="2383" b="10507"/>
          <a:stretch/>
        </p:blipFill>
        <p:spPr>
          <a:xfrm>
            <a:off x="254160" y="644400"/>
            <a:ext cx="86295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2" descr=""/>
          <p:cNvPicPr/>
          <p:nvPr/>
        </p:nvPicPr>
        <p:blipFill>
          <a:blip r:embed="rId1"/>
          <a:srcRect l="29966" t="17907" r="2975" b="14165"/>
          <a:stretch/>
        </p:blipFill>
        <p:spPr>
          <a:xfrm>
            <a:off x="439560" y="647640"/>
            <a:ext cx="8209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власних потреб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1" descr=""/>
          <p:cNvPicPr/>
          <p:nvPr/>
        </p:nvPicPr>
        <p:blipFill>
          <a:blip r:embed="rId1"/>
          <a:srcRect l="25139" t="9126" r="3196" b="17773"/>
          <a:stretch/>
        </p:blipFill>
        <p:spPr>
          <a:xfrm>
            <a:off x="558720" y="692280"/>
            <a:ext cx="8190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7128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пускорезервного трансформатора власних потр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22555" t="9574" r="2848" b="15469"/>
          <a:stretch/>
        </p:blipFill>
        <p:spPr>
          <a:xfrm>
            <a:off x="324000" y="620640"/>
            <a:ext cx="8496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71280" y="71280"/>
            <a:ext cx="85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плуатація асинхронних електродвигу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2083" t="14825" r="2916" b="8537"/>
          <a:stretch/>
        </p:blipFill>
        <p:spPr>
          <a:xfrm>
            <a:off x="343080" y="546120"/>
            <a:ext cx="847692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7"/>
          <p:cNvSpPr/>
          <p:nvPr/>
        </p:nvSpPr>
        <p:spPr>
          <a:xfrm>
            <a:off x="78588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а система керування ТП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24445" t="9715" r="3196" b="16005"/>
          <a:stretch/>
        </p:blipFill>
        <p:spPr>
          <a:xfrm>
            <a:off x="417600" y="584280"/>
            <a:ext cx="828684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>1</dc:creator>
  <dc:description/>
  <dc:language>en-US</dc:language>
  <cp:lastModifiedBy>1</cp:lastModifiedBy>
  <dcterms:modified xsi:type="dcterms:W3CDTF">2015-06-15T16:59:09Z</dcterms:modified>
  <cp:revision>50</cp:revision>
  <dc:subject/>
  <dc:title>Виконав: студент групи ЕСсп-12 Рижмань Є. О.</dc:title>
</cp:coreProperties>
</file>