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C4A3-99D8-460F-8F4E-CF4C5F0C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FF23-EDD6-460E-B12D-C42B24D5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82CE-E97F-4E01-8337-946C0764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6D7C-A072-462B-8180-D36D3E0A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DE47-DECD-4476-860A-F1642AAA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238-E2E3-4970-A6D2-AE64419C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C118-AA2C-4ED2-BD49-B86721F5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AEA3-640F-40FA-8D0C-3B57FECE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79F6-F0E4-460C-81CE-E8B5F388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3B8D-33EA-498E-BD89-772FEAFF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82B5-1590-47A6-9C37-3FD44AA1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D6B7-9B83-4C31-B588-D3FAD0A3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4DFA-C39F-46FB-80C1-480C0C8EEE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57120" y="15145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а частина ГЕС потужністю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 МВт з агрегатами типу ВГС-700/75-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429160" y="492912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гр. ЕСсп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изнюк А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71280" y="198360"/>
            <a:ext cx="901728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69840" y="142920"/>
            <a:ext cx="89740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87948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84320" y="152280"/>
            <a:ext cx="895968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71280" y="208080"/>
            <a:ext cx="899820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71280" y="200160"/>
            <a:ext cx="901224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71280" y="214200"/>
            <a:ext cx="901872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7T17:14:24Z</dcterms:created>
  <dc:creator>Vyacheslav</dc:creator>
  <dc:description/>
  <dc:language>en-US</dc:language>
  <cp:lastModifiedBy>Vyacheslav</cp:lastModifiedBy>
  <dcterms:modified xsi:type="dcterms:W3CDTF">2015-06-03T15:05:55Z</dcterms:modified>
  <cp:revision>4</cp:revision>
  <dc:subject/>
  <dc:title>Слайд 1</dc:title>
</cp:coreProperties>
</file>