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5AB-4D4E-4822-9551-09199269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D2B-7B9D-439E-9A1A-DC3421AB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EB8-D9A9-4FFD-B17D-77D5F95F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A18-805D-4B40-849F-E773A41D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E4D-A265-44C8-9BF3-FC81098B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C54-0176-467E-AE3E-1B8D6ABC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CCD-8FDF-4928-9BBB-56583108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783-E93D-4559-BA7B-8B958F4C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C17-6E6D-41E8-A0C6-90C4B99D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AB3-ACD8-4EB5-8CCF-1E770796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183-BA7D-4241-BF6A-8EB2EA2A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91D-F466-435E-8E6D-7D44AC07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B7B8-2C4A-4EA3-85FD-5F600CDB5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5145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ГЕС потужністю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 МВт з агрегатами типу ВГС-700/75-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429160" y="49291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гр. ЕСсп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изнюк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71280" y="198360"/>
            <a:ext cx="901728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9840" y="142920"/>
            <a:ext cx="89740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94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84320" y="152280"/>
            <a:ext cx="89596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71280" y="208080"/>
            <a:ext cx="89982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1280" y="200160"/>
            <a:ext cx="901224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1280" y="214200"/>
            <a:ext cx="901872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7:14:24Z</dcterms:created>
  <dc:creator>Vyacheslav</dc:creator>
  <dc:description/>
  <dc:language>en-US</dc:language>
  <cp:lastModifiedBy>Vyacheslav</cp:lastModifiedBy>
  <dcterms:modified xsi:type="dcterms:W3CDTF">2015-06-03T15:05:55Z</dcterms:modified>
  <cp:revision>4</cp:revision>
  <dc:subject/>
  <dc:title>Слайд 1</dc:title>
</cp:coreProperties>
</file>