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C649-4CBF-4315-ADED-C8CF90C89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58CD-7056-4528-95E2-1F258C175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685B-855B-42CD-A073-DF7840EC5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9D90-D126-40E0-ACD0-5F90863E4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77E7-08A5-4235-B1F3-5083E2F15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F9A1-1384-4129-B075-BBBE973A8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30C7-ECCD-4552-AB3F-C34E01D8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7C3D-B4C0-4A37-BC86-55A841C1F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85CA-7FFB-4D72-A6C4-BA6A023D4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AE5C-C814-4D70-B2D7-7F04BDFB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FF74-4272-4BAD-8764-2D46F048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0EB5-B2C4-4FF1-87A4-A374A3C1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A42D5F6-80EC-4E76-92F9-DBA097F98C9E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Заголовок 1"/>
          <p:cNvSpPr/>
          <p:nvPr/>
        </p:nvSpPr>
        <p:spPr>
          <a:xfrm>
            <a:off x="0" y="1030320"/>
            <a:ext cx="9143640" cy="14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Презентація до дипломного проекту 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за освітнім-кваліфікаційним рівнем «спеціаліст»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на тему: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uk-UA" sz="2800" spc="-1" strike="noStrike" cap="all">
                <a:solidFill>
                  <a:srgbClr val="000000"/>
                </a:solidFill>
                <a:latin typeface="Times New Roman"/>
              </a:rPr>
              <a:t>електрична частина Аес потужністю 3000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МВт </a:t>
            </a:r>
            <a:r>
              <a:rPr b="1" lang="uk-UA" sz="2800" spc="-1" strike="noStrike" cap="all">
                <a:solidFill>
                  <a:srgbClr val="000000"/>
                </a:solidFill>
                <a:latin typeface="Times New Roman"/>
              </a:rPr>
              <a:t>з реакторами типу ввер-1000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дзаголовок 2"/>
          <p:cNvSpPr/>
          <p:nvPr/>
        </p:nvSpPr>
        <p:spPr>
          <a:xfrm>
            <a:off x="4100400" y="4357800"/>
            <a:ext cx="640044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Виконав: студент групи ЕС-14с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Бугайчук А.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Керівник: к.т.н., проф. каф. Е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Леонтьєв В.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107640" y="144000"/>
            <a:ext cx="8897040" cy="6381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2288880" y="2205000"/>
            <a:ext cx="43567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uk-UA" sz="4800" spc="-1" strike="noStrike">
                <a:solidFill>
                  <a:srgbClr val="000000"/>
                </a:solidFill>
                <a:latin typeface="Times New Roman"/>
              </a:rPr>
              <a:t>Дякую за увагу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rcRect l="0" t="0" r="7612" b="0"/>
          <a:stretch/>
        </p:blipFill>
        <p:spPr>
          <a:xfrm>
            <a:off x="164160" y="188640"/>
            <a:ext cx="8655840" cy="65826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rcRect l="0" t="4681" r="0" b="0"/>
          <a:stretch/>
        </p:blipFill>
        <p:spPr>
          <a:xfrm>
            <a:off x="158040" y="332640"/>
            <a:ext cx="8878320" cy="62254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221760" y="216000"/>
            <a:ext cx="8797320" cy="6309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107640" y="144000"/>
            <a:ext cx="8946360" cy="6309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182160" y="260640"/>
            <a:ext cx="8638200" cy="6192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24200" y="188640"/>
            <a:ext cx="8811720" cy="6336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07640" y="72000"/>
            <a:ext cx="8845560" cy="6525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71720" y="260640"/>
            <a:ext cx="8792640" cy="6165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  <Words>28</Words>
  <Paragraphs>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ЧАК</cp:lastModifiedBy>
  <dcterms:modified xsi:type="dcterms:W3CDTF">2015-06-16T12:13:09Z</dcterms:modified>
  <cp:revision>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1</vt:r8>
  </property>
</Properties>
</file>