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A9F7A-33A7-4186-94EC-306213FCB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A7C1B-C888-4994-8505-9ED8C4C43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87C03-E7F3-426E-B45D-1E9F1C90C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D11AE-CBA2-40DA-9EDD-D749D09CE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A82A2-29AA-4351-A58F-E58D8C95F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4F613-9508-4231-B3DC-B3C2523DB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FAD9F-7547-4478-B54C-C26F6EFA1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ACE2D-CEC4-4F72-976A-197E3959D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4AAE1-68D9-40DD-8E9D-9E48EDC02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0EC41-672D-468D-92FB-AC1247E0D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8CF00-678D-4EA7-B2F0-7F3B1E4A0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2996E-18B3-44E5-88E0-81E131E37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3290C66-55B6-4140-B005-8BD08BA38BA2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Заголовок 1"/>
          <p:cNvSpPr/>
          <p:nvPr/>
        </p:nvSpPr>
        <p:spPr>
          <a:xfrm>
            <a:off x="0" y="1030320"/>
            <a:ext cx="9143640" cy="146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Презентація до дипломного проекту </a:t>
            </a:r>
            <a:br>
              <a:rPr sz="2800"/>
            </a:b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за освітнім-кваліфікаційним рівнем «спеціаліст»</a:t>
            </a:r>
            <a:br>
              <a:rPr sz="2800"/>
            </a:b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на тему:</a:t>
            </a:r>
            <a:br>
              <a:rPr sz="2800"/>
            </a:b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«</a:t>
            </a:r>
            <a:r>
              <a:rPr b="1" lang="uk-UA" sz="2800" spc="-1" strike="noStrike" cap="all">
                <a:solidFill>
                  <a:srgbClr val="000000"/>
                </a:solidFill>
                <a:latin typeface="Times New Roman"/>
              </a:rPr>
              <a:t>електрична частина Аес потужністю 3000 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МВт </a:t>
            </a:r>
            <a:r>
              <a:rPr b="1" lang="uk-UA" sz="2800" spc="-1" strike="noStrike" cap="all">
                <a:solidFill>
                  <a:srgbClr val="000000"/>
                </a:solidFill>
                <a:latin typeface="Times New Roman"/>
              </a:rPr>
              <a:t>з реакторами типу ввер-1000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Подзаголовок 2"/>
          <p:cNvSpPr/>
          <p:nvPr/>
        </p:nvSpPr>
        <p:spPr>
          <a:xfrm>
            <a:off x="4100400" y="4357800"/>
            <a:ext cx="6400440" cy="17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l" pos="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Виконав: студент групи ЕС-14с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  <a:tabLst>
                <a:tab algn="l" pos="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Бугайчук А.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Керівник: к.т.н., проф. каф. Е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Леонтьєв В.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107640" y="144000"/>
            <a:ext cx="8897040" cy="638100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Прямоугольник 1"/>
          <p:cNvSpPr/>
          <p:nvPr/>
        </p:nvSpPr>
        <p:spPr>
          <a:xfrm>
            <a:off x="2288880" y="2205000"/>
            <a:ext cx="435672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uk-UA" sz="4800" spc="-1" strike="noStrike">
                <a:solidFill>
                  <a:srgbClr val="000000"/>
                </a:solidFill>
                <a:latin typeface="Times New Roman"/>
              </a:rPr>
              <a:t>Дякую за увагу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"/>
          <p:cNvPicPr/>
          <p:nvPr/>
        </p:nvPicPr>
        <p:blipFill>
          <a:blip r:embed="rId1"/>
          <a:srcRect l="0" t="0" r="7612" b="0"/>
          <a:stretch/>
        </p:blipFill>
        <p:spPr>
          <a:xfrm>
            <a:off x="164160" y="188640"/>
            <a:ext cx="8655840" cy="658260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3" descr=""/>
          <p:cNvPicPr/>
          <p:nvPr/>
        </p:nvPicPr>
        <p:blipFill>
          <a:blip r:embed="rId1"/>
          <a:srcRect l="0" t="4681" r="0" b="0"/>
          <a:stretch/>
        </p:blipFill>
        <p:spPr>
          <a:xfrm>
            <a:off x="158040" y="332640"/>
            <a:ext cx="8878320" cy="622548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221760" y="216000"/>
            <a:ext cx="8797320" cy="630900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107640" y="144000"/>
            <a:ext cx="8946360" cy="630900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3" descr=""/>
          <p:cNvPicPr/>
          <p:nvPr/>
        </p:nvPicPr>
        <p:blipFill>
          <a:blip r:embed="rId1"/>
          <a:stretch/>
        </p:blipFill>
        <p:spPr>
          <a:xfrm>
            <a:off x="182160" y="260640"/>
            <a:ext cx="8638200" cy="619236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124200" y="188640"/>
            <a:ext cx="8811720" cy="633636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107640" y="72000"/>
            <a:ext cx="8845560" cy="652500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171720" y="260640"/>
            <a:ext cx="8792640" cy="616500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  <Words>28</Words>
  <Paragraphs>6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ЧАК</cp:lastModifiedBy>
  <dcterms:modified xsi:type="dcterms:W3CDTF">2015-06-16T12:13:09Z</dcterms:modified>
  <cp:revision>3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11</vt:r8>
  </property>
</Properties>
</file>