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FFB-BBE3-42FA-A680-19B436F4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5AD-C2AC-4B32-8CD6-EAE39655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376-2462-4963-A1E9-DF78402E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17C-7EF7-4E32-8EAB-27D2A1D0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5BE-B39A-4516-A4D0-BCC3DEA5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5C7-B23F-4C8E-92B4-4F1434CE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8D9-3419-4011-8EAB-C9D4EC66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55A-C3D8-4A34-99C6-FDB6D053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E16-7B9D-41E5-8DC9-D28356D6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701-A455-411B-A5CE-C51E521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1BF-333A-4AC1-B98B-C0549232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1F9-9B49-4A6E-81EA-A9A6D9B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1779-4AC3-4893-8C19-E6ECDCA1D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7120" y="15145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ТЕЦ потужністю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2 МВт (2×Р-6-90/31+2×ПТ-60-130/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429160" y="49291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гр. ЕСсп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инько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88920" y="158760"/>
            <a:ext cx="905508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0360" y="209520"/>
            <a:ext cx="905364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84240" y="154080"/>
            <a:ext cx="905976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179280" y="285840"/>
            <a:ext cx="89647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1280" y="142920"/>
            <a:ext cx="901872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8614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17:14:24Z</dcterms:created>
  <dc:creator>Vyacheslav</dc:creator>
  <dc:description/>
  <dc:language>en-US</dc:language>
  <cp:lastModifiedBy>Vyacheslav</cp:lastModifiedBy>
  <dcterms:modified xsi:type="dcterms:W3CDTF">2015-06-03T15:14:05Z</dcterms:modified>
  <cp:revision>10</cp:revision>
  <dc:subject/>
  <dc:title>Слайд 1</dc:title>
</cp:coreProperties>
</file>