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FE2-18D3-4C17-AB63-59D25648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B18-EB32-4232-8029-D1E72E9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38B-CD93-4B37-9CAC-6A9FD599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3AE-F8BA-4DCD-8EF9-0EC70F02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312-DA8C-47EA-A750-8BC0829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5F8-F95E-4999-A75E-9D1A08C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4F3-D053-4AEA-A829-8E32D57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656-01D8-4EE7-AD6D-6B1F65C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5DA-F1D2-41EB-937C-972622B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4FC-FB9D-4820-82A8-9E25138D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276-580A-4130-BC4B-9CC9969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FC5-301B-42BA-90E9-18B0327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8B9-DD42-4F05-B72E-5D258A14F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514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ТЕЦ потужніст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2 МВт (2×Р-6-90/31+2×ПТ-60-130/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29160" y="49291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инько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8920" y="158760"/>
            <a:ext cx="905508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360" y="209520"/>
            <a:ext cx="905364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84240" y="154080"/>
            <a:ext cx="90597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79280" y="285840"/>
            <a:ext cx="8964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1280" y="142920"/>
            <a:ext cx="9018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8614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7:14:24Z</dcterms:created>
  <dc:creator>Vyacheslav</dc:creator>
  <dc:description/>
  <dc:language>en-US</dc:language>
  <cp:lastModifiedBy>Vyacheslav</cp:lastModifiedBy>
  <dcterms:modified xsi:type="dcterms:W3CDTF">2015-06-03T15:14:05Z</dcterms:modified>
  <cp:revision>10</cp:revision>
  <dc:subject/>
  <dc:title>Слайд 1</dc:title>
</cp:coreProperties>
</file>