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3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70C-4126-47D6-97D9-FE857E46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86F-525B-48EA-ABB7-75D36B2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135-4BB3-411D-8B2E-59F09D31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12C-5AB6-4391-9EAB-430C9B57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053-44AC-4220-80D5-5E65FA1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9AB-46DD-4325-ABC7-C7AB7B4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AE5-2E3F-44E6-BFB4-FBAC4A4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0DC-915C-47D6-887D-3C698C26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741-BC82-45CA-9208-87E9ACB4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33A-9F13-41C3-88CB-0737F32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086-5E4A-4BC7-B244-AF63B7E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145-0CA4-458D-BAAA-1018AE6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71E-28F7-4D28-9CA6-809E966B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9200" y="25639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тимізація режимів ЕЕС з урахуванням залишкового ресурсу трансформаторів з РП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58680" y="907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 роб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7280" y="4003560"/>
            <a:ext cx="874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роботи:  к.т.н., доцент каф. ЕСС Писклярова А. 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в: ст. гр. ЕС – 14сп: Грищук М. 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2400" y="624204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ТУ Вінниця 20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-36360" y="115920"/>
            <a:ext cx="8534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Графіки залежносте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uk-UA" sz="2200" spc="-1" strike="noStrike" baseline="-25000">
                <a:solidFill>
                  <a:srgbClr val="000000"/>
                </a:solidFill>
                <a:latin typeface="Times New Roman"/>
              </a:rPr>
              <a:t>рес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ід діагностичних параметрів модел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20"/>
          <p:cNvSpPr/>
          <p:nvPr/>
        </p:nvSpPr>
        <p:spPr>
          <a:xfrm>
            <a:off x="4788000" y="3789360"/>
            <a:ext cx="4572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 вібр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0"/>
          <p:cNvSpPr/>
          <p:nvPr/>
        </p:nvSpPr>
        <p:spPr>
          <a:xfrm>
            <a:off x="250920" y="3794040"/>
            <a:ext cx="45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 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із.в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108000" y="657360"/>
            <a:ext cx="45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4822920" y="692280"/>
            <a:ext cx="4572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ність коефіцієнта залишков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у СТ від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x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а k 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tg(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)в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rcRect l="28139" t="0" r="28900" b="30285"/>
          <a:stretch/>
        </p:blipFill>
        <p:spPr>
          <a:xfrm>
            <a:off x="539640" y="1268280"/>
            <a:ext cx="2808360" cy="240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rcRect l="39317" t="0" r="2573" b="13386"/>
          <a:stretch/>
        </p:blipFill>
        <p:spPr>
          <a:xfrm>
            <a:off x="5165640" y="1268280"/>
            <a:ext cx="2862360" cy="239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3"/>
          <a:srcRect l="39325" t="0" r="2579" b="12003"/>
          <a:stretch/>
        </p:blipFill>
        <p:spPr>
          <a:xfrm>
            <a:off x="395280" y="4444920"/>
            <a:ext cx="3024360" cy="241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"/>
          <p:cNvPicPr/>
          <p:nvPr/>
        </p:nvPicPr>
        <p:blipFill>
          <a:blip r:embed="rId4"/>
          <a:srcRect l="37485" t="0" r="2731" b="13391"/>
          <a:stretch/>
        </p:blipFill>
        <p:spPr>
          <a:xfrm>
            <a:off x="5148360" y="4403880"/>
            <a:ext cx="3022560" cy="245412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5"/>
          <p:cNvGraphicFramePr/>
          <p:nvPr/>
        </p:nvGraphicFramePr>
        <p:xfrm>
          <a:off x="250920" y="5445000"/>
          <a:ext cx="330840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45000"/>
                    <a:ext cx="33084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Прямоугольник 20"/>
          <p:cNvSpPr/>
          <p:nvPr/>
        </p:nvSpPr>
        <p:spPr>
          <a:xfrm>
            <a:off x="0" y="472428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ормула визначення загальносистемних втрат потужності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16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2340000" y="3568680"/>
            <a:ext cx="70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збільшеному навантаженні, з урахуванням квазі-опорів трансформаторних віток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324000" y="765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естова схема ІЕЕЕ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0"/>
          <p:cNvSpPr/>
          <p:nvPr/>
        </p:nvSpPr>
        <p:spPr>
          <a:xfrm>
            <a:off x="2590920" y="7603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малих  навантаження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-382680" y="0"/>
            <a:ext cx="8987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тапи опти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зації режиму ЕЕС з врахуванням вектора керувальних вплив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схеми ІЕ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3"/>
          <a:srcRect l="34937" t="17101" r="34885" b="11973"/>
          <a:stretch/>
        </p:blipFill>
        <p:spPr>
          <a:xfrm>
            <a:off x="108000" y="1052640"/>
            <a:ext cx="2260440" cy="2958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7"/>
          <p:cNvSpPr/>
          <p:nvPr/>
        </p:nvSpPr>
        <p:spPr>
          <a:xfrm>
            <a:off x="0" y="173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18"/>
          <p:cNvGraphicFramePr/>
          <p:nvPr/>
        </p:nvGraphicFramePr>
        <p:xfrm>
          <a:off x="3564000" y="1141560"/>
          <a:ext cx="4610160" cy="25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1141560"/>
                    <a:ext cx="461016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9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20"/>
          <p:cNvGraphicFramePr/>
          <p:nvPr/>
        </p:nvGraphicFramePr>
        <p:xfrm>
          <a:off x="4319640" y="4221000"/>
          <a:ext cx="4824360" cy="246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9640" y="4221000"/>
                    <a:ext cx="48243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Номер слайда 5"/>
          <p:cNvSpPr/>
          <p:nvPr/>
        </p:nvSpPr>
        <p:spPr>
          <a:xfrm>
            <a:off x="8317080" y="0"/>
            <a:ext cx="82692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54560" y="63086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32130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0" y="57240"/>
            <a:ext cx="8388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тапи оптим</a:t>
            </a:r>
            <a:r>
              <a:rPr b="0" lang="uk-UA" sz="1800" spc="-1" strike="noStrike">
                <a:solidFill>
                  <a:srgbClr val="000000"/>
                </a:solidFill>
                <a:latin typeface="Arial Unicode MS"/>
              </a:rPr>
              <a:t>ізації режиму ЕЕС з врахуванням вектора керувальних вплив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Unicode MS"/>
              </a:rPr>
              <a:t>для фрагмента схеми ПЗ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250920" y="69228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рагмент розрахункової схеми ПЗЕ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20"/>
          <p:cNvSpPr/>
          <p:nvPr/>
        </p:nvSpPr>
        <p:spPr>
          <a:xfrm>
            <a:off x="216000" y="356868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малих  навантаження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0"/>
          <p:cNvSpPr/>
          <p:nvPr/>
        </p:nvSpPr>
        <p:spPr>
          <a:xfrm>
            <a:off x="4500720" y="1989000"/>
            <a:ext cx="43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Характеристики силових трансформаторів при збільшеному навантаженні, з урахуванням квазі-опорів трансформаторних віток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0"/>
          <p:cNvSpPr/>
          <p:nvPr/>
        </p:nvSpPr>
        <p:spPr>
          <a:xfrm>
            <a:off x="5183280" y="692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міна опору віток які мають СТ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15"/>
          <p:cNvGraphicFramePr/>
          <p:nvPr/>
        </p:nvGraphicFramePr>
        <p:xfrm>
          <a:off x="0" y="981000"/>
          <a:ext cx="428472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2847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16" descr=""/>
          <p:cNvPicPr/>
          <p:nvPr/>
        </p:nvPicPr>
        <p:blipFill>
          <a:blip r:embed="rId3"/>
          <a:srcRect l="24661" t="53041" r="20895" b="28022"/>
          <a:stretch/>
        </p:blipFill>
        <p:spPr>
          <a:xfrm>
            <a:off x="4932360" y="1125360"/>
            <a:ext cx="3554280" cy="698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7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8"/>
          <p:cNvGraphicFramePr/>
          <p:nvPr/>
        </p:nvGraphicFramePr>
        <p:xfrm>
          <a:off x="179280" y="4254480"/>
          <a:ext cx="4537080" cy="260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254480"/>
                    <a:ext cx="45370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9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20"/>
          <p:cNvGraphicFramePr/>
          <p:nvPr/>
        </p:nvGraphicFramePr>
        <p:xfrm>
          <a:off x="4716360" y="3068640"/>
          <a:ext cx="4427640" cy="34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068640"/>
                    <a:ext cx="442764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Номер слайда 5"/>
          <p:cNvSpPr/>
          <p:nvPr/>
        </p:nvSpPr>
        <p:spPr>
          <a:xfrm>
            <a:off x="8388360" y="0"/>
            <a:ext cx="755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3086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601992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8101080" y="0"/>
            <a:ext cx="104292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тап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птимізації режиму ЕЕС з врахуванням вектора керуваль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пливів для фрагмента схеми ПЗ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-1044720" y="54936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блиця втрат потужностей у фрагменті схеми ПЗ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45" descr=""/>
          <p:cNvPicPr/>
          <p:nvPr/>
        </p:nvPicPr>
        <p:blipFill>
          <a:blip r:embed="rId1"/>
          <a:srcRect l="21585" t="24610" r="21413" b="15342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324000" y="0"/>
            <a:ext cx="838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но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763560"/>
            <a:ext cx="91440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зультатом досліджень доведено, що з допомогою використання математичного апарату нейро-нечіткої моделі можна прогнозувати поточний коефіцієнт залишкового ресурсу СТ, в умовах неповноти початкових даних, про діагностичні параметри, що актуально для вирішення задач оперативного керування режим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прикладі схеми ІЕЕЕ доведено, що врахування стану СТ дозволяє визначити оптимальні керувальні впливи на РПН та процес керування нормальними режимами Е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рахування стану СТ шляхом введення в вітки схеми ЕЕС квазі-опорів дозволяє визначити параметри режиму з урахуванням стану СТ, використовуючи відомі програмні засоби, наприклад ГРАФСКАН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лідження проведених розрахунків довели, що керувальні впливи, для режиму, доцільно здійснювати трансформатором 840_830 (Козятин (330)). Завдяки оптимізації режиму, очікується що втрати зменшаться на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8,964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∙51,09 (М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ліджено охорону праці та цивільний захист під час виконання робіт технічного обслуговування, та експлуатації силового трансформ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зультати техніко – економічних розрахунків свідчать про те, що термін окупності позапланової заміни РПН силового трансформатора, складає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оків, інвестиційні витрати складуть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5,5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лн. гр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8388360" y="0"/>
            <a:ext cx="755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42560" y="1412640"/>
            <a:ext cx="7272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324000" y="40464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Unicode MS"/>
              </a:rPr>
              <a:t>Мета та задачі робо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Содержимое 6"/>
          <p:cNvSpPr/>
          <p:nvPr/>
        </p:nvSpPr>
        <p:spPr>
          <a:xfrm>
            <a:off x="395280" y="907920"/>
            <a:ext cx="838188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ізація режимів ЕЕС, з урахуванням стану трансформаторів з РП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і робо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слідити особливості конструкцій, експлуатації та пошкоджуваності силових трансформаторі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ахувати коефіцієнт загального залишкового ресурсу трансформаторів з РП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слідити метод керувальних впливів на РПН СТ з урахуванням стану РП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ити оптимальні коефіцієнти трансформації трансформаторів з РПН для фрагмента схеми ПЗЕ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глянути заходи забезпечення охорони праці та цивільного захист у надзвичайних ситуаціях, під час експлуатації С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ахувати економічні показники використання запропонованого методу визначення оптимальних коефіцієнтів трансформації трансформаторів з РП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CD751F78-164E-42EE-BC98-0072927D5899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264960"/>
            <a:ext cx="8381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уальність те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250920" y="981000"/>
            <a:ext cx="360036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раховуючи те, що багато високовольтного обладнання ЕЕС, пропрацювало понад 25 років (що значно перевищує їх паспортний ресурс), та зростаючу інтенсивність відмов нового обладнання, необхідною є розробка та впровадження методів та засобів керування режимами з урахуванням стану трансформаторів з РПН, як одного з ефективних засобів керування режим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му, виправданим є використання оперативного, диспетчерського керування нормальними режимами ЕЕС з урахуванням технічного стану високовольтного обладна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фото14"/>
          <p:cNvPicPr/>
          <p:nvPr/>
        </p:nvPicPr>
        <p:blipFill>
          <a:blip r:embed="rId1"/>
          <a:stretch/>
        </p:blipFill>
        <p:spPr>
          <a:xfrm>
            <a:off x="3995640" y="1413000"/>
            <a:ext cx="273708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6948360" y="836640"/>
            <a:ext cx="190836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924360" y="3411360"/>
            <a:ext cx="52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поділ силових трансформаторів по роках експлуатаці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16"/>
          <p:cNvGraphicFramePr/>
          <p:nvPr/>
        </p:nvGraphicFramePr>
        <p:xfrm>
          <a:off x="3780000" y="3789360"/>
          <a:ext cx="5364000" cy="292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789360"/>
                    <a:ext cx="53640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DCC5D66-55D8-4AE4-BE50-D90FFE4F754C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304920" y="18900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и досліджень пошкоджуваності 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новними пошкодженнями за 2008 – 2014 р силових трансформаторів є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1484280"/>
          <a:ext cx="7993080" cy="5273640"/>
        </p:xfrm>
        <a:graphic>
          <a:graphicData uri="http://schemas.openxmlformats.org/drawingml/2006/table">
            <a:tbl>
              <a:tblPr/>
              <a:tblGrid>
                <a:gridCol w="2881080"/>
                <a:gridCol w="2854440"/>
                <a:gridCol w="1920960"/>
                <a:gridCol w="3366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код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ітопрові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721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овольтні вв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0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0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 трансформа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6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ізоля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1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ма охолодж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0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A50B632-EC6A-4AD4-A067-80155F0522D0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304920" y="33336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агностичні парамет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0" y="9079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аналізу діагностичних параметр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15583" t="26393" r="53287" b="17096"/>
          <a:stretch/>
        </p:blipFill>
        <p:spPr>
          <a:xfrm>
            <a:off x="0" y="1341360"/>
            <a:ext cx="4822920" cy="551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rcRect l="57653" t="24685" r="14122" b="20000"/>
          <a:stretch/>
        </p:blipFill>
        <p:spPr>
          <a:xfrm>
            <a:off x="4643280" y="1341360"/>
            <a:ext cx="4105440" cy="52563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7317D98-5B92-4E6A-84D6-9768402B0374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304920" y="333360"/>
            <a:ext cx="8534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ення моделі коефіцієнта залишкового ресурсу силового трансформа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50"/>
          <p:cNvGraphicFramePr/>
          <p:nvPr/>
        </p:nvGraphicFramePr>
        <p:xfrm>
          <a:off x="250920" y="1557360"/>
          <a:ext cx="384156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84156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Прямоугольник 10"/>
          <p:cNvSpPr/>
          <p:nvPr/>
        </p:nvSpPr>
        <p:spPr>
          <a:xfrm>
            <a:off x="-181080" y="1052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коефіцієнта залишкового ресурсу обладнанн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4211640" y="2276640"/>
            <a:ext cx="47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ефіцієнт загального залишкового ресурсу обладнанн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13"/>
          <p:cNvGraphicFramePr/>
          <p:nvPr/>
        </p:nvGraphicFramePr>
        <p:xfrm>
          <a:off x="4427640" y="1268280"/>
          <a:ext cx="42256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268280"/>
                    <a:ext cx="42256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4"/>
          <p:cNvSpPr/>
          <p:nvPr/>
        </p:nvSpPr>
        <p:spPr>
          <a:xfrm>
            <a:off x="10800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15"/>
          <p:cNvGraphicFramePr/>
          <p:nvPr/>
        </p:nvGraphicFramePr>
        <p:xfrm>
          <a:off x="320760" y="4941720"/>
          <a:ext cx="8823240" cy="11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760" y="4941720"/>
                    <a:ext cx="88232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Прямоугольник 18"/>
          <p:cNvSpPr/>
          <p:nvPr/>
        </p:nvSpPr>
        <p:spPr>
          <a:xfrm>
            <a:off x="1944720" y="6087960"/>
            <a:ext cx="53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іцієнт загального залишкового ресурсу 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56"/>
              <p:cNvSpPr txBox="1"/>
              <p:nvPr/>
            </p:nvSpPr>
            <p:spPr>
              <a:xfrm>
                <a:off x="6084720" y="3645000"/>
                <a:ext cx="10479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ес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54"/>
              <p:cNvSpPr txBox="1"/>
              <p:nvPr/>
            </p:nvSpPr>
            <p:spPr>
              <a:xfrm>
                <a:off x="4716360" y="2924280"/>
                <a:ext cx="1828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ес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рес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2" name="Object 152"/>
          <p:cNvGraphicFramePr/>
          <p:nvPr/>
        </p:nvGraphicFramePr>
        <p:xfrm>
          <a:off x="7020000" y="2852640"/>
          <a:ext cx="136836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1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2852640"/>
                    <a:ext cx="13683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Прямоугольник 17"/>
          <p:cNvSpPr/>
          <p:nvPr/>
        </p:nvSpPr>
        <p:spPr>
          <a:xfrm>
            <a:off x="4500720" y="41720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складових коефіцієнтів схем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CA5B405-D1AE-44E8-B22D-3C9D1E61BE82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324000" y="0"/>
            <a:ext cx="8534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Етапи розвитку нейро-нечіткого моделю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20"/>
          <p:cNvSpPr/>
          <p:nvPr/>
        </p:nvSpPr>
        <p:spPr>
          <a:xfrm>
            <a:off x="4392720" y="357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ня параметрів функції належності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5150880" y="76500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ANFIS-мережі Т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-396720" y="836640"/>
            <a:ext cx="47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таблиці навчальних даних дл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нечіткої модел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544760"/>
          <a:ext cx="3600720" cy="4160880"/>
        </p:xfrm>
        <a:graphic>
          <a:graphicData uri="http://schemas.openxmlformats.org/drawingml/2006/table">
            <a:tbl>
              <a:tblPr/>
              <a:tblGrid>
                <a:gridCol w="411120"/>
                <a:gridCol w="443160"/>
                <a:gridCol w="409320"/>
                <a:gridCol w="490680"/>
                <a:gridCol w="411120"/>
                <a:gridCol w="411120"/>
                <a:gridCol w="1024200"/>
              </a:tblGrid>
              <a:tr h="365400">
                <a:tc gridSpan="6"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ностичні параметр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залишкового ресурсу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2</a:t>
                      </a:r>
                      <a:r>
                        <a:rPr b="0" i="1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00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39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4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47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82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47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77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3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00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41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63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92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181" descr=""/>
          <p:cNvPicPr/>
          <p:nvPr/>
        </p:nvPicPr>
        <p:blipFill>
          <a:blip r:embed="rId1"/>
          <a:srcRect l="31730" t="12406" r="25870" b="26964"/>
          <a:stretch/>
        </p:blipFill>
        <p:spPr>
          <a:xfrm>
            <a:off x="4645080" y="1052640"/>
            <a:ext cx="4103640" cy="250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2" descr=""/>
          <p:cNvPicPr/>
          <p:nvPr/>
        </p:nvPicPr>
        <p:blipFill>
          <a:blip r:embed="rId2"/>
          <a:srcRect l="28607" t="0" r="28900" b="29459"/>
          <a:stretch/>
        </p:blipFill>
        <p:spPr>
          <a:xfrm>
            <a:off x="4356000" y="3914640"/>
            <a:ext cx="446400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5"/>
          <p:cNvSpPr/>
          <p:nvPr/>
        </p:nvSpPr>
        <p:spPr>
          <a:xfrm>
            <a:off x="8604360" y="0"/>
            <a:ext cx="539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19DE24A0-08CB-4478-9416-F551E12EE2ED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47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ї належ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блиця функції належності та похибок навч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81" descr=""/>
          <p:cNvPicPr/>
          <p:nvPr/>
        </p:nvPicPr>
        <p:blipFill>
          <a:blip r:embed="rId1"/>
          <a:srcRect l="12727" t="24005" r="51308" b="18295"/>
          <a:stretch/>
        </p:blipFill>
        <p:spPr>
          <a:xfrm>
            <a:off x="216000" y="934920"/>
            <a:ext cx="8893080" cy="595008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5"/>
          <p:cNvSpPr/>
          <p:nvPr/>
        </p:nvSpPr>
        <p:spPr>
          <a:xfrm>
            <a:off x="8172360" y="0"/>
            <a:ext cx="97164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9ED7C56-49C0-4D6C-B5AA-5C9389ED5A22}" type="slidenum">
              <a:rPr b="1" lang="ru-RU" sz="3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8244000" y="0"/>
            <a:ext cx="900000" cy="549360"/>
          </a:xfrm>
          <a:prstGeom prst="rect">
            <a:avLst/>
          </a:prstGeom>
          <a:gradFill rotWithShape="0">
            <a:gsLst>
              <a:gs pos="0">
                <a:srgbClr val="0430ec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55640" y="765000"/>
            <a:ext cx="130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28760" y="-3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ї належ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057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вження таблиці функції належності та похибок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53687" t="31491" r="10347" b="22247"/>
          <a:stretch/>
        </p:blipFill>
        <p:spPr>
          <a:xfrm>
            <a:off x="0" y="76500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4T13:47:21Z</dcterms:created>
  <dc:creator>Макс</dc:creator>
  <dc:description/>
  <dc:language>en-US</dc:language>
  <cp:lastModifiedBy>Макс</cp:lastModifiedBy>
  <dcterms:modified xsi:type="dcterms:W3CDTF">2015-06-17T13:19:01Z</dcterms:modified>
  <cp:revision>15</cp:revision>
  <dc:subject/>
  <dc:title>Слайд 1</dc:title>
</cp:coreProperties>
</file>