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3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8F4-4AB0-46F0-9979-0802180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83C-766B-422E-8B02-563E755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234-6666-4DBA-8E10-364EFB5E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858-71EB-4428-8E5C-2CD6CF4E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DC3-42CE-4440-BFA7-32DA8237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E91-410B-43A5-A514-077E07B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BE9-EC06-4518-B90C-B755F8EE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F34-E416-4395-9CE3-A905FCE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2A2-3766-4EF8-8469-4304A00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686-4AE7-40FD-9242-A28FDC9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7A4-C8EF-4577-8498-5AA4958E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CDF-B6A3-4710-BAB5-65C2C0E4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3BD-5044-43D7-8D56-1F242AA80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9200" y="2563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тимізація режимів ЕЕС з урахуванням залишкового ресурсу трансформаторів з РП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58680" y="90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 ро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7280" y="4003560"/>
            <a:ext cx="874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роботи:  к.т.н., доцент каф. ЕСС Писклярова А. 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в: ст. гр. ЕС – 14сп: Грищук М. 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2400" y="624204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ТУ Вінниця 20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-36360" y="115920"/>
            <a:ext cx="8534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Графіки залежносте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uk-UA" sz="2200" spc="-1" strike="noStrike" baseline="-25000">
                <a:solidFill>
                  <a:srgbClr val="000000"/>
                </a:solidFill>
                <a:latin typeface="Times New Roman"/>
              </a:rPr>
              <a:t>рес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ід діагностичних параметрів модел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4788000" y="3789360"/>
            <a:ext cx="457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 вібр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0"/>
          <p:cNvSpPr/>
          <p:nvPr/>
        </p:nvSpPr>
        <p:spPr>
          <a:xfrm>
            <a:off x="250920" y="379404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із.в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108000" y="65736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4822920" y="692280"/>
            <a:ext cx="457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tg(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)в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rcRect l="28139" t="0" r="28900" b="30285"/>
          <a:stretch/>
        </p:blipFill>
        <p:spPr>
          <a:xfrm>
            <a:off x="539640" y="1268280"/>
            <a:ext cx="2808360" cy="240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rcRect l="39317" t="0" r="2573" b="13386"/>
          <a:stretch/>
        </p:blipFill>
        <p:spPr>
          <a:xfrm>
            <a:off x="5165640" y="1268280"/>
            <a:ext cx="2862360" cy="239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3"/>
          <a:srcRect l="39325" t="0" r="2579" b="12003"/>
          <a:stretch/>
        </p:blipFill>
        <p:spPr>
          <a:xfrm>
            <a:off x="395280" y="4444920"/>
            <a:ext cx="3024360" cy="24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4"/>
          <a:srcRect l="37485" t="0" r="2731" b="13391"/>
          <a:stretch/>
        </p:blipFill>
        <p:spPr>
          <a:xfrm>
            <a:off x="5148360" y="4403880"/>
            <a:ext cx="3022560" cy="245412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5"/>
          <p:cNvGraphicFramePr/>
          <p:nvPr/>
        </p:nvGraphicFramePr>
        <p:xfrm>
          <a:off x="250920" y="5445000"/>
          <a:ext cx="330840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45000"/>
                    <a:ext cx="3308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Прямоугольник 20"/>
          <p:cNvSpPr/>
          <p:nvPr/>
        </p:nvSpPr>
        <p:spPr>
          <a:xfrm>
            <a:off x="0" y="472428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ормула визначення загальносистемних втрат потужності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2340000" y="3568680"/>
            <a:ext cx="70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збільшеному навантаженні, з урахуванням квазі-опорів трансформаторних віток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24000" y="765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естова схема ІЕЕЕ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2590920" y="7603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малих  навантаження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-382680" y="0"/>
            <a:ext cx="898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тапи опти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зації режиму ЕЕС з врахуванням вектора керувальних вплив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схеми ІЕ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3"/>
          <a:srcRect l="34937" t="17101" r="34885" b="11973"/>
          <a:stretch/>
        </p:blipFill>
        <p:spPr>
          <a:xfrm>
            <a:off x="108000" y="1052640"/>
            <a:ext cx="2260440" cy="2958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173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8"/>
          <p:cNvGraphicFramePr/>
          <p:nvPr/>
        </p:nvGraphicFramePr>
        <p:xfrm>
          <a:off x="3564000" y="1141560"/>
          <a:ext cx="4610160" cy="25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141560"/>
                    <a:ext cx="46101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9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20"/>
          <p:cNvGraphicFramePr/>
          <p:nvPr/>
        </p:nvGraphicFramePr>
        <p:xfrm>
          <a:off x="4319640" y="4221000"/>
          <a:ext cx="4824360" cy="246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9640" y="4221000"/>
                    <a:ext cx="48243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Номер слайда 5"/>
          <p:cNvSpPr/>
          <p:nvPr/>
        </p:nvSpPr>
        <p:spPr>
          <a:xfrm>
            <a:off x="8317080" y="0"/>
            <a:ext cx="82692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54560" y="63086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2130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0" y="57240"/>
            <a:ext cx="8388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тапи оптим</a:t>
            </a:r>
            <a:r>
              <a:rPr b="0" lang="uk-UA" sz="1800" spc="-1" strike="noStrike">
                <a:solidFill>
                  <a:srgbClr val="000000"/>
                </a:solidFill>
                <a:latin typeface="Arial Unicode MS"/>
              </a:rPr>
              <a:t>ізації режиму ЕЕС з врахуванням вектора керувальних вплив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Unicode MS"/>
              </a:rPr>
              <a:t>для фрагмента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250920" y="69228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рагмент розрахункової схеми ПЗЕ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216000" y="356868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малих  навантаження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0"/>
          <p:cNvSpPr/>
          <p:nvPr/>
        </p:nvSpPr>
        <p:spPr>
          <a:xfrm>
            <a:off x="4500720" y="1989000"/>
            <a:ext cx="43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збільшеному навантаженні, з урахуванням квазі-опорів трансформаторних віток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0"/>
          <p:cNvSpPr/>
          <p:nvPr/>
        </p:nvSpPr>
        <p:spPr>
          <a:xfrm>
            <a:off x="5183280" y="692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міна опору віток які мають СТ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5"/>
          <p:cNvGraphicFramePr/>
          <p:nvPr/>
        </p:nvGraphicFramePr>
        <p:xfrm>
          <a:off x="0" y="981000"/>
          <a:ext cx="428472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2847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16" descr=""/>
          <p:cNvPicPr/>
          <p:nvPr/>
        </p:nvPicPr>
        <p:blipFill>
          <a:blip r:embed="rId3"/>
          <a:srcRect l="24661" t="53041" r="20895" b="28022"/>
          <a:stretch/>
        </p:blipFill>
        <p:spPr>
          <a:xfrm>
            <a:off x="4932360" y="1125360"/>
            <a:ext cx="3554280" cy="698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7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8"/>
          <p:cNvGraphicFramePr/>
          <p:nvPr/>
        </p:nvGraphicFramePr>
        <p:xfrm>
          <a:off x="179280" y="4254480"/>
          <a:ext cx="4537080" cy="26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254480"/>
                    <a:ext cx="45370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9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20"/>
          <p:cNvGraphicFramePr/>
          <p:nvPr/>
        </p:nvGraphicFramePr>
        <p:xfrm>
          <a:off x="4716360" y="3068640"/>
          <a:ext cx="4427640" cy="34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068640"/>
                    <a:ext cx="44276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Номер слайда 5"/>
          <p:cNvSpPr/>
          <p:nvPr/>
        </p:nvSpPr>
        <p:spPr>
          <a:xfrm>
            <a:off x="8388360" y="0"/>
            <a:ext cx="755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3086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601992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8101080" y="0"/>
            <a:ext cx="104292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тап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птимізації режиму ЕЕС з врахуванням вектора керуваль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пливів для фрагмента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-1044720" y="54936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блиця втрат потужностей у фрагменті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45" descr=""/>
          <p:cNvPicPr/>
          <p:nvPr/>
        </p:nvPicPr>
        <p:blipFill>
          <a:blip r:embed="rId1"/>
          <a:srcRect l="21585" t="24610" r="21413" b="15342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324000" y="0"/>
            <a:ext cx="83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763560"/>
            <a:ext cx="91440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зультатом досліджень доведено, що з допомогою використання математичного апарату нейро-нечіткої моделі можна прогнозувати поточний коефіцієнт залишкового ресурсу СТ, в умовах неповноти початкових даних, про діагностичні параметри, що актуально для вирішення задач оперативного керування режим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прикладі схеми ІЕЕЕ доведено, що врахування стану СТ дозволяє визначити оптимальні керувальні впливи на РПН та процес керування нормальними режимами Е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рахування стану СТ шляхом введення в вітки схеми ЕЕС квазі-опорів дозволяє визначити параметри режиму з урахуванням стану СТ, використовуючи відомі програмні засоби, наприклад ГРАФСКАН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лідження проведених розрахунків довели, що керувальні впливи, для режиму, доцільно здійснювати трансформатором 840_830 (Козятин (330)). Завдяки оптимізації режиму, очікується що втрати зменшаться на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8,964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∙51,09 (М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ліджено охорону праці та цивільний захист під час виконання робіт технічного обслуговування, та експлуатації силового трансформ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зультати техніко – економічних розрахунків свідчать про те, що термін окупності позапланової заміни РПН силового трансформатора, складає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оків, інвестиційні витрати складуть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,5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лн. гр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8388360" y="0"/>
            <a:ext cx="755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42560" y="1412640"/>
            <a:ext cx="7272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324000" y="40464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Unicode MS"/>
              </a:rPr>
              <a:t>Мета та задачі робо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одержимое 6"/>
          <p:cNvSpPr/>
          <p:nvPr/>
        </p:nvSpPr>
        <p:spPr>
          <a:xfrm>
            <a:off x="395280" y="907920"/>
            <a:ext cx="838188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ізація режимів ЕЕС, з урахуванням стану трансформаторів з РП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і робо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слідити особливості конструкцій, експлуатації та пошкоджуваності силових трансформаторі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ахувати коефіцієнт загального залишкового ресурсу трансформаторів з РП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слідити метод керувальних впливів на РПН СТ з урахуванням стану РП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ити оптимальні коефіцієнти трансформації трансформаторів з РПН для фрагмента схеми ПЗЕ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глянути заходи забезпечення охорони праці та цивільного захист у надзвичайних ситуаціях, під час експлуатації С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ахувати економічні показники використання запропонованого методу визначення оптимальних коефіцієнтів трансформації трансформаторів з РП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70FB531-FFB6-4F9D-8F5E-16984A247C34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264960"/>
            <a:ext cx="8381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уальність те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50920" y="981000"/>
            <a:ext cx="360036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раховуючи те, що багато високовольтного обладнання ЕЕС, пропрацювало понад 25 років (що значно перевищує їх паспортний ресурс), та зростаючу інтенсивність відмов нового обладнання, необхідною є розробка та впровадження методів та засобів керування режимами з урахуванням стану трансформаторів з РПН, як одного з ефективних засобів керування режим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му, виправданим є використання оперативного, диспетчерського керування нормальними режимами ЕЕС з урахуванням технічного стану високовольтного обладна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фото14"/>
          <p:cNvPicPr/>
          <p:nvPr/>
        </p:nvPicPr>
        <p:blipFill>
          <a:blip r:embed="rId1"/>
          <a:stretch/>
        </p:blipFill>
        <p:spPr>
          <a:xfrm>
            <a:off x="3995640" y="1413000"/>
            <a:ext cx="27370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6948360" y="836640"/>
            <a:ext cx="190836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924360" y="3411360"/>
            <a:ext cx="52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поділ силових трансформаторів по роках експлуатаці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6"/>
          <p:cNvGraphicFramePr/>
          <p:nvPr/>
        </p:nvGraphicFramePr>
        <p:xfrm>
          <a:off x="3780000" y="3789360"/>
          <a:ext cx="5364000" cy="292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789360"/>
                    <a:ext cx="53640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E271335-7993-4EC8-AD15-11E2103F4847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304920" y="1890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и досліджень пошкоджуваності 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новними пошкодженнями за 2008 – 2014 р силових трансформаторів є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1484280"/>
          <a:ext cx="7993080" cy="5273640"/>
        </p:xfrm>
        <a:graphic>
          <a:graphicData uri="http://schemas.openxmlformats.org/drawingml/2006/table">
            <a:tbl>
              <a:tblPr/>
              <a:tblGrid>
                <a:gridCol w="2881080"/>
                <a:gridCol w="2854440"/>
                <a:gridCol w="1920960"/>
                <a:gridCol w="3366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код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ітопрові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21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овольтні вв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0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 трансформа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6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ізоля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1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ма охолодж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0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D6A5855-01F2-4A28-A7E7-2F29CF9DE819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304920" y="33336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агностичні параме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0" y="9079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аналізу діагностичних параметр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15583" t="26393" r="53287" b="17096"/>
          <a:stretch/>
        </p:blipFill>
        <p:spPr>
          <a:xfrm>
            <a:off x="0" y="1341360"/>
            <a:ext cx="4822920" cy="551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rcRect l="57653" t="24685" r="14122" b="20000"/>
          <a:stretch/>
        </p:blipFill>
        <p:spPr>
          <a:xfrm>
            <a:off x="4643280" y="1341360"/>
            <a:ext cx="410544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0976AE0F-0DBF-414E-A65E-0BCA50CEA91B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304920" y="333360"/>
            <a:ext cx="8534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ення моделі коефіцієнта залишкового ресурсу силового трансформа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50"/>
          <p:cNvGraphicFramePr/>
          <p:nvPr/>
        </p:nvGraphicFramePr>
        <p:xfrm>
          <a:off x="250920" y="1557360"/>
          <a:ext cx="384156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84156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Прямоугольник 10"/>
          <p:cNvSpPr/>
          <p:nvPr/>
        </p:nvSpPr>
        <p:spPr>
          <a:xfrm>
            <a:off x="-181080" y="1052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коефіцієнта залишкового ресурсу обладнан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211640" y="2276640"/>
            <a:ext cx="47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ефіцієнт загального залишкового ресурсу обладнанн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4427640" y="1268280"/>
          <a:ext cx="4225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268280"/>
                    <a:ext cx="4225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4"/>
          <p:cNvSpPr/>
          <p:nvPr/>
        </p:nvSpPr>
        <p:spPr>
          <a:xfrm>
            <a:off x="10800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15"/>
          <p:cNvGraphicFramePr/>
          <p:nvPr/>
        </p:nvGraphicFramePr>
        <p:xfrm>
          <a:off x="320760" y="4941720"/>
          <a:ext cx="8823240" cy="11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760" y="4941720"/>
                    <a:ext cx="88232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Прямоугольник 18"/>
          <p:cNvSpPr/>
          <p:nvPr/>
        </p:nvSpPr>
        <p:spPr>
          <a:xfrm>
            <a:off x="1944720" y="6087960"/>
            <a:ext cx="53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іцієнт загального залишкового ресурсу 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56"/>
              <p:cNvSpPr txBox="1"/>
              <p:nvPr/>
            </p:nvSpPr>
            <p:spPr>
              <a:xfrm>
                <a:off x="6084720" y="3645000"/>
                <a:ext cx="1047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с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54"/>
              <p:cNvSpPr txBox="1"/>
              <p:nvPr/>
            </p:nvSpPr>
            <p:spPr>
              <a:xfrm>
                <a:off x="4716360" y="2924280"/>
                <a:ext cx="182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с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рес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2" name="Object 152"/>
          <p:cNvGraphicFramePr/>
          <p:nvPr/>
        </p:nvGraphicFramePr>
        <p:xfrm>
          <a:off x="7020000" y="2852640"/>
          <a:ext cx="136836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1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2852640"/>
                    <a:ext cx="13683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Прямоугольник 17"/>
          <p:cNvSpPr/>
          <p:nvPr/>
        </p:nvSpPr>
        <p:spPr>
          <a:xfrm>
            <a:off x="4500720" y="41720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складових коефіцієнтів схем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D7B14FA6-07EE-4F9B-9923-C6ED762697B7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24000" y="0"/>
            <a:ext cx="8534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Етапи розвитку нейро-нечіткого моделю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20"/>
          <p:cNvSpPr/>
          <p:nvPr/>
        </p:nvSpPr>
        <p:spPr>
          <a:xfrm>
            <a:off x="4392720" y="357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ня параметрів функції належност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5150880" y="76500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ANFIS-мережі Т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-396720" y="836640"/>
            <a:ext cx="47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таблиці навчальних даних д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нечіткої модел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544760"/>
          <a:ext cx="3600720" cy="4160880"/>
        </p:xfrm>
        <a:graphic>
          <a:graphicData uri="http://schemas.openxmlformats.org/drawingml/2006/table">
            <a:tbl>
              <a:tblPr/>
              <a:tblGrid>
                <a:gridCol w="411120"/>
                <a:gridCol w="443160"/>
                <a:gridCol w="409320"/>
                <a:gridCol w="490680"/>
                <a:gridCol w="411120"/>
                <a:gridCol w="411120"/>
                <a:gridCol w="1024200"/>
              </a:tblGrid>
              <a:tr h="365400">
                <a:tc gridSpan="6"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ностичні параметр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лишкового ресурсу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2</a:t>
                      </a:r>
                      <a:r>
                        <a:rPr b="0" i="1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00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39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4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47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8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4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7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00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41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63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92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181" descr=""/>
          <p:cNvPicPr/>
          <p:nvPr/>
        </p:nvPicPr>
        <p:blipFill>
          <a:blip r:embed="rId1"/>
          <a:srcRect l="31730" t="12406" r="25870" b="26964"/>
          <a:stretch/>
        </p:blipFill>
        <p:spPr>
          <a:xfrm>
            <a:off x="4645080" y="1052640"/>
            <a:ext cx="4103640" cy="250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2" descr=""/>
          <p:cNvPicPr/>
          <p:nvPr/>
        </p:nvPicPr>
        <p:blipFill>
          <a:blip r:embed="rId2"/>
          <a:srcRect l="28607" t="0" r="28900" b="29459"/>
          <a:stretch/>
        </p:blipFill>
        <p:spPr>
          <a:xfrm>
            <a:off x="4356000" y="3914640"/>
            <a:ext cx="446400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1C8177C-F6AF-4D2C-8D01-086CAEA87AFB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47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ї належ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блиця функції належності та похибок 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81" descr=""/>
          <p:cNvPicPr/>
          <p:nvPr/>
        </p:nvPicPr>
        <p:blipFill>
          <a:blip r:embed="rId1"/>
          <a:srcRect l="12727" t="24005" r="51308" b="18295"/>
          <a:stretch/>
        </p:blipFill>
        <p:spPr>
          <a:xfrm>
            <a:off x="216000" y="934920"/>
            <a:ext cx="8893080" cy="595008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5"/>
          <p:cNvSpPr/>
          <p:nvPr/>
        </p:nvSpPr>
        <p:spPr>
          <a:xfrm>
            <a:off x="8172360" y="0"/>
            <a:ext cx="971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4E62E90-C6DE-4350-B152-18FB64E02F3E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8244000" y="0"/>
            <a:ext cx="90000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5640" y="765000"/>
            <a:ext cx="130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28760" y="-3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ї належ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057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вження таблиці функції належності та похибок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53687" t="31491" r="10347" b="22247"/>
          <a:stretch/>
        </p:blipFill>
        <p:spPr>
          <a:xfrm>
            <a:off x="0" y="76500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4T13:47:21Z</dcterms:created>
  <dc:creator>Макс</dc:creator>
  <dc:description/>
  <dc:language>en-US</dc:language>
  <cp:lastModifiedBy>Макс</cp:lastModifiedBy>
  <dcterms:modified xsi:type="dcterms:W3CDTF">2015-06-17T13:19:01Z</dcterms:modified>
  <cp:revision>15</cp:revision>
  <dc:subject/>
  <dc:title>Слайд 1</dc:title>
</cp:coreProperties>
</file>