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B77B-5622-4102-A695-A6D60E9AB6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1559-7B61-4F21-B8B3-E9ED8FD8315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BDD-E7E0-47C6-89C2-91B69FD5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7AD-D261-4136-950F-9747A6B5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09F05-135F-4F53-B380-881B0521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116D3-96DD-401C-817B-680C909F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AAD2A-C1C1-4429-A7DE-03C93D9D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6664A-B0AB-44C7-A39E-7E6E783C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4F048-62D9-43F1-9C61-FC84B934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201B1-049A-40ED-83F5-944532E0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0FEB1-9527-4D2D-B34E-B78CCB7A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2EC90-086C-48B0-BCA9-C5E0319B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DC63A-0C6C-400A-BEE5-29AD3522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B4466-55D8-43D1-8CED-6ED80220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03E-2686-477A-A9FB-A7CCD665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EEE23-A7D7-4F19-8621-E7459FCB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C0F56-D96C-4460-B469-34E74033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BE4FD-B99D-48EB-B7E9-CB4ABE92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F0518-CC29-4C48-ACF6-BE37B664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1CD95-DCD7-4900-9BDA-C074098F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70049-0127-4962-8686-B9A55EB8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5D6D5-EA8A-4FD0-B7A6-E42801BA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16178-09AE-4492-8752-EE4C7F33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682FC-BDFE-4A83-8D15-E5D1EFA7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86AAE-4FF3-40C3-961B-E6B99EA8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44F-F21D-44AD-82A7-07DE97E8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0C009-E656-4797-8BE8-7F1CD518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9514A-ADFF-43F6-8646-D3816639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3C75A-ECFB-4656-98D7-C0A6307B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B0127-2621-43E5-BA31-88C2898F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DBE2F-2AE3-486B-A017-154A1838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92157-C9FF-4F88-B7DD-AC8C5672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C231D-DE55-4C9A-B13F-DA6DA7B7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682E6-58E7-483E-BE3C-90F76A18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1CE93-0C67-4007-A6E7-6B579D61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CEED5-C7AA-4E4A-8949-571114FB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F6BA-12D5-4779-8DFD-B71AC718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9BFA2-EBEC-4A10-9D4C-E4B6B609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44087-07B0-406C-A6B8-D7A55BE7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42EE8-2ACD-43F4-979A-9DB9272C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8DB80-E22C-495E-97C4-336D3D71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3AE96-9BF0-4CA3-A2DF-22D9210C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F5A72-3F04-47D4-9611-9C022D7D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4D390-4B43-4960-AB92-149792EA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F9D5A-5F9E-4B64-B4E7-699EDF93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BB0C7-DEBA-4518-9566-AEB4F7F8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29085-4330-4C4C-997C-75EE3CAD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B0C7-AC3B-4288-A5C9-98657269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5ABEC-6A8A-4C63-8EED-9D3719DA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697C8-9219-4898-9A1F-81794976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8A85E-C29E-4E35-AE58-C55B8DAB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8EC68-D551-4437-9768-EB8C64EB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E2319-98F8-404D-89F8-2015E857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4360-1CB9-45C3-97FE-885C6655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0BA4-411E-4664-AC04-955E36E7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1AEA-DDA0-4A78-B9C4-E626E5B7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C809-4E45-4CB2-BE30-5767C981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6CC7-E1A2-49A3-80E1-359E2D61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FFC-BDFF-40D1-96A8-EB1CFD50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A2EC-1A2C-4C44-B905-2E49B159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5CB2-C5B9-4E9E-A424-145C208D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346A-0373-4B18-920A-17DA424E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4C11-3688-4055-A2D1-B8A9F9E4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115E-C951-4079-9354-3B0B4DB5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9610-F60E-4689-A6AF-22A9AE80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AE36D-9356-421B-9BEE-989BC485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290EE-B679-42B6-ADDC-FB8238AD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77B8-8FBF-47F0-9F03-FB3A0C29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DD25E-E2FB-45FB-A192-2500E6C1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332-8FDC-46C1-AB4A-D9012722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C86A6-5A1B-4879-B2B5-81A994CF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B4BE-8A46-477E-9609-31166D20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96C23-26E6-4D57-A0E5-5CFF3E60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760E3-6E7B-4F62-AED2-145ACBA6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E311-F97E-4AA1-9E59-673DE282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E6DF8-00E3-4368-9618-67C9A382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7775-3000-481B-B123-C5C67605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0F4FC-CD05-4416-94C7-A32E3E66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AA07C-FA06-4EC5-854A-E6D6D6AE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2D01C-D4B3-44E3-98D7-65D892B8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863-19CA-4F3B-989B-137BF4F7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D89F5-2D8A-4AE2-AFEA-4F597B1A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A0E73-88E6-4B38-A1CA-CD8783B2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23E15-C96B-407A-8003-8868E226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6588C-856D-44F0-AFB6-4F617BCE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ECE20-1CD0-4482-B5E2-6AE245FF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A3C70-E39A-4C17-934B-35F02057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8B2B6-C522-4312-BE35-C8414BBF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7AC47-DDA5-4310-8933-7ADC7A86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65B7-012E-4B09-8AAC-93C0E7C5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B49AF-D279-497C-A1E1-A8AB5D25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9C5-099B-4ACE-8CE4-803853A7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50268-0714-415F-8EFF-44752CA9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39BA3-1141-4E7A-8755-FD579668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ADF0F-E13E-4EBE-BBAA-3D0A7584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99CD8-D975-485D-90FA-22FCD542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232D9-BA9B-4ACB-9979-91BFA91E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CBAEA-E872-40EC-9F7D-E86379CB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5A87A-DF4A-4110-A4AD-D5314C99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EC540-340C-46F9-9819-40438289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CC125-E5CA-4E38-A426-F8801B94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9F955-DFC7-4CFB-B5CC-992B7E04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AB2-A32D-4E55-9BC9-2334CB21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8418D-8BC1-4486-88BE-BB4CC9B0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AD34C-C0F0-4EA0-A877-06CF3F21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AF09F-E590-41BE-958B-E360A45C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FDCE7-85F9-48B6-84E4-4229579D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A8D2E-A44E-4B34-ACDC-2BFBD774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6A803-56CF-4E13-86AA-2E45164E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68A67-30ED-426A-A70E-F20A4208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55558-A7E6-4E7D-9E18-46D7DB0D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F070F-76FF-43C9-9019-DB139F4D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E7561-D86F-4C7A-8056-29B4851B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831-8A78-4BE6-BEE4-77903228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1A44C-71DC-45AF-B1F1-3390662F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2C1D3-C307-482D-92EA-6005C349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E7296-090D-4E9B-B34F-6C9C2FE1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5640C-C597-4D82-94A1-180A084B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04730-A2C9-4A87-8EC3-313923CA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3C729-4A61-4FA2-9DEA-D5A15F57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B8AFB-3A0D-4DEA-A2C0-16947D84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94A5B-613F-454E-BED0-B896B8F4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B8559-DB11-4DB8-96ED-F567F2BC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F3369-8DB9-48C7-BDB2-4D66D678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A3A-F407-46AA-9138-A5FA9867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59C27-2BC1-482D-BBB1-E4EB02D8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45494-E9BB-4AD9-9306-AB245E2E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01C00-32E9-4800-89A6-5610A120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F8029-8A2D-4899-A365-98CE89AA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10DC8-8CB4-48F4-BA42-4A6E75E1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A9D8F-EF12-48AC-AF2C-CDED6438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6D257-FD7F-4E3C-89D9-0AE75E42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37100-D16A-49B0-9D49-7E84FBCF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47D27-3593-4816-9459-1B4971FB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0E784-FBA0-4220-8D4E-2B3FB221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672-BBF0-4D46-AFB8-5C415CD8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816B1-5B98-416D-A34E-1C9DE666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8AD7B-4579-4653-B17C-5FB7A940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8ECAC-E6DC-4C25-9C33-EAE62086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00F03-0F16-4FA6-8F53-125D9605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6DA84-5E3D-4A48-8DA3-B8D9598A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4B858-CB46-47E9-8441-E93C5FE4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6A46A-16DD-43A6-97FC-0BA5FDB8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2FE34-8F96-4972-BBD0-4920C344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B4359-6186-41BA-AC9A-2A4B3F63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47406-EE20-4456-8706-9FEA0AF2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7231-A563-4947-A78C-8F50876651A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BA54-5E71-41D4-8179-534CFED2A2A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89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40D2-D70B-444B-AB5D-3E3F64077A0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102B-3313-4430-8A18-456FCC90096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FE4B-A424-421A-80B6-CC862E78460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1F83-8F0F-4A89-8B5D-18708E92716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187F-D4A3-4E3A-B836-2701E7BB030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5E07-C440-408D-8846-A016B4CFC92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49" name="Овал 12" descr=""/>
            <p:cNvPicPr/>
            <p:nvPr/>
          </p:nvPicPr>
          <p:blipFill>
            <a:blip r:embed="rId2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9446-AE0D-4BF5-8468-17E63FF4EFA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3CE8-77C4-49A1-9807-7A8C7A70A3C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C103-4C2E-47D4-8DA4-57C55674972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B3D3-5EB6-4AF8-9078-EEBEE424EB8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37" name="Овал 15" descr=""/>
            <p:cNvPicPr/>
            <p:nvPr/>
          </p:nvPicPr>
          <p:blipFill>
            <a:blip r:embed="rId2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21FB-775A-4AC4-B435-30569E35F40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E78E-28CD-40BB-A2AF-ABE74CF7A8D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A197-0FAE-4683-867F-40F1C6FF0AB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6F6F-B169-45D7-B520-79F45E628DB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D6C1-B0D8-4F6F-A708-9D4E34246F4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6772-23B4-4889-9065-F634565C11F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5BC8-ACFB-4E6F-8FF2-DA01136689B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DABB-132E-429B-B01F-56DC29F6203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ACFC-5AD6-415B-87E2-C8631DD9011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2D33-BC12-41FC-8738-DBA7B7D8F3F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9346-938B-4E14-B39B-24F84646A40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0DE4-8562-4C72-8B88-A3814D36885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28480" y="4214520"/>
            <a:ext cx="74991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: студент групи ЕС-14сп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пандін О. О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00040" y="1571400"/>
            <a:ext cx="8143920" cy="15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УВАННЯ ЕЛЕКТРИЧНОЇ МЕРЕЖІ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частин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С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ужністю 198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Вт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гатами типу СВ-595/100-30УХЛ4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7"/>
          <p:cNvSpPr/>
          <p:nvPr/>
        </p:nvSpPr>
        <p:spPr>
          <a:xfrm>
            <a:off x="1357200" y="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хема головна електричних з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єднань Г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Рисунок 4" descr=""/>
          <p:cNvPicPr/>
          <p:nvPr/>
        </p:nvPicPr>
        <p:blipFill>
          <a:blip r:embed="rId1"/>
          <a:stretch/>
        </p:blipFill>
        <p:spPr>
          <a:xfrm>
            <a:off x="446040" y="692280"/>
            <a:ext cx="83232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"/>
          <p:cNvSpPr/>
          <p:nvPr/>
        </p:nvSpPr>
        <p:spPr>
          <a:xfrm>
            <a:off x="1571760" y="21420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лан та поперечний розріз комірки ВРУ-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к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Объект 3" descr=""/>
          <p:cNvPicPr/>
          <p:nvPr/>
        </p:nvPicPr>
        <p:blipFill>
          <a:blip r:embed="rId1"/>
          <a:stretch/>
        </p:blipFill>
        <p:spPr>
          <a:xfrm>
            <a:off x="1833480" y="1447920"/>
            <a:ext cx="670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600" y="0"/>
            <a:ext cx="6280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Варіанти схем ВРУ-220 кВ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Объект 3" descr=""/>
          <p:cNvPicPr/>
          <p:nvPr/>
        </p:nvPicPr>
        <p:blipFill>
          <a:blip r:embed="rId1"/>
          <a:stretch/>
        </p:blipFill>
        <p:spPr>
          <a:xfrm>
            <a:off x="611280" y="714240"/>
            <a:ext cx="7918200" cy="56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67863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хема постійного струму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36" name="Объект 7" descr=""/>
          <p:cNvPicPr/>
          <p:nvPr/>
        </p:nvPicPr>
        <p:blipFill>
          <a:blip r:embed="rId1"/>
          <a:stretch/>
        </p:blipFill>
        <p:spPr>
          <a:xfrm>
            <a:off x="755640" y="668160"/>
            <a:ext cx="8064360" cy="57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омер слайда 3"/>
          <p:cNvSpPr/>
          <p:nvPr/>
        </p:nvSpPr>
        <p:spPr>
          <a:xfrm>
            <a:off x="8572680" y="71280"/>
            <a:ext cx="3855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2071800" y="14292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ловні схеми електричних 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єднань Г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Объект 3" descr=""/>
          <p:cNvPicPr/>
          <p:nvPr/>
        </p:nvPicPr>
        <p:blipFill>
          <a:blip r:embed="rId1"/>
          <a:stretch/>
        </p:blipFill>
        <p:spPr>
          <a:xfrm>
            <a:off x="684360" y="619200"/>
            <a:ext cx="82324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"/>
          <p:cNvSpPr/>
          <p:nvPr/>
        </p:nvSpPr>
        <p:spPr>
          <a:xfrm>
            <a:off x="71280" y="201600"/>
            <a:ext cx="85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хема релейного захисту ГТ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Объект 2" descr=""/>
          <p:cNvPicPr/>
          <p:nvPr/>
        </p:nvPicPr>
        <p:blipFill>
          <a:blip r:embed="rId1"/>
          <a:stretch/>
        </p:blipFill>
        <p:spPr>
          <a:xfrm>
            <a:off x="285840" y="692280"/>
            <a:ext cx="853416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785880" y="142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ехніко-економічні показники ст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Объект 2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4552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85720" y="2571840"/>
            <a:ext cx="299412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Дякую за уваг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2F2E-453C-40F3-BCF7-7439769B8093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9:37:45Z</dcterms:created>
  <dc:creator/>
  <dc:description/>
  <dc:language>en-US</dc:language>
  <cp:lastModifiedBy>Admin</cp:lastModifiedBy>
  <dcterms:modified xsi:type="dcterms:W3CDTF">2015-06-17T11:46:29Z</dcterms:modified>
  <cp:revision>29</cp:revision>
  <dc:subject/>
  <dc:title> Виконав: студент групи ЕСсп-12 Лупандін В. О.</dc:title>
</cp:coreProperties>
</file>