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095-2C8F-45B9-9AF7-C28E28762F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8663-4CC1-49F8-8A80-F447A5E814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133-6256-470E-8294-474DDC2B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65C-58F9-4B63-9A8B-E280C674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C56A1-EC90-4022-8632-0249E6BC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1CB80-9161-40B0-9410-CCF63F3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228EB-C7A4-4386-BF50-CCD3262F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641C3-3BAF-47C0-AB6D-D05FFF5D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636F9-5DF6-443C-B156-84933629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C4668-0C32-472B-9A2A-73A87651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68FF3-8518-43F3-BE8E-3C952924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C0A91-7238-400D-845F-10F76907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69AB0-22BC-4E6F-A88C-121F4F59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DF660-0431-41EE-BD63-30DF5BEA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ABF-5A08-4CE1-A541-3EFA2258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8CA0F-A701-4B1E-BBFC-BB9B3A6F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22F61-0793-4B00-BFF3-7AC3C614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464DD-42DB-4A3B-A258-4770D770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69EC1-0C0E-41E8-97F8-A90B5B24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EE0F6-37DD-41C5-A5A0-4F54BAB0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43D40-06E1-4202-9555-A1167F2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86D07-1317-46E4-9552-C3E1E9BB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5F997-B190-48E9-ABF4-CEE4CA9B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33F76-D969-4048-BB44-462844E5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51A16-458D-4178-9311-C93E67FA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B82-FB94-404D-9E13-CB14C29A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4DBA-09D4-4CB8-AF3C-875B33C6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267ED-6484-4924-8A2B-7AF8D520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1176F-145B-475E-AAA0-A7AA0601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2FFEF-E5E7-4D99-B22C-F85EED2A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889F3-E685-4CD2-829D-E1DFF73B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EE25C-DB4A-42FB-BD46-38A21322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3ED74-81C8-41E1-858A-D5704C15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96F33-3AA0-41C7-8824-56BFADF7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0074B-BE74-41EB-A35E-44071F2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88606-8249-42A2-8503-BC1D8BE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F30C-5C75-4C24-957E-1341184C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DF586-782E-45D0-9D3F-C61050F7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4F61F-9003-46EB-8272-87968453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719D3-954D-432E-B400-3A94BEAC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603EA-A5A4-409F-918A-1E9E39B4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D2EC4-B31C-49BD-9788-5F3C5FC8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BD989-772A-4545-8927-8C9AC4E7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9E3E8-9FD2-4B3B-91AD-DA66D1FD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FFB3C-A1EB-4191-96D6-3051DFA7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A651E-1CD0-495A-BBBB-E06B8020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2AC58-55F5-40B1-A0A4-8BD9D930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CCAB-4F01-4874-8C0D-606E8CD4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51376-8708-48E2-933C-BB9FA9D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7A926-78BC-4B86-A346-4378892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36ABF-B337-4E6D-A2E8-CCBED5A7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30A9E-9C7E-47FA-ADF7-D2AACA99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56162-143C-4404-9747-37475965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869E-220F-45A3-8897-75FF0499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3516-D724-4362-B368-8281EB3D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7D02-FD38-45D3-8D35-C666754D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B449-380A-40C0-8B30-E0C00C8C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1BC8-DE15-49E8-8272-1D1176E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47C-64FB-4D26-9DB5-640AA6A0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FB92-C1CF-48D8-84B9-D993986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2C0D-2A90-4227-BF86-A73CAAE3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9952-3D00-4372-88BC-3660998F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DE0B-C78C-4A5D-B7AB-C34A56FF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E7D-C9A1-4BE3-B937-2037FE7B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1D74-FF3B-4E5B-9285-57E8469A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652B-D3FB-4E40-9DC1-74AB90CE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EF49-9883-4504-9901-5E797668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9A7A-A737-434D-8D17-4AF220AA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5765-0104-40B0-B05C-9BD54164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2EA-DF01-49B4-B168-5E9293A5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2E461-72C4-4EDA-8D61-362798B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3548-C42A-45D2-9D17-FC09537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1712-2B59-4259-AA60-DD5CF308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8443-5DB6-4BC8-A041-48F184B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F6C6-E2EC-45C5-B529-89DD0BE7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F75F-359B-48CC-B5DC-712D61D7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89C3-68FE-48AE-B147-2F3D68B5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3000-FBD9-4170-87FE-2165F7F0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7738-EBC4-469B-B5D4-EDC130ED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2121-0049-40F1-BCE1-96A63D86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C25-FA4F-4379-BDD8-C905995E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A8BA-D347-4CC4-A5B4-2B940773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F4F0-593B-4A56-A11B-0C604818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30D3-8A57-4369-84C5-769D54E2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5FE3C-467F-4EDC-B75A-D70A76E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29FE9-1F8F-4071-94DC-20523EE4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8CD0-4260-4354-9124-6644F55F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7D6C-B471-46A3-AFE3-B51C004D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CDD91-E360-422B-9C77-BA70C5CA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0CC1-6066-4BE9-B7CA-947CDEE1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837E-0DF9-4C7C-BED2-87491852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30E-FA3B-4BAC-A59E-1F7EEBAF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94EBF-0DD3-4CAB-BFA0-CB68D8B3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13F5E-CA42-4AFE-97DE-9D5ADF50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F0BE9-F449-494D-A357-AAC5E471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C5036-AD6C-4192-817A-C0B25A89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4717-D583-42C8-9C27-97032DF9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253C-9859-4394-A891-EC87190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8719-4CE8-4D2F-A22E-A8443BB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F5DF-EB3A-44BF-B3E4-63E8D0EC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06D0-8DAC-48CC-9B3B-C4FEB459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5326D-1AA9-4CD8-8FB1-45821523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D9F-8984-4533-B61F-5D2EE656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E7B9F-F13C-4348-B7DE-31FE68A8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4EA5-0BAC-4817-B255-8D75B6ED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C0AE-BC4F-4DDF-ABAD-B8EF9D5E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50B47-D4F8-433A-9B1E-4DA53F54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7FD13-1387-4EAB-AE4C-8CA5261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08A0-68D7-40D2-A7E5-239E2AFA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F2B8-09D2-4007-9F56-579E660B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1C5E1-0A15-416E-B825-236FA2A5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E51B5-02D3-42DC-BC66-D01D06C5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F4514-2EA4-4694-A7CA-C21793C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9DC-717F-4CFB-856E-AABFC8A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2F2DE-9F1D-4A1A-B619-CF713BDE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68A3F-15C2-481D-9AE7-C44D52A1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6B6A3-568C-4993-8ECC-7C94210C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FDF04-0146-41C2-8870-CF31B7EE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A046-A8D8-440D-ADA4-BD30C818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F6003-398F-475A-A152-0E206343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1F8BF-8FAB-4488-A699-EC35870C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F9E42-634E-49BC-A5E6-B5B3DD43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2CF9-5A8F-4EEA-BA7B-7ACA8DCF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F4CD6-35BA-4067-8398-C9CE75D6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8A0-A5E5-453E-BCC1-E9AD9F5E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8F364-4A7A-4B1E-A3FE-58693BF2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FFB5B-7399-4719-BAEC-ADCFADB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7EAF-B02B-49EB-9C82-51270463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DB52-F9B0-47A4-835A-EF4915B9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C96BC-EB6F-40D5-8F4A-1650E9A1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2698E-06E8-4823-8057-FA66E54E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A2E30-4DAA-4918-B593-9309A248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4B627-304B-45A8-91FE-08596A0C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0596-9729-4759-9096-4347BBD0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9A4B-4369-4298-89E4-B808D922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6B3-F5C5-4740-AD39-B250DD5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0AA34-C6C2-4433-BAC2-DE4CE313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0E1D8-C96A-422F-95E9-87E5B1D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B9A33-642C-47D8-A412-9C6D281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04930-29F6-46A1-B56A-BD4CE31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62519-2A6E-4D8C-A86E-59CECED5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E8986-EAF7-471E-9A40-BC40F2E6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E284E-9732-4EFB-BD01-544F6B6A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13857-394D-4D2A-8ACE-DF0F634F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69265-FCEA-4342-9221-DE6E47C2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F62BA-CFD7-4119-AE3C-24B1BCD6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1D47-C4D2-46A7-9989-51B92924ACC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1BC4-A594-4AA2-BA04-5DA900CF30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89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C237-65D4-4F8F-B1F0-16389EFE3E0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6E37-9945-4852-A362-A3C43CB8EA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80C5-AC4C-470D-B918-7EE304496B4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6C95-2023-4206-B88E-81DA161784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D572-368B-4139-92F9-15B97A1DAB0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DCE7-F698-46FA-B76C-C3427A48FA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2" descr=""/>
            <p:cNvPicPr/>
            <p:nvPr/>
          </p:nvPicPr>
          <p:blipFill>
            <a:blip r:embed="rId2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4414-02CE-4862-AFAF-8C64463F3EB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2FB5-51DA-4869-A7F4-E76E5DC572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DE4B-75A8-4D89-8309-231202295ED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D8CD-E29D-47A4-8F93-CD4DEC86B96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34CC-BB81-4F74-BD15-4C2A11D7112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091A-98CA-4E7C-A909-F5DE60F34C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B53-99F4-436A-8967-E10D9AB09CF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142-D478-4974-A28D-763BDAC940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D2C5-41C6-4D4C-8366-C1E613684B0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2B08-EDA4-4C6B-835D-DB7C93A477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C86C-0A50-421B-8DE5-B0FB281B69C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A0F6-F234-4A5A-A389-7A606DC656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2C0-96D4-407C-ABAE-A1FDEA89590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0855-FECB-4341-845E-E153C3560E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2C4E-EB18-40D4-8BAE-3F0BD096426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BC5-A44B-4C08-864E-500D2BCA870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28480" y="4214520"/>
            <a:ext cx="7499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ЕС-14сп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пандін О. О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0040" y="1571400"/>
            <a:ext cx="814392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УВАННЯ ЕЛЕКТРИЧНОЇ МЕРЕЖІ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стю 198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Вт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атами типу СВ-595/100-30УХЛ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1357200" y="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головна електричних з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єднань Г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4" descr=""/>
          <p:cNvPicPr/>
          <p:nvPr/>
        </p:nvPicPr>
        <p:blipFill>
          <a:blip r:embed="rId1"/>
          <a:stretch/>
        </p:blipFill>
        <p:spPr>
          <a:xfrm>
            <a:off x="446040" y="692280"/>
            <a:ext cx="83232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571760" y="2142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 та поперечний розріз комірки ВРУ-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Объект 3" descr=""/>
          <p:cNvPicPr/>
          <p:nvPr/>
        </p:nvPicPr>
        <p:blipFill>
          <a:blip r:embed="rId1"/>
          <a:stretch/>
        </p:blipFill>
        <p:spPr>
          <a:xfrm>
            <a:off x="1833480" y="1447920"/>
            <a:ext cx="670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0"/>
            <a:ext cx="6280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аріанти схем ВРУ-220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3" descr=""/>
          <p:cNvPicPr/>
          <p:nvPr/>
        </p:nvPicPr>
        <p:blipFill>
          <a:blip r:embed="rId1"/>
          <a:stretch/>
        </p:blipFill>
        <p:spPr>
          <a:xfrm>
            <a:off x="611280" y="714240"/>
            <a:ext cx="791820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786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постійного струму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6" name="Объект 7" descr=""/>
          <p:cNvPicPr/>
          <p:nvPr/>
        </p:nvPicPr>
        <p:blipFill>
          <a:blip r:embed="rId1"/>
          <a:stretch/>
        </p:blipFill>
        <p:spPr>
          <a:xfrm>
            <a:off x="755640" y="668160"/>
            <a:ext cx="8064360" cy="57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3"/>
          <p:cNvSpPr/>
          <p:nvPr/>
        </p:nvSpPr>
        <p:spPr>
          <a:xfrm>
            <a:off x="8572680" y="71280"/>
            <a:ext cx="3855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2071800" y="14292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ловні схеми електричних 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єднань Г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Объект 3" descr=""/>
          <p:cNvPicPr/>
          <p:nvPr/>
        </p:nvPicPr>
        <p:blipFill>
          <a:blip r:embed="rId1"/>
          <a:stretch/>
        </p:blipFill>
        <p:spPr>
          <a:xfrm>
            <a:off x="684360" y="619200"/>
            <a:ext cx="8232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71280" y="201600"/>
            <a:ext cx="85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релейного захисту ГТ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Объект 2" descr=""/>
          <p:cNvPicPr/>
          <p:nvPr/>
        </p:nvPicPr>
        <p:blipFill>
          <a:blip r:embed="rId1"/>
          <a:stretch/>
        </p:blipFill>
        <p:spPr>
          <a:xfrm>
            <a:off x="285840" y="692280"/>
            <a:ext cx="85341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78588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ехніко-економічні показники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Объект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4552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85720" y="2571840"/>
            <a:ext cx="29941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Дякую за уваг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EF63-F153-4142-9BA7-E2E30F898FFB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9:37:45Z</dcterms:created>
  <dc:creator/>
  <dc:description/>
  <dc:language>en-US</dc:language>
  <cp:lastModifiedBy>Admin</cp:lastModifiedBy>
  <dcterms:modified xsi:type="dcterms:W3CDTF">2015-06-17T11:46:29Z</dcterms:modified>
  <cp:revision>29</cp:revision>
  <dc:subject/>
  <dc:title> Виконав: студент групи ЕСсп-12 Лупандін В. О.</dc:title>
</cp:coreProperties>
</file>