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5F9-2CA5-4529-90A0-917E2353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ECA-BEE2-4B37-9B66-40F712F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085-9964-43C6-815B-B4FBBF2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EC5-EA50-4888-885C-1AA52ED9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43D-13E8-49E2-B348-47975BD7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3D5-A198-4369-920F-E014A1C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472-DF07-4FB5-B6C5-64689DA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D3F-33A4-4B81-B369-0439989D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5D5-1B72-45B6-8D04-423EFD4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DBE-0712-41A3-8525-5B1A81A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830-0AA0-47BC-BBE6-875FB2C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436-BDE8-4501-B5B3-C94F236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E823-0FFE-4797-82CB-20525162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404640"/>
          <a:ext cx="8604360" cy="616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60436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260280"/>
          <a:ext cx="8785440" cy="622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260280"/>
          <a:ext cx="8497800" cy="60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49780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404640"/>
          <a:ext cx="8569080" cy="61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5690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60280"/>
          <a:ext cx="8208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208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404640"/>
          <a:ext cx="842472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2472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9:46:17Z</dcterms:created>
  <dc:creator>ESS-303-2</dc:creator>
  <dc:description/>
  <dc:language>en-US</dc:language>
  <cp:lastModifiedBy>ESS-303-2</cp:lastModifiedBy>
  <dcterms:modified xsi:type="dcterms:W3CDTF">2015-06-17T10:02:15Z</dcterms:modified>
  <cp:revision>2</cp:revision>
  <dc:subject/>
  <dc:title>Слайд 1</dc:title>
</cp:coreProperties>
</file>