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C77E-CF8D-4405-80B7-A84CD84A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7C0C-831F-4FAD-A89D-36847EFF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6B68-3A80-42E8-AAB3-F2C67602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D015-72ED-4082-AAB4-6C3D6CAF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8915-1BFB-4A88-99C1-47E23A1B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CD88-3C5A-4ACB-9FE7-04DBF83A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46D8-77A4-462D-9B0F-75CFACC9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008B-9744-47BE-8709-01F0E211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77CC-5490-4761-B8A4-8E201027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844C-A9AF-4765-80D5-3F854D76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E9CA-08B9-4B59-9C74-7728DB70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4F55-5907-4421-A376-5051F375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FF56-3614-455A-AD3C-D573015DE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95280" y="404640"/>
          <a:ext cx="8604360" cy="616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04640"/>
                    <a:ext cx="8604360" cy="61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79280" y="260280"/>
          <a:ext cx="8785440" cy="622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8785440" cy="622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0920" y="260280"/>
          <a:ext cx="8497800" cy="60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8497800" cy="60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50920" y="404640"/>
          <a:ext cx="8569080" cy="616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8569080" cy="61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260280"/>
          <a:ext cx="820872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820872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24000" y="404640"/>
          <a:ext cx="8424720" cy="60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4640"/>
                    <a:ext cx="8424720" cy="60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7T09:46:17Z</dcterms:created>
  <dc:creator>ESS-303-2</dc:creator>
  <dc:description/>
  <dc:language>en-US</dc:language>
  <cp:lastModifiedBy>ESS-303-2</cp:lastModifiedBy>
  <dcterms:modified xsi:type="dcterms:W3CDTF">2015-06-17T10:02:15Z</dcterms:modified>
  <cp:revision>2</cp:revision>
  <dc:subject/>
  <dc:title>Слайд 1</dc:title>
</cp:coreProperties>
</file>