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8338-BA6E-4845-956A-88B3B207B3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997-FCA1-4BCA-9AA5-9B072D7D5C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697-05F0-4C7C-8D28-5EB5EBA4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9E8-D5E4-499C-B715-9A12EC8D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E1EC8-60F5-42B7-9C26-7F020670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0CB1A-2535-4004-ADB6-E1AF77D4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509B4-7F90-4BB9-9F2E-CD55CAD8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06AD2-72AA-4826-A5DF-3276B20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F3A0A-C316-466F-B1CB-10540AE7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8DDFC-24B1-4C05-A46C-54E7426D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A4967-37E4-49E4-8861-5CAABDCD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27E0A-AC97-4FC3-B252-9753CA73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8E0C6-79F2-4012-8B29-AE62847C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75D27-2710-41E1-A38C-73F1E814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502-E2D9-4864-BDDF-C269A8B4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94500-D5E0-4401-BC0C-DEABE53C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38DD9-A67D-4753-95F3-0C35DBA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77584-D806-4D93-BF64-ACEED7A8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45884-553C-4EC4-B5FB-B744D3EE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15049-81C2-4973-A6C9-AFA1B3BD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CDD8F-E885-411A-A23C-8F4B03C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4219F-990C-48F1-ACAC-57CF361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C4E0A-B508-45EF-8C20-022B2F94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5FB50-5EC5-41CA-8822-EB514F23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B7515-6777-4A91-A8CE-3AD798EF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55D-6075-4A4A-8740-F0BB1A41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8767D-41E9-48D7-ADB9-78ADE284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92F8A-80D0-46F4-8D48-BD03DD79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9BBE5-6813-419C-B97D-89150191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3018A-3CE4-4EC6-8FC5-3E21FF2B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E3E3A-8923-4217-8BC0-A75B359F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25F6D-B8EF-4BD4-94F6-FA4C0E36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3DD85-6589-4866-A730-C378E618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66717-AB39-4DF5-8F09-06E5CA9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5EA3-6B25-4B48-95D8-532B5FF4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74075-13DA-4212-A3BB-3AB3BB8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D665-29DF-4E02-9596-387A24B9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B2269-013E-495D-99EF-014BBDEB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4A9E3-AB36-4C6F-8DBD-F9473ED4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C3E02-7C01-4D28-A3A9-C31B5C5E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3FEBE-47CA-4953-ACFF-820A3524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90B4E-B1B7-4B2D-A71E-32DE711A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46EE7-4944-4DAA-B960-50CCB442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6D74E-5E3C-4B94-B97E-C404A8A2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46422-2B8D-4C69-A0FD-0F597A19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D3779-C756-41E7-8BF2-938E070B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2EEFC-3B78-4D67-9FE3-BA986270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DD0A-0C31-41F9-B80A-B065075F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AA2A3-4648-49A8-8CA0-EE39CE2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1EF97-CD0E-4BA5-9840-EBFB95B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E5BC2-D87A-4539-9822-A1A49515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183A9-AAA7-46F7-B59E-067B597D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E3FA4-C952-4836-858D-7BC8896E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E7FF-7B44-494C-B50B-3035C3B7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3052-8DEE-4CC9-83BE-2E365DB6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9DEE-E986-4310-B7D6-B340656D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D9FB-4457-431E-9802-5C911659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94C7-C724-45FF-BD5D-79333A83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B56-542D-484E-B6ED-B68109F7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E61F-F729-4672-BFD0-8CB974E9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DB02-E3AC-4744-A8EF-0ADF3353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BC58-F0BF-42DB-93A7-79CEB10D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A0D1-D689-4FA2-ABDF-43961CB6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907F-6A03-4D82-8EC1-2FDFA4E3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BAA4-7CEC-4FB6-8E3A-7F4CD5ED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4D10-5BB3-4D95-A428-E069339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F546-9B97-44CE-9CEC-D80F0246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5584-E286-4CE0-99F6-3F022136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6352-74EF-43E0-A2EB-91AB25A9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373-2723-4B9C-B850-1AF8FE64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E115-119E-42A4-B90B-51B1B185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F6D5-3709-4E0D-A618-9977486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1732-E676-4C58-88F6-76A56124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6D45-82ED-4DBE-A056-73BEEED7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0539-94FD-4211-B826-102DF1B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26AD-68CC-46D1-8E12-A6CC0CD6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2164-45EE-40B9-AF47-7666705E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9448-146A-4E17-8331-A5179505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2A99-7087-47EF-9B76-95E5C663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847A-78B4-41B6-9B10-17C37819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FED-1812-483B-BA23-EBA8F12F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6A87E-CE7A-49FE-A6E3-3EA82F70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5020-BCBC-4C56-8619-BC407813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4BBB-5A71-48FD-ADAB-F56B963C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8D00-CA02-408E-93C6-72FBE60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18E0-DFDF-413B-8F7A-BEA6B1E2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FBB8-9FFC-44DA-BE13-9DE98AA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8823-7B88-4DC6-9747-1A3E8896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8383-1C4E-4723-846E-C151D003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7F58-586B-4F5B-8733-95218389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B7B3-E73D-47F0-89A2-C37ED85B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651-AB51-4567-80C6-738C9795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EA398-B668-4EEF-855B-FC79065F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FA5A-D766-4543-8A4B-1285D755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6578-4422-45E1-A1B7-F3A32811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5AA2B-5505-4767-8224-EF3D81E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00C1A-4189-49B2-948A-B2965D76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B6BE-0B14-4C55-9F30-6D587AB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CC07-79AC-44D3-903E-96714422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3075D-18A4-4F77-9B92-522710E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9A693-0BB5-4AD1-B2CE-FF2CA6E9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DA15D-A544-4963-A98F-3C4BDE22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45F-ED8F-445E-B6CD-611F2AAF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A972A-51DB-4683-923A-E2C83FD2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8AA9-B32F-4D00-9955-C64E666F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8F109-F0EA-4F5E-9176-182DA90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4126C-862A-4064-8B46-8410A9FF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3D3D7-85AB-4E5E-A176-3F4A2A6C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90616-718F-4A0E-8CAB-D5BC9AA1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E6BBC-A38E-443C-A3EF-F7B83AF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5E88A-5B47-4AF5-895B-105625FA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966BC-0E2C-4ABA-90C7-8A29564F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A5388-0BA4-4A46-B384-320EC994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A78-E9CD-4EA4-935B-7154117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CDC4-FABF-4F2A-A4DC-21313343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3DE1-CDCF-497A-82DB-A46DB118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9890E-94AA-430A-8834-D280587F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81431-D0DE-4707-8C16-8B300F60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C4DF-71A1-40C7-B759-1CCB3A65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7D932-D32F-40EB-AC9B-74FF090C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AD32-8883-4F1B-9B6E-EC20B379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0404E-3B80-4A57-8664-585C24D8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50B7C-710B-49E7-872B-231C2711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88BD0-40C4-41A0-AAB4-4A93365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CC1-84D5-4BFE-B2DB-3E7CAE9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D742D-2602-442A-AFF1-8CAB76A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FD5D-B185-4CB2-AAB2-23AB323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E99ED-C84B-4EA6-99C7-A684A66A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031FD-9943-41A6-BD56-AFDF6245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B48AC-9811-49FD-BBDB-6A5FEA7F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88A2-122D-4435-8664-CCB9F3FA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9AEE6-65BF-46A8-ABE5-33876D0E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673BA-62C0-4A84-AC36-4747B5DB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4BDC0-03BD-40F6-854B-D83A98C6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78078-7163-4723-93D4-3ED86F35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817-91D1-48BC-A01F-1E1C74F4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2FFB-F9F1-4885-B2BB-E8D6BF5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E9E6-C7C2-4B93-A4B7-F3982B7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B5614-4079-4E6B-BE7C-5D8C8704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CF44-90D0-47D9-9279-C609AC8F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FEAA8-9293-45E3-94E5-748B8D0F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8EC8C-2FC2-4067-B8DA-0970BD1B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F89BC-34CB-42CB-80FE-41A5AD7A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E5EB1-D6D3-431C-A18F-44C53778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F46B6-FF23-4F00-AA8A-46FB43C3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2556B-7C92-4841-A682-8A6DF45A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102B-1405-4483-961E-9CF36220638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1495-8EB0-42C2-973A-8E99A92CF8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9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2DF8-8CCA-45C1-84C0-E81F8996EE1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7F2-2009-4326-B678-0D1775A0C8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838D-7FE7-4453-B264-37BACDE00A6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139-7468-4A14-9F21-68D98947B9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6FF6-65EE-43DA-B66A-875DB4F2EF4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1A1B-66EB-44E6-B7DD-78A99D0EC6E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2" descr=""/>
            <p:cNvPicPr/>
            <p:nvPr/>
          </p:nvPicPr>
          <p:blipFill>
            <a:blip r:embed="rId2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5767-25A9-4DF9-A5D4-09D380E6FE2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EE0D-6214-4BB3-B019-CEA6047ACF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895C-86E3-4B99-BAD6-9F6A24CD4C0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ACAD-BB45-47E0-99D5-FE30B46856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AC6B-A790-408E-AC3E-B2A0DC0E279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9271-FE46-485D-8A73-A79AC0DAF7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EF9-7ECD-4121-AAB0-4A8E915113B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F1F8-8179-456E-AEB5-57483A99E41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3874-7450-4C38-B48D-0722BF379C6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92DD-EDE2-463D-8A8C-E008568DDA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BC37-1C39-4AF0-8447-598BBE4E361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8D92-DDD2-4DAE-9506-18614FE4F0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A8BA-C328-4975-86D3-38E6CC59428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17CB-1C23-4032-AD79-9E7A6CC170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0E89-7234-40BB-9075-D56EFB48883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66BC-9B7D-4C02-B90B-5FEA55F0C5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8840" y="3933720"/>
            <a:ext cx="7246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ЕС-14сп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ртинський Р. В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268280"/>
            <a:ext cx="81439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 на тему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ГЕС ПОТУЖНІСТЮ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Вт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ГРЕГАТАМИ ТИПУ СВ-1190/250-4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1357200" y="2142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електричних з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днань го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3" descr=""/>
          <p:cNvPicPr/>
          <p:nvPr/>
        </p:nvPicPr>
        <p:blipFill>
          <a:blip r:embed="rId1"/>
          <a:srcRect l="17441" t="12459" r="3126" b="6554"/>
          <a:stretch/>
        </p:blipFill>
        <p:spPr>
          <a:xfrm>
            <a:off x="468360" y="692280"/>
            <a:ext cx="81928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571760" y="2142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ереч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із головної будівлі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Объект 2" descr=""/>
          <p:cNvPicPr/>
          <p:nvPr/>
        </p:nvPicPr>
        <p:blipFill>
          <a:blip r:embed="rId1"/>
          <a:srcRect l="19805" t="13115" r="4608" b="8598"/>
          <a:stretch/>
        </p:blipFill>
        <p:spPr>
          <a:xfrm>
            <a:off x="826920" y="907920"/>
            <a:ext cx="76327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0"/>
            <a:ext cx="6280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 та поперечний розріз ВРУ-330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3" descr=""/>
          <p:cNvPicPr/>
          <p:nvPr/>
        </p:nvPicPr>
        <p:blipFill>
          <a:blip r:embed="rId1"/>
          <a:srcRect l="18794" t="13157" r="4114" b="8556"/>
          <a:stretch/>
        </p:blipFill>
        <p:spPr>
          <a:xfrm>
            <a:off x="826920" y="907920"/>
            <a:ext cx="75614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786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установки постійного струму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6" name="Рисунок 2" descr=""/>
          <p:cNvPicPr/>
          <p:nvPr/>
        </p:nvPicPr>
        <p:blipFill>
          <a:blip r:embed="rId1"/>
          <a:srcRect l="18677" t="8601" r="3229" b="11147"/>
          <a:stretch/>
        </p:blipFill>
        <p:spPr>
          <a:xfrm>
            <a:off x="611280" y="765000"/>
            <a:ext cx="80312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8572680" y="142920"/>
            <a:ext cx="3855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1042920" y="14292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лейний захист агрегатного трансформатора власних потр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Объект 2" descr=""/>
          <p:cNvPicPr/>
          <p:nvPr/>
        </p:nvPicPr>
        <p:blipFill>
          <a:blip r:embed="rId1"/>
          <a:srcRect l="17115" t="14716" r="2465" b="5301"/>
          <a:stretch/>
        </p:blipFill>
        <p:spPr>
          <a:xfrm>
            <a:off x="355680" y="765000"/>
            <a:ext cx="831996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611280" y="1429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и власних потреб ГЕС і ГА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1" descr=""/>
          <p:cNvPicPr/>
          <p:nvPr/>
        </p:nvPicPr>
        <p:blipFill>
          <a:blip r:embed="rId1"/>
          <a:srcRect l="21640" t="7404" r="1958" b="13543"/>
          <a:stretch/>
        </p:blipFill>
        <p:spPr>
          <a:xfrm>
            <a:off x="539640" y="620640"/>
            <a:ext cx="8172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77004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показники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" descr=""/>
          <p:cNvPicPr/>
          <p:nvPr/>
        </p:nvPicPr>
        <p:blipFill>
          <a:blip r:embed="rId1"/>
          <a:srcRect l="18611" t="8537" r="5000" b="13056"/>
          <a:stretch/>
        </p:blipFill>
        <p:spPr>
          <a:xfrm>
            <a:off x="539640" y="692280"/>
            <a:ext cx="81043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9:37:45Z</dcterms:created>
  <dc:creator/>
  <dc:description/>
  <dc:language>en-US</dc:language>
  <cp:lastModifiedBy>1</cp:lastModifiedBy>
  <dcterms:modified xsi:type="dcterms:W3CDTF">2015-06-17T16:14:07Z</dcterms:modified>
  <cp:revision>49</cp:revision>
  <dc:subject/>
  <dc:title>Керівник: к.т.н., ст.викл. каф. ЕСС Тептя В. В.  Виконав: студент групи ЕСсп-14 Скоропадик О. І.</dc:title>
</cp:coreProperties>
</file>