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62AE-368D-40ED-B811-6C6E920FA0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5A38-0203-4A5F-B27D-8826D4E00E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619E-0DC1-4C78-89D8-CD42CFF4B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2E24-2A6C-4C76-877B-3CDBC73E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8D7E9-6852-410D-9AA6-D66BFC70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8D53F-2A96-4CEF-B678-E1D4AD1D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628ED-9D25-4A68-A640-72E504AC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1158A-798E-40A5-9549-A55E438E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2ADEC-ACE9-4729-90AA-EBA0DF84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6E46A-31D7-45DF-980E-5B62170C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9D0D7-B2E3-4628-8DA6-2E6596B3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DE616-F7A7-41F9-A6AD-FF25E4C3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221EA-A0FE-4B33-B1DD-1CD7B4531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6F262-6AAB-437F-A0D5-EC81F5C6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95AD-AEC4-47C5-89D3-675B0234B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72DB6A-0C30-4FB4-9ACD-A6E673DE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E42E4-3086-4F01-A9EC-7CF41C22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688EC3-3800-4BD7-891B-3B30D947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1051B-8280-416F-9442-58FBE446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29B59-FFCE-4EAF-B7E8-197E9FA3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E3D61-2B35-41E4-8C2F-5D487802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D3917B-63CD-4A60-847F-38CEE7C7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0D306-A241-4271-8D75-1DB2E1D4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BCDB9-1C48-4816-A377-F4F9BFE5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0A51E-4D06-42EF-9024-B854DDC3B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B95F-D1DC-418C-946D-EB4389509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C14BF-8144-4371-B531-24B5FF9AB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FF380-AAA9-4396-B1CE-D11275D22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DB570-1F08-41EC-B50D-4FEFDC6B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98DDD-6B14-48DC-9A07-1A5855B6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21FCA-FD84-4FB4-B5E3-950FD8B1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F8D06-455F-442C-8B0C-FEEF6C3A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EB428-C0AF-4E82-8359-C4FDB085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F7F46-B766-4287-9674-AFA905E0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76A0B-138E-4E19-A7DB-048140D6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65418-8447-4530-B124-CD461212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C5F0-FA25-467A-BE43-74140A51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C1A71-55E2-4B23-9B3F-1A1A6B2E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53B09-4E04-4A77-8BB8-3E0C9458E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CE19F-FFAA-4445-B85E-436AB3615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AE89A3-C1CF-4877-9671-A496274D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A22B4F-A054-42B1-B52A-5DDCC475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AD47E2-2B57-4DD9-BDB6-80D11193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5792D-1DDF-4CE0-9591-DB0380C6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38DD74-BF11-4E5B-AB93-3536C9A1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07CD28-BD9F-4F25-A35D-D9E46D7D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3005B-9F36-494E-AE88-49932117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4E56-AE0A-45CC-83DC-5ADD3213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EE41C-3169-487E-9941-0F83CFEB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D4ADB9-DABE-420B-99D0-AE5CFB62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9CFB82-62E2-4A71-8EA6-7EC35FD1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1A1C7C-F00A-4370-89BD-095007F9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B92B77-436E-4786-A42F-B6EDC12A5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FE1E-1148-4737-BC3A-664A194E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C234-F2D7-4162-B3FB-F3C87760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99E2-CE44-4F39-8A52-C03203E1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8C72-E724-49C9-B4D8-B422C370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72B4-B6D1-4FD9-AAD7-AB66ADB5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B265-82F4-4B9F-B480-5F989574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F0EF-5A12-4224-81C4-D342A967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1113-FF0B-4AEA-82A4-2EDE7984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BEE8-9813-4F75-A383-FD4E5542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D2A6-418F-4C6A-A362-7B0D12AB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FB92-2409-4B64-9612-ABA83DF4F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F56B8-9001-40DE-91EB-D5E40C76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260EE-82F9-482B-AFEA-9A0B1E73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918E3-E8BA-42A6-9C58-600D1763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97077-04E0-442F-84ED-F214C24A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A9840-0259-4D5E-BDF2-C5B1A1DF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D883-6611-490F-BF13-C6D271B7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567D3-B0B3-4CCE-AC8E-98282FEB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CF541-C695-47F1-B858-4867E3EE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D5F99-9763-4C35-B073-4E65827A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93F47-F279-45F1-8E25-DAA48139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E19C4-8805-4309-A97D-FC9BA234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826C4-06D2-438C-876C-C0AC48FC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9CC1E-3147-47C7-8A9F-59FA4137D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6D434-1A40-4D85-8664-6ED49624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FCD62-C9D2-4954-8717-4A3F62D8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936A3-49A4-4A57-97AA-733DDB8F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20D4-50EF-44EF-84A0-B565C39D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4252F-098B-48C1-AF82-55D0D015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20A85-31A5-460C-8A3A-564EE232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3C208-A126-466F-A175-949426D7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64543-FA2C-4F32-9BCF-E1766809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E1E4F-67B0-4333-BB54-9F8C70DE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046DD-BBDB-4AC0-805A-61897D67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2D7C2-F916-4FD8-BBBE-96770E53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EEE72-6334-483F-BB32-6835096F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13674-F5F0-4643-9045-0BF5323C5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2078D-6844-49EC-93FC-41DAF14B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17C0-0734-4441-B846-72449A04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4AB1E-9F11-4106-BAEE-5C9506FC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8579D-7BDD-4186-AA78-7BF1FF76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7273A-3AE9-4679-BDEB-BCD10F14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DDE2D-7DF0-415F-9088-734CBE70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AD2DA-677E-4630-BDA0-A86F9E94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EC3AE-B620-4596-AFA9-8FECED0D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6744F-F6DE-41C3-8310-121F9758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D028A-3EAC-4202-812B-CE36B8CF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7422E-F814-4F38-A26B-8F78E044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3C5B3-A95F-4E94-A140-DF1BD6D7A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AF13-AD34-451B-A2B8-E7DF367D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584B0-7C36-4483-8BF4-361C5589F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FAB56-E58A-4B51-B35D-AF900DF5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4415B-52F6-4A3D-B271-7B5D7A19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B789B-A77E-4942-8149-FEE4EE75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85D21-11E0-4FA9-9862-2C605DDA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C25F1-8219-471C-9FB7-1E0F67A1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85DE7-8DE9-47A6-8723-DC1016C7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6C088-C50E-44DD-8A66-61557317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44345-5BD3-4AEC-AD22-9A410C73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F9CAC-DE3C-4BD7-9DCE-6B8EF991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D367-04B1-4E1F-8B96-37292EE7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9E571-0E61-408F-BFA0-B4F7D75F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045E6-B2B8-45CA-A0F8-A3AA645E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5EEFD-023F-4346-854F-0E7605D5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E0448-01DF-46D3-8FB8-95B3168F9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5DF00-9852-4D00-AC06-E710AD8A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81925-1370-4BD9-B566-12B502C3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5DA04-2119-4FFC-B5B5-38936026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94A0A-125C-48A0-A9FB-09A94D04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DABDC-C473-4D4C-A564-E12C884C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90DF7-E8F4-44FB-8132-E3C2026C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43DB-7C96-4FA4-BA74-E103DAFA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E653B-4824-4A19-AE78-DE550B43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43EFE-0717-4112-88D1-059C2199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15E3F-E757-42D5-A11F-C72EE218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ABB55-0CCD-419C-B7FB-A9F267B2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49A6D-6FA7-4597-B727-E2FDA1AD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FBD30-FD7D-4FF4-99E5-38F17B841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A8B93-921C-457E-BE2A-840342B0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7C60E-3A42-450E-B4EF-E22352DA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2FE7D-5F05-4CA2-A6A5-9C965D8E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7FEE5-EB0C-48BB-8FA5-F9573B8D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55A8-9E54-47AF-96A6-C9E9BEDC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FD5F1-71F8-46A9-BD08-CAA4C257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590F6-8A7F-4122-ABF8-AB011360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CE197-8C85-47DA-9D60-23F9DF7A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D912F-A1C4-4BF1-9905-5B51A000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85026-BB67-4364-8774-4DF41F05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3D2C6-9022-4BFE-8B93-354F3C2EA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507B9-B3D4-47B2-8B4A-DC068F01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012A7-B49F-45CF-8479-82423D6E9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A9400-DB6A-4584-8FCA-165868FE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FC905-1C8C-434C-A5E6-0397A5E6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F1E1-85A6-44A5-A0F2-C209E89076E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AF54-E157-4164-BAFC-64C11E2C328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89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2A9E-3F86-4172-B088-C980F7D8855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32BD-C68B-4C19-86FF-87B6A0AC6F0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5F97-034E-4849-8861-707777D5F38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3903-099F-4142-A9B6-DD9C50E2F3C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5A34-379A-42F7-BF12-03975CCF2A9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A562-E4E5-4B33-BC6A-055BBC1B66B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49" name="Овал 12" descr=""/>
            <p:cNvPicPr/>
            <p:nvPr/>
          </p:nvPicPr>
          <p:blipFill>
            <a:blip r:embed="rId2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D24D-9C7C-4CA8-A323-8C48AD04FA2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A26C-8042-49CF-988C-9BF8FC92C85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9D45-141B-494C-97FE-5CB18C68A15C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BAFA-A004-4E62-BE9D-91DA98AC03A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37" name="Овал 15" descr=""/>
            <p:cNvPicPr/>
            <p:nvPr/>
          </p:nvPicPr>
          <p:blipFill>
            <a:blip r:embed="rId2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DB60-9712-41E7-BCB1-FCF6B66E9ED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496B-FFD4-4B3C-A832-4D76ADC6E35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0DBE-8CDE-4FA9-A16E-EDF942245059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77B9-9E8E-4DDF-BB48-D42B514364F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7A8C-6005-49C5-9CDB-D46D6CC09A5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5952-0520-4C78-A83D-21865180E8D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DF26-3C2B-4B49-9BB6-CA078D954ED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181C-F813-4A53-9213-6375D44827F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3508-8DC1-4925-8C52-6337C25620A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D5B0-2874-48F0-85F8-027A92ADD63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26E5-BF75-4A59-8C10-1AFB92FF6C0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CB28-B7FD-4F09-80FC-2F2508388EA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28840" y="3933720"/>
            <a:ext cx="72468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в: студент групи ЕС-14сп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ртинський Р. В.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00040" y="1268280"/>
            <a:ext cx="81439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ний проект на тему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ИЧНА ЧАСТИНА ГЕС ПОТУЖНІСТЮ 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Вт 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АГРЕГАТАМИ ТИПУ СВ-1190/250-4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7"/>
          <p:cNvSpPr/>
          <p:nvPr/>
        </p:nvSpPr>
        <p:spPr>
          <a:xfrm>
            <a:off x="1357200" y="2142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хема електричних з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днань го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Номер слайда 3"/>
          <p:cNvSpPr/>
          <p:nvPr/>
        </p:nvSpPr>
        <p:spPr>
          <a:xfrm>
            <a:off x="8643960" y="14292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Рисунок 3" descr=""/>
          <p:cNvPicPr/>
          <p:nvPr/>
        </p:nvPicPr>
        <p:blipFill>
          <a:blip r:embed="rId1"/>
          <a:srcRect l="17441" t="12459" r="3126" b="6554"/>
          <a:stretch/>
        </p:blipFill>
        <p:spPr>
          <a:xfrm>
            <a:off x="468360" y="692280"/>
            <a:ext cx="81928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Номер слайда 3"/>
          <p:cNvSpPr/>
          <p:nvPr/>
        </p:nvSpPr>
        <p:spPr>
          <a:xfrm>
            <a:off x="8643960" y="14292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7"/>
          <p:cNvSpPr/>
          <p:nvPr/>
        </p:nvSpPr>
        <p:spPr>
          <a:xfrm>
            <a:off x="1571760" y="21420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переч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різ головної будівлі стан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Объект 2" descr=""/>
          <p:cNvPicPr/>
          <p:nvPr/>
        </p:nvPicPr>
        <p:blipFill>
          <a:blip r:embed="rId1"/>
          <a:srcRect l="19805" t="13115" r="4608" b="8598"/>
          <a:stretch/>
        </p:blipFill>
        <p:spPr>
          <a:xfrm>
            <a:off x="826920" y="907920"/>
            <a:ext cx="7632720" cy="55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600" y="0"/>
            <a:ext cx="6280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лан та поперечний розріз ВРУ-330 кВ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2" name="Номер слайда 3"/>
          <p:cNvSpPr/>
          <p:nvPr/>
        </p:nvSpPr>
        <p:spPr>
          <a:xfrm>
            <a:off x="8643960" y="7128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Объект 3" descr=""/>
          <p:cNvPicPr/>
          <p:nvPr/>
        </p:nvPicPr>
        <p:blipFill>
          <a:blip r:embed="rId1"/>
          <a:srcRect l="18794" t="13157" r="4114" b="8556"/>
          <a:stretch/>
        </p:blipFill>
        <p:spPr>
          <a:xfrm>
            <a:off x="826920" y="907920"/>
            <a:ext cx="756144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Номер слайда 3"/>
          <p:cNvSpPr/>
          <p:nvPr/>
        </p:nvSpPr>
        <p:spPr>
          <a:xfrm>
            <a:off x="8643960" y="14292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85560" y="0"/>
            <a:ext cx="678636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Схема установки постійного струму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36" name="Рисунок 2" descr=""/>
          <p:cNvPicPr/>
          <p:nvPr/>
        </p:nvPicPr>
        <p:blipFill>
          <a:blip r:embed="rId1"/>
          <a:srcRect l="18677" t="8601" r="3229" b="11147"/>
          <a:stretch/>
        </p:blipFill>
        <p:spPr>
          <a:xfrm>
            <a:off x="611280" y="765000"/>
            <a:ext cx="80312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Номер слайда 3"/>
          <p:cNvSpPr/>
          <p:nvPr/>
        </p:nvSpPr>
        <p:spPr>
          <a:xfrm>
            <a:off x="8572680" y="142920"/>
            <a:ext cx="38556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7"/>
          <p:cNvSpPr/>
          <p:nvPr/>
        </p:nvSpPr>
        <p:spPr>
          <a:xfrm>
            <a:off x="1042920" y="142920"/>
            <a:ext cx="72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лейний захист агрегатного трансформатора власних потре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Объект 2" descr=""/>
          <p:cNvPicPr/>
          <p:nvPr/>
        </p:nvPicPr>
        <p:blipFill>
          <a:blip r:embed="rId1"/>
          <a:srcRect l="17115" t="14716" r="2465" b="5301"/>
          <a:stretch/>
        </p:blipFill>
        <p:spPr>
          <a:xfrm>
            <a:off x="355680" y="765000"/>
            <a:ext cx="831996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Номер слайда 3"/>
          <p:cNvSpPr/>
          <p:nvPr/>
        </p:nvSpPr>
        <p:spPr>
          <a:xfrm>
            <a:off x="8643960" y="14292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7"/>
          <p:cNvSpPr/>
          <p:nvPr/>
        </p:nvSpPr>
        <p:spPr>
          <a:xfrm>
            <a:off x="611280" y="1429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хеми власних потреб ГЕС і ГА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Рисунок 1" descr=""/>
          <p:cNvPicPr/>
          <p:nvPr/>
        </p:nvPicPr>
        <p:blipFill>
          <a:blip r:embed="rId1"/>
          <a:srcRect l="21640" t="7404" r="1958" b="13543"/>
          <a:stretch/>
        </p:blipFill>
        <p:spPr>
          <a:xfrm>
            <a:off x="539640" y="620640"/>
            <a:ext cx="8172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Номер слайда 3"/>
          <p:cNvSpPr/>
          <p:nvPr/>
        </p:nvSpPr>
        <p:spPr>
          <a:xfrm>
            <a:off x="8643960" y="142920"/>
            <a:ext cx="3142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7"/>
          <p:cNvSpPr/>
          <p:nvPr/>
        </p:nvSpPr>
        <p:spPr>
          <a:xfrm>
            <a:off x="770040" y="14292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іко-економічні показники стан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Рисунок 1" descr=""/>
          <p:cNvPicPr/>
          <p:nvPr/>
        </p:nvPicPr>
        <p:blipFill>
          <a:blip r:embed="rId1"/>
          <a:srcRect l="18611" t="8537" r="5000" b="13056"/>
          <a:stretch/>
        </p:blipFill>
        <p:spPr>
          <a:xfrm>
            <a:off x="539640" y="692280"/>
            <a:ext cx="810432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09:37:45Z</dcterms:created>
  <dc:creator/>
  <dc:description/>
  <dc:language>en-US</dc:language>
  <cp:lastModifiedBy>1</cp:lastModifiedBy>
  <dcterms:modified xsi:type="dcterms:W3CDTF">2015-06-17T16:14:07Z</dcterms:modified>
  <cp:revision>49</cp:revision>
  <dc:subject/>
  <dc:title>Керівник: к.т.н., ст.викл. каф. ЕСС Тептя В. В.  Виконав: студент групи ЕСсп-14 Скоропадик О. І.</dc:title>
</cp:coreProperties>
</file>