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48C18-BF58-4FCE-A5D9-21C98170ED79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8F96D-1D1D-451C-906D-61B09248EEB9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4056E-04FA-4AD3-94E8-A77E27642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1B04E-7C9C-47E5-BC72-D62164102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F2F4A-B225-4512-967A-4F011A984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8228E-2659-4A4E-9ED2-0209E92A3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DC054-0743-4F18-8392-691B802CA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A3FF4-6EDF-466A-867A-048A231C3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849FD-37BE-46E6-9B6C-1C44FDBE8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C41FD-F146-476A-AF20-0A3F00A90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5C15A-D2D0-4AE1-9B35-4EBFD723A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52F47-293C-4A26-A750-6A1A7AA59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BEC5F-1576-4B29-BEA0-A8C659793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E9C79-2E00-49D9-B931-3198E44BC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7A626-2EF6-40E0-BFAF-1D9EBE5631F2}" type="slidenum">
              <a:rPr b="0" lang="uk-U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10620360" cy="624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іністерство освіти і науки України</a:t>
            </a:r>
            <a:br>
              <a:rPr sz="1800"/>
            </a:b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інницький національний технічний університет </a:t>
            </a:r>
            <a:br>
              <a:rPr sz="1800"/>
            </a:b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культет машинобудування та транспорту</a:t>
            </a:r>
            <a:br>
              <a:rPr sz="1800"/>
            </a:b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федра технологій та автоматизації машинобудування</a:t>
            </a:r>
            <a:br>
              <a:rPr sz="1800"/>
            </a:br>
            <a:br>
              <a:rPr sz="1800"/>
            </a:b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пломний проект на тему: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МАТИЗОВАНЕ РОБОЧЕ МІСЦЕ МЕХАНІЧНОЇ ОБРОБКИ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АЛІ «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ОНШТЕЙН КР-15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</a:t>
            </a:r>
            <a:br>
              <a:rPr sz="1800"/>
            </a:br>
            <a:br>
              <a:rPr sz="1800"/>
            </a:b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-26.ДП.013.00.000 ПЗ</a:t>
            </a:r>
            <a:br>
              <a:rPr sz="1600"/>
            </a:br>
            <a:br>
              <a:rPr sz="1600"/>
            </a:br>
            <a:br>
              <a:rPr sz="16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                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ерівник проекту: к.т.н., доц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                                      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зінський Д.О.</a:t>
            </a:r>
            <a:br>
              <a:rPr sz="1800"/>
            </a:b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                     Розробив: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. гр. 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M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14сп</a:t>
            </a:r>
            <a:br>
              <a:rPr sz="1800"/>
            </a:b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                                            Лісовий Д. О.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інниця 2015</a:t>
            </a: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Рисунок 3" descr=""/>
          <p:cNvPicPr/>
          <p:nvPr/>
        </p:nvPicPr>
        <p:blipFill>
          <a:blip r:embed="rId1"/>
          <a:stretch/>
        </p:blipFill>
        <p:spPr>
          <a:xfrm>
            <a:off x="957240" y="131760"/>
            <a:ext cx="10287000" cy="660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Рисунок 3" descr=""/>
          <p:cNvPicPr/>
          <p:nvPr/>
        </p:nvPicPr>
        <p:blipFill>
          <a:blip r:embed="rId1"/>
          <a:stretch/>
        </p:blipFill>
        <p:spPr>
          <a:xfrm>
            <a:off x="561960" y="399960"/>
            <a:ext cx="1104264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Рисунок 3" descr=""/>
          <p:cNvPicPr/>
          <p:nvPr/>
        </p:nvPicPr>
        <p:blipFill>
          <a:blip r:embed="rId1"/>
          <a:stretch/>
        </p:blipFill>
        <p:spPr>
          <a:xfrm>
            <a:off x="2651040" y="166680"/>
            <a:ext cx="6850080" cy="656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Рисунок 3" descr=""/>
          <p:cNvPicPr/>
          <p:nvPr/>
        </p:nvPicPr>
        <p:blipFill>
          <a:blip r:embed="rId1"/>
          <a:stretch/>
        </p:blipFill>
        <p:spPr>
          <a:xfrm>
            <a:off x="1243080" y="0"/>
            <a:ext cx="9705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Рисунок 3" descr=""/>
          <p:cNvPicPr/>
          <p:nvPr/>
        </p:nvPicPr>
        <p:blipFill>
          <a:blip r:embed="rId1"/>
          <a:stretch/>
        </p:blipFill>
        <p:spPr>
          <a:xfrm>
            <a:off x="3833640" y="128520"/>
            <a:ext cx="4395960" cy="666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Объект 3" descr=""/>
          <p:cNvPicPr/>
          <p:nvPr/>
        </p:nvPicPr>
        <p:blipFill>
          <a:blip r:embed="rId1"/>
          <a:stretch/>
        </p:blipFill>
        <p:spPr>
          <a:xfrm>
            <a:off x="1341360" y="114480"/>
            <a:ext cx="9417240" cy="665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Рисунок 3" descr=""/>
          <p:cNvPicPr/>
          <p:nvPr/>
        </p:nvPicPr>
        <p:blipFill>
          <a:blip r:embed="rId1"/>
          <a:stretch/>
        </p:blipFill>
        <p:spPr>
          <a:xfrm>
            <a:off x="1243080" y="0"/>
            <a:ext cx="9705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Рисунок 5" descr=""/>
          <p:cNvPicPr/>
          <p:nvPr/>
        </p:nvPicPr>
        <p:blipFill>
          <a:blip r:embed="rId1"/>
          <a:stretch/>
        </p:blipFill>
        <p:spPr>
          <a:xfrm>
            <a:off x="3632040" y="0"/>
            <a:ext cx="4927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Рисунок 3" descr=""/>
          <p:cNvPicPr/>
          <p:nvPr/>
        </p:nvPicPr>
        <p:blipFill>
          <a:blip r:embed="rId1"/>
          <a:stretch/>
        </p:blipFill>
        <p:spPr>
          <a:xfrm>
            <a:off x="3789360" y="0"/>
            <a:ext cx="4613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Рисунок 3" descr=""/>
          <p:cNvPicPr/>
          <p:nvPr/>
        </p:nvPicPr>
        <p:blipFill>
          <a:blip r:embed="rId1"/>
          <a:stretch/>
        </p:blipFill>
        <p:spPr>
          <a:xfrm>
            <a:off x="1243080" y="0"/>
            <a:ext cx="9705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Рисунок 3" descr=""/>
          <p:cNvPicPr/>
          <p:nvPr/>
        </p:nvPicPr>
        <p:blipFill>
          <a:blip r:embed="rId1"/>
          <a:stretch/>
        </p:blipFill>
        <p:spPr>
          <a:xfrm>
            <a:off x="1243080" y="0"/>
            <a:ext cx="9705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Рисунок 3" descr=""/>
          <p:cNvPicPr/>
          <p:nvPr/>
        </p:nvPicPr>
        <p:blipFill>
          <a:blip r:embed="rId1"/>
          <a:stretch/>
        </p:blipFill>
        <p:spPr>
          <a:xfrm>
            <a:off x="1243080" y="0"/>
            <a:ext cx="9705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Рисунок 3" descr=""/>
          <p:cNvPicPr/>
          <p:nvPr/>
        </p:nvPicPr>
        <p:blipFill>
          <a:blip r:embed="rId1"/>
          <a:stretch/>
        </p:blipFill>
        <p:spPr>
          <a:xfrm>
            <a:off x="2014560" y="619200"/>
            <a:ext cx="8186760" cy="563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4T06:22:00Z</dcterms:created>
  <dc:creator>Dima Lisovyi</dc:creator>
  <dc:description/>
  <dc:language>en-US</dc:language>
  <cp:lastModifiedBy>Dima Lisovyi</cp:lastModifiedBy>
  <dcterms:modified xsi:type="dcterms:W3CDTF">2015-06-24T06:56:26Z</dcterms:modified>
  <cp:revision>4</cp:revision>
  <dc:subject/>
  <dc:title>Міністерство освіти і науки України Вінницький національний технічний університет  Факультет машинобудування та транспорту Кафедра технологій та автоматизації машинобудування  Дипломний проект на тему: АВТОМАТИЗОВАНЕ РОБОЧЕ МІСЦЕ МЕХАНІЧНОЇ ОБРОБКИ  ДЕТАЛІ «КРОНШТЕЙН КР-15»  08-26.ДП.013.00.000 ПЗ                                                                                               Керівник проекту: к.т.н., доц.                                                          Лозінський Д.О.</dc:title>
</cp:coreProperties>
</file>