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7E26-341F-48ED-A264-4A16E67410D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F09E-2C6A-40D8-8280-B0909295124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E65-2271-40A7-A96A-047F7995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1AD-EE98-440C-9A39-45A3511B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8F9-544B-4A80-B43C-B90768D1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219-C054-4059-84B3-65D37BC3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E0D-C722-47F8-8513-011ADCC8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CFF-D6CD-4156-BA7D-30A9381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266-DF7A-4AFA-AEA8-867835A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97F-DFFB-41FA-90E7-145D9D0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867-55B8-459F-ACF1-9D204081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D82-2D8F-4457-B4B5-CEED468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AF1-3E1C-4DA3-9AD6-7268881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5D4-AD3D-4B2D-8461-A3AAF5D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6FF-7798-481B-9FAF-5A5669DB734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62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ехнологій та автоматизації машинобудування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на тем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ОВАНЕ РОБОЧЕ МІСЦЕ МЕХАНІЧНОЇ ОБРОБ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І «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НШТЕЙН КР-1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26.ДП.013.00.000 ПЗ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проекту: к.т.н., доц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нський Д.О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Розробив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гр.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Лісовий Д. О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957240" y="131760"/>
            <a:ext cx="10287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61960" y="399960"/>
            <a:ext cx="11042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651040" y="166680"/>
            <a:ext cx="68500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833640" y="128520"/>
            <a:ext cx="439596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341360" y="114480"/>
            <a:ext cx="941724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"/>
          <p:cNvPicPr/>
          <p:nvPr/>
        </p:nvPicPr>
        <p:blipFill>
          <a:blip r:embed="rId1"/>
          <a:stretch/>
        </p:blipFill>
        <p:spPr>
          <a:xfrm>
            <a:off x="363204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378936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1243080" y="0"/>
            <a:ext cx="970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2014560" y="619200"/>
            <a:ext cx="81867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6:22:00Z</dcterms:created>
  <dc:creator>Dima Lisovyi</dc:creator>
  <dc:description/>
  <dc:language>en-US</dc:language>
  <cp:lastModifiedBy>Dima Lisovyi</cp:lastModifiedBy>
  <dcterms:modified xsi:type="dcterms:W3CDTF">2015-06-24T06:56:26Z</dcterms:modified>
  <cp:revision>4</cp:revision>
  <dc:subject/>
  <dc:title>Міністерство освіти і науки України Вінницький національний технічний університет  Факультет машинобудування та транспорту Кафедра технологій та автоматизації машинобудування  Дипломний проект на тему: АВТОМАТИЗОВАНЕ РОБОЧЕ МІСЦЕ МЕХАНІЧНОЇ ОБРОБКИ  ДЕТАЛІ «КРОНШТЕЙН КР-15»  08-26.ДП.013.00.000 ПЗ                                                                                               Керівник проекту: к.т.н., доц.                                                          Лозінський Д.О.</dc:title>
</cp:coreProperties>
</file>