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F1D-1DD0-40FB-872B-E59FA882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DDD-355D-4F2E-A648-C264EF80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2D7-3480-4F3B-BC89-166FBDCE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CB1-3E3A-489F-954B-BD5FBAE2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1565-7DEF-49C8-A35F-F0EF3211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F87-7431-4E2D-AEF6-64CB0056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1419-E599-4A9D-8D68-BE85AB31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9DFF-D7E4-4089-82B0-64BDA3DA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427F-0ED6-40C4-84BD-4CD7075A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808C-D3CC-4B07-BEBC-A9B9A849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5624-7521-4B04-8DFF-58F6897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369-3588-41C5-AF52-EC8F3F60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5BE2-FAB8-457E-AD53-9B12DDFB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F11B-2B31-4CA0-AA94-4332F48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3081-BFA4-481B-854C-94E7B87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3271-AF70-4261-853C-322BC7CB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686B-5AFB-4E19-950E-A36A859F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A32B-2843-4FF6-A8C9-F1E3F34B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2228-51E1-494F-AE09-45944FD3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B195-E228-4E0F-81AE-D125F289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0A6D-551A-47A7-8BCF-39F45B6F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8EB8-284B-4911-9E1F-29668702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FCA-F8CF-4C3C-BF26-3654F69A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7942-A27E-4741-8D47-21706D61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4CD1-0414-4940-BC82-D369301F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5A2F-5725-4F78-BEFD-5A1EFFD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2E5A-7BAD-4C9D-84E1-FDE8EB04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D87F-D7BC-4F91-8E59-32D75799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3888-3A0B-45F0-A401-E62F7967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57B4-EF31-4B6C-AB6D-57B5284A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535-1A19-43C9-9040-C558441A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B94-D31F-491D-91B8-3A2A81A3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73E-F4D7-4043-BADF-651EFDC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BD1-30C1-43CC-8B5F-C57CF9AF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94F-D23A-4B05-BC60-67C50C49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B77-BC2B-471D-BA1B-9CF6960D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6C4-3B15-4693-97B2-5D96FE6B27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7EA-AED8-4723-87E4-BC11E7278D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9D43-15C0-4D88-9D86-BE2F90249D9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564000" y="5105520"/>
            <a:ext cx="558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ерівник дипломного проекту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.т.н., доцент кафедри ТАМ Муляр Ю.І.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Розробив студент гр. 1ТМ-14сп                                            Поважний О.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52000" y="1828800"/>
            <a:ext cx="87123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Модернізація технологічного процесу та технологічного оснащення механічної обробки деталі «Вал П-47»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" descr=""/>
          <p:cNvPicPr/>
          <p:nvPr/>
        </p:nvPicPr>
        <p:blipFill>
          <a:blip r:embed="rId1"/>
          <a:stretch/>
        </p:blipFill>
        <p:spPr>
          <a:xfrm>
            <a:off x="1332000" y="-1395360"/>
            <a:ext cx="6985080" cy="804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2130480" y="0"/>
            <a:ext cx="4883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2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2" descr=""/>
          <p:cNvPicPr/>
          <p:nvPr/>
        </p:nvPicPr>
        <p:blipFill>
          <a:blip r:embed="rId1"/>
          <a:stretch/>
        </p:blipFill>
        <p:spPr>
          <a:xfrm>
            <a:off x="2168640" y="0"/>
            <a:ext cx="4806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СНОВКИ ПО РОБО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 процесі виконання дипломного проекту виконано наступ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техніко-економічне обгрунтування теми робо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наведена характеристика о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кту роботи – деталі «Вал П-4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зроблено критичний аналіз існуючої маршрутної технології і розроблено два нових модернізованих процеси, з яких, після необхідних розрахунків і обгрунтувань було попередньо вибрано од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брано тип виготовлення заготовки, вибрано методи і к-сть переходів обробки для найбільш точних поверхонь, вибрано та обгрунтовано чорнові та чистові технологічні баз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розроблено два модернізовані процеси, проаналізовано техніко-економічні показники і вибрано найкращ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о розмірний аналіз технологічного процесу та аналітичним способом розраховані припуски та технологічні розміри для найбільш точної поверхні – поверхня Ø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k5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значено аналітичним та нормативним способом режими різання, розраховані норми час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ий розрахунок приведеної програми для нормативного завантаження обладна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спроектовано верстатне пристосування для обробки деталі на фрезерній операц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о підбір робота-маніпулятора для автоматизації фрезерної операц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здійснено економічне обгрунтування доцільності модернізації, розраховані витрати на модернізацію, зменшення собівартостів виготовлення деталі та визначено термін окупності даної модернізац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ий розділ «Охорона праці» та «Безпека в надзвичайний ситуаціях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виконана графічна частина роб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239760" y="0"/>
            <a:ext cx="8664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214632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"/>
          <p:cNvPicPr/>
          <p:nvPr/>
        </p:nvPicPr>
        <p:blipFill>
          <a:blip r:embed="rId1"/>
          <a:stretch/>
        </p:blipFill>
        <p:spPr>
          <a:xfrm>
            <a:off x="1692360" y="-139536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2" descr=""/>
          <p:cNvPicPr/>
          <p:nvPr/>
        </p:nvPicPr>
        <p:blipFill>
          <a:blip r:embed="rId1"/>
          <a:stretch/>
        </p:blipFill>
        <p:spPr>
          <a:xfrm>
            <a:off x="1187280" y="0"/>
            <a:ext cx="7320240" cy="1035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2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8:00:15Z</dcterms:created>
  <dc:creator>SamLab.ws</dc:creator>
  <dc:description/>
  <dc:language>en-US</dc:language>
  <cp:lastModifiedBy>Aleksandr Povazhnyy</cp:lastModifiedBy>
  <dcterms:modified xsi:type="dcterms:W3CDTF">2015-06-23T02:15:32Z</dcterms:modified>
  <cp:revision>27</cp:revision>
  <dc:subject/>
  <dc:title>   Технологічний процес механічної обробки деталі типу «Кришка»</dc:title>
</cp:coreProperties>
</file>