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E486-FB74-4453-897B-51EA4C25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E0B-656E-42F9-A4C4-D445C3A5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4613-68D2-46F8-B17A-9C3C679E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291-5D7D-496E-9491-DBD905C9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13F3-CEBE-4554-B42F-4DE15EB6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8F4D-4CB0-4F8A-895F-22C05C84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8CFF-6732-4180-ADCD-338FE3F2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9C1C-71B5-405C-9F2D-531913D7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9E4A-61FC-46B4-9D4B-877D6A48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F2B3-C8B2-406A-8EC3-FA97032F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7735-E3EB-4F67-BD6B-056723C9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9261-1262-4AA5-BB1E-BC832B61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1AB4-1F07-4524-A298-7902E4F8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E76C-4954-4053-9EC3-2F709B4B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E7FD-A79C-4108-93D1-E1D81960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0C5E-238C-47B0-BE4D-CC6865E8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7F50-80F3-4985-87D7-12EB5074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A14A0-932E-4160-838B-66DA5F34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750AA-5271-4AA9-B98C-A4B8035E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E729A-0E0B-4839-B125-3482A44E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10F42-A331-466F-8C79-6E38D1B8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2CE08-EBA4-480D-A59A-76216CE1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6156-CD17-4972-801F-EF61C738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69130-F993-40B2-BF8D-95AED8E7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765D4-7501-450D-B3BD-B617FE3B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52FA6-070A-4FDC-B807-0D7F1003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B6F1C-5D56-4281-AE8B-16637713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0F276-9994-45BB-AA32-45DCFE5F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248A7-0F6F-439B-BB4F-E5BAAFF6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70BFB-439D-4425-BFA2-C278D98E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2737-5AFB-4DBF-A452-95651A91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962B-F492-4159-8587-39623612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4DB-B478-4043-B1B9-F5D8C9F7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56EA-8DB3-4037-9338-B476866E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66B3-C2DA-41D4-BA0E-B6706A92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6663-F583-4917-88B7-10D65A1A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ACBF-8DBF-40A4-84BD-E561B8DE42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F1AB-D5C9-473D-958A-9F4F9FCA1F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F2D2-D580-4B34-9905-416788EF3538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3564000" y="5105520"/>
            <a:ext cx="5580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Керівник дипломного проекту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к.т.н., доцент кафедри ТАМ Муляр Ю.І.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Розробив студент гр. 1ТМ-14сп                                            Поважний О.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252000" y="1828800"/>
            <a:ext cx="871236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eec94"/>
                </a:solidFill>
                <a:latin typeface="Times New Roman"/>
              </a:rPr>
              <a:t>Модернізація технологічного процесу та технологічного оснащення механічної обробки деталі «Вал П-47»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1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2" descr=""/>
          <p:cNvPicPr/>
          <p:nvPr/>
        </p:nvPicPr>
        <p:blipFill>
          <a:blip r:embed="rId1"/>
          <a:stretch/>
        </p:blipFill>
        <p:spPr>
          <a:xfrm>
            <a:off x="1332000" y="-1395360"/>
            <a:ext cx="6985080" cy="804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1" descr=""/>
          <p:cNvPicPr/>
          <p:nvPr/>
        </p:nvPicPr>
        <p:blipFill>
          <a:blip r:embed="rId1"/>
          <a:stretch/>
        </p:blipFill>
        <p:spPr>
          <a:xfrm>
            <a:off x="2130480" y="0"/>
            <a:ext cx="4883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2" descr=""/>
          <p:cNvPicPr/>
          <p:nvPr/>
        </p:nvPicPr>
        <p:blipFill>
          <a:blip r:embed="rId1"/>
          <a:stretch/>
        </p:blipFill>
        <p:spPr>
          <a:xfrm>
            <a:off x="0" y="19836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0" y="19836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2" descr=""/>
          <p:cNvPicPr/>
          <p:nvPr/>
        </p:nvPicPr>
        <p:blipFill>
          <a:blip r:embed="rId1"/>
          <a:stretch/>
        </p:blipFill>
        <p:spPr>
          <a:xfrm>
            <a:off x="2168640" y="0"/>
            <a:ext cx="4806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1" descr=""/>
          <p:cNvPicPr/>
          <p:nvPr/>
        </p:nvPicPr>
        <p:blipFill>
          <a:blip r:embed="rId1"/>
          <a:stretch/>
        </p:blipFill>
        <p:spPr>
          <a:xfrm>
            <a:off x="0" y="19836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97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ИСНОВКИ ПО РОБО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 процесі виконання дипломного проекту виконано наступн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техніко-економічне обгрунтування теми робо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наведена характеристика о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єкту роботи – деталі «Вал П-47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зроблено критичний аналіз існуючої маршрутної технології і розроблено два нових модернізованих процеси, з яких, після необхідних розрахунків і обгрунтувань було попередньо вибрано оди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вибрано тип виготовлення заготовки, вибрано методи і к-сть переходів обробки для найбільш точних поверхонь, вибрано та обгрунтовано чорнові та чистові технологічні баз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розроблено два модернізовані процеси, проаналізовано техніко-економічні показники і вибрано найкращ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виконано розмірний аналіз технологічного процесу та аналітичним способом розраховані припуски та технологічні розміри для найбільш точної поверхні – поверхня Ø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k5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визначено аналітичним та нормативним способом режими різання, розраховані норми час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виконаний розрахунок приведеної програми для нормативного завантаження обладна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спроектовано верстатне пристосування для обробки деталі на фрезерній операції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виконано підбір робота-маніпулятора для автоматизації фрезерної операції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здійснено економічне обгрунтування доцільності модернізації, розраховані витрати на модернізацію, зменшення собівартостів виготовлення деталі та визначено термін окупності даної модернізації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виконаний розділ «Охорона праці» та «Безпека в надзвичайний ситуаціях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виконана графічна частина робо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Рисунок 1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1" descr=""/>
          <p:cNvPicPr/>
          <p:nvPr/>
        </p:nvPicPr>
        <p:blipFill>
          <a:blip r:embed="rId1"/>
          <a:stretch/>
        </p:blipFill>
        <p:spPr>
          <a:xfrm>
            <a:off x="239760" y="0"/>
            <a:ext cx="8664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1" descr=""/>
          <p:cNvPicPr/>
          <p:nvPr/>
        </p:nvPicPr>
        <p:blipFill>
          <a:blip r:embed="rId1"/>
          <a:stretch/>
        </p:blipFill>
        <p:spPr>
          <a:xfrm>
            <a:off x="2146320" y="0"/>
            <a:ext cx="4851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1" descr=""/>
          <p:cNvPicPr/>
          <p:nvPr/>
        </p:nvPicPr>
        <p:blipFill>
          <a:blip r:embed="rId1"/>
          <a:stretch/>
        </p:blipFill>
        <p:spPr>
          <a:xfrm>
            <a:off x="1692360" y="-1395360"/>
            <a:ext cx="6092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1" descr=""/>
          <p:cNvPicPr/>
          <p:nvPr/>
        </p:nvPicPr>
        <p:blipFill>
          <a:blip r:embed="rId1"/>
          <a:stretch/>
        </p:blipFill>
        <p:spPr>
          <a:xfrm>
            <a:off x="2149560" y="0"/>
            <a:ext cx="4844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2" descr=""/>
          <p:cNvPicPr/>
          <p:nvPr/>
        </p:nvPicPr>
        <p:blipFill>
          <a:blip r:embed="rId1"/>
          <a:stretch/>
        </p:blipFill>
        <p:spPr>
          <a:xfrm>
            <a:off x="1187280" y="0"/>
            <a:ext cx="7320240" cy="1035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1" descr=""/>
          <p:cNvPicPr/>
          <p:nvPr/>
        </p:nvPicPr>
        <p:blipFill>
          <a:blip r:embed="rId1"/>
          <a:stretch/>
        </p:blipFill>
        <p:spPr>
          <a:xfrm>
            <a:off x="0" y="19836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2" descr=""/>
          <p:cNvPicPr/>
          <p:nvPr/>
        </p:nvPicPr>
        <p:blipFill>
          <a:blip r:embed="rId1"/>
          <a:stretch/>
        </p:blipFill>
        <p:spPr>
          <a:xfrm>
            <a:off x="0" y="19836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18:00:15Z</dcterms:created>
  <dc:creator>SamLab.ws</dc:creator>
  <dc:description/>
  <dc:language>en-US</dc:language>
  <cp:lastModifiedBy>Aleksandr Povazhnyy</cp:lastModifiedBy>
  <dcterms:modified xsi:type="dcterms:W3CDTF">2015-06-23T02:15:32Z</dcterms:modified>
  <cp:revision>27</cp:revision>
  <dc:subject/>
  <dc:title>   Технологічний процес механічної обробки деталі типу «Кришка»</dc:title>
</cp:coreProperties>
</file>