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A6D-BCB2-4031-AEC3-998B0947A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C1E-E70C-4793-910D-4076F9DB2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CBC-3C1D-40A4-87A8-47212BF3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878-AC10-427C-96FD-4ABE0F5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B23-B10D-48E7-A53E-581C098D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5A5-49BF-4866-A28A-FCC20788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1CD-8745-4191-B592-4AFE3DB7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4A6-C472-4ED0-858A-5EBE030B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BB1-4EBB-4F3A-9F3D-37D884B0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BE2-EE6E-4C6B-8CD1-7DC0CACA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A72-9C08-4BC7-9901-B6662B57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C4F-D0A6-46D4-8CA3-DEC927F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BC3-763D-44EF-A163-99ACFEA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209-BAD6-4D1B-AA8E-4746C0C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973-3ADC-4F8D-8A1C-DB08C38D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Й НАВЧАЛЬНИЙ ЗАСІБ ДЛЯ ПРАКТИЧНОГО ОСВОЄННЯ ПРОЕКТУВАННЯ СИСТЕМ УПРАВЛІННЯ ЗА СТАНДАРТОМ ІЕС 614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60" y="49528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доцент Софина О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ла: студентка гр. КСУА-14сп з/в Волківська Т.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78480" y="643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320" y="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ипломний про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75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альний принцип комп’ютерного відтвор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у об’єктного проек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63720" y="990720"/>
          <a:ext cx="52992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90720"/>
                    <a:ext cx="52992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9"/>
          <p:cNvGraphicFramePr/>
          <p:nvPr/>
        </p:nvGraphicFramePr>
        <p:xfrm>
          <a:off x="380880" y="1357200"/>
          <a:ext cx="845820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57200"/>
                    <a:ext cx="845820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0"/>
          <p:cNvGraphicFramePr/>
          <p:nvPr/>
        </p:nvGraphicFramePr>
        <p:xfrm>
          <a:off x="609480" y="1371600"/>
          <a:ext cx="80010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Прямоугольник 1"/>
          <p:cNvSpPr/>
          <p:nvPr/>
        </p:nvSpPr>
        <p:spPr>
          <a:xfrm>
            <a:off x="97920" y="641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914400" y="1295280"/>
          <a:ext cx="66294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6629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1200" y="380160"/>
            <a:ext cx="75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сценарію навчальної гри на рівні діаграм прецед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3"/>
          <p:cNvGraphicFramePr/>
          <p:nvPr/>
        </p:nvGraphicFramePr>
        <p:xfrm>
          <a:off x="457200" y="1216080"/>
          <a:ext cx="784872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6080"/>
                    <a:ext cx="7848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32448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модель діалогу "студент - тренажер" при виконанні основної задачі трен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182520"/>
            <a:ext cx="237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 сценарію навчальної гри для етап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 фізичної реалізації систе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4"/>
          <p:cNvGraphicFramePr/>
          <p:nvPr/>
        </p:nvGraphicFramePr>
        <p:xfrm>
          <a:off x="3962520" y="304920"/>
          <a:ext cx="36003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04920"/>
                    <a:ext cx="36003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Прямоугольник 1"/>
          <p:cNvSpPr/>
          <p:nvPr/>
        </p:nvSpPr>
        <p:spPr>
          <a:xfrm>
            <a:off x="101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516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914400" y="304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на форма №1 для виконання етапу аналізу фізичної реалізації системи регул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7"/>
          <p:cNvGraphicFramePr/>
          <p:nvPr/>
        </p:nvGraphicFramePr>
        <p:xfrm>
          <a:off x="1295280" y="1676520"/>
          <a:ext cx="650556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0556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20"/>
          <p:cNvSpPr/>
          <p:nvPr/>
        </p:nvSpPr>
        <p:spPr>
          <a:xfrm>
            <a:off x="1523880" y="5971320"/>
            <a:ext cx="60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а схема автоматизації системи регул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20520" y="6370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1143000" y="4564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иділення областей функціональності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6"/>
          <p:cNvGraphicFramePr/>
          <p:nvPr/>
        </p:nvGraphicFramePr>
        <p:xfrm>
          <a:off x="1447920" y="1219320"/>
          <a:ext cx="5991120" cy="45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59911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Прямоугольник 1"/>
          <p:cNvSpPr/>
          <p:nvPr/>
        </p:nvSpPr>
        <p:spPr>
          <a:xfrm>
            <a:off x="2160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1523880" y="5971320"/>
            <a:ext cx="60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аналізу фізичної реалізації системи управлі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3654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ценарію навчальної гри для ета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Розробити  функціональні вимоги до компонентів ПЗ систем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0" y="6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7"/>
          <p:cNvGraphicFramePr/>
          <p:nvPr/>
        </p:nvGraphicFramePr>
        <p:xfrm>
          <a:off x="3200400" y="457200"/>
          <a:ext cx="54579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7200"/>
                    <a:ext cx="54579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Прямоугольник 1"/>
          <p:cNvSpPr/>
          <p:nvPr/>
        </p:nvSpPr>
        <p:spPr>
          <a:xfrm>
            <a:off x="87480" y="6415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8516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990720" y="3801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нна форма для виконання етапу опису функціональних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2611440" y="6047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опису функціональних вим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7"/>
          <p:cNvGraphicFramePr/>
          <p:nvPr/>
        </p:nvGraphicFramePr>
        <p:xfrm>
          <a:off x="1066680" y="1371600"/>
          <a:ext cx="7029720" cy="38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02972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Прямоугольник 1"/>
          <p:cNvSpPr/>
          <p:nvPr/>
        </p:nvSpPr>
        <p:spPr>
          <a:xfrm>
            <a:off x="9684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0"/>
          <p:cNvSpPr/>
          <p:nvPr/>
        </p:nvSpPr>
        <p:spPr>
          <a:xfrm>
            <a:off x="609480" y="38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много проекту є розробка відкритого, дешевого та методологічно ефективного комп’ютерного навчального засобу, який сприятиме підвищенню ефективності навчального процесу освоєння студентами проектування систем управління за міжнародним стандартом ІЕС 614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7848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09480" y="2442960"/>
            <a:ext cx="8229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ен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удентів спеціальностей 7.05020101 та 8.05020101 "Комп’ютеризовані системи управління та автоматика», які вивчають  дисципліну "Проектування комп’ютеризованих систем управлінн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засіб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ен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ити умови для індивідуальної когнітивної діяльності студента при рішенні реальної проектної задачі, що сприятиме формуванню професійно-орієнтованих практичних умінь та навичок проектування, які не в змозі  дати ні лабораторні, ні практичні, ні лекційні заня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4800600" y="2433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 сценарію навчальної гри для етапу "Вибір базового функціонального блоку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20"/>
          <p:cNvGraphicFramePr/>
          <p:nvPr/>
        </p:nvGraphicFramePr>
        <p:xfrm>
          <a:off x="609480" y="380880"/>
          <a:ext cx="383544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3835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Прямоугольник 1"/>
          <p:cNvSpPr/>
          <p:nvPr/>
        </p:nvSpPr>
        <p:spPr>
          <a:xfrm>
            <a:off x="9684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79840" y="640080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066680" y="380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ранна форма №1 для вибору базового функціонального бл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17"/>
          <p:cNvGraphicFramePr/>
          <p:nvPr/>
        </p:nvGraphicFramePr>
        <p:xfrm>
          <a:off x="1143000" y="1523880"/>
          <a:ext cx="701028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0102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Прямоугольник 1"/>
          <p:cNvSpPr/>
          <p:nvPr/>
        </p:nvSpPr>
        <p:spPr>
          <a:xfrm>
            <a:off x="20520" y="644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2177280" y="613944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базового ФБ, описаного в стандарті  ІЕС 614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066680" y="380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ранна форма №2 для вибору базового функціонального бл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180880" y="6139440"/>
            <a:ext cx="45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опису інтерфейсів вибраного базового Ф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9"/>
          <p:cNvGraphicFramePr/>
          <p:nvPr/>
        </p:nvGraphicFramePr>
        <p:xfrm>
          <a:off x="1143000" y="1600200"/>
          <a:ext cx="643896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4389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Прямоугольник 1"/>
          <p:cNvSpPr/>
          <p:nvPr/>
        </p:nvSpPr>
        <p:spPr>
          <a:xfrm>
            <a:off x="2160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1789560" y="624744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тановлення зв’язків виходів одного ФБ з входами інших Ф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20"/>
          <p:cNvGraphicFramePr/>
          <p:nvPr/>
        </p:nvGraphicFramePr>
        <p:xfrm>
          <a:off x="1523880" y="990720"/>
          <a:ext cx="62294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62294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рямоугольник 1"/>
          <p:cNvSpPr/>
          <p:nvPr/>
        </p:nvSpPr>
        <p:spPr>
          <a:xfrm>
            <a:off x="21600" y="6431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76320" y="61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кранна форма для етапу опису інтерфейсів у об’єктній моделі систе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719280" y="303840"/>
            <a:ext cx="77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хітектура програмного забезпечення комп’ютерного трена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21"/>
          <p:cNvGraphicFramePr/>
          <p:nvPr/>
        </p:nvGraphicFramePr>
        <p:xfrm>
          <a:off x="1914480" y="914400"/>
          <a:ext cx="56293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914400"/>
                    <a:ext cx="56293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Прямоугольник 1"/>
          <p:cNvSpPr/>
          <p:nvPr/>
        </p:nvSpPr>
        <p:spPr>
          <a:xfrm>
            <a:off x="2052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0"/>
          <p:cNvSpPr/>
          <p:nvPr/>
        </p:nvSpPr>
        <p:spPr>
          <a:xfrm>
            <a:off x="1658160" y="7560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алгоритмічного забезпечення шаблон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йлів презентації навчальних проектних зада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0" y="-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21"/>
          <p:cNvGraphicFramePr/>
          <p:nvPr/>
        </p:nvGraphicFramePr>
        <p:xfrm>
          <a:off x="914400" y="1066680"/>
          <a:ext cx="31464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3146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24"/>
          <p:cNvSpPr/>
          <p:nvPr/>
        </p:nvSpPr>
        <p:spPr>
          <a:xfrm>
            <a:off x="0" y="-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3"/>
          <p:cNvGraphicFramePr/>
          <p:nvPr/>
        </p:nvGraphicFramePr>
        <p:xfrm>
          <a:off x="5105520" y="914400"/>
          <a:ext cx="305100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914400"/>
                    <a:ext cx="305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Прямоугольник 1"/>
          <p:cNvSpPr/>
          <p:nvPr/>
        </p:nvSpPr>
        <p:spPr>
          <a:xfrm>
            <a:off x="21600" y="6431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0" y="-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0" y="-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959760" y="-720"/>
            <a:ext cx="74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клад виконання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з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множи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ору зв’язків між двома ФБ об’єктної модел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0" y="-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0" y="-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2" descr="Слайд_множинний вибір"/>
          <p:cNvPicPr/>
          <p:nvPr/>
        </p:nvPicPr>
        <p:blipFill>
          <a:blip r:embed="rId1"/>
          <a:stretch/>
        </p:blipFill>
        <p:spPr>
          <a:xfrm>
            <a:off x="1676520" y="1143000"/>
            <a:ext cx="6114960" cy="4584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96840" y="64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49080" y="38052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ні навчальні засоби навчально-методичного комплек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НМК) професійно-орієнтованої дисципл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2286000" y="1276200"/>
          <a:ext cx="51246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76200"/>
                    <a:ext cx="51246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Прямоугольник 1"/>
          <p:cNvSpPr/>
          <p:nvPr/>
        </p:nvSpPr>
        <p:spPr>
          <a:xfrm>
            <a:off x="76320" y="640080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657600"/>
            <a:ext cx="167616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515600" y="304200"/>
            <a:ext cx="62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иток стандартів проектного опису промисл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поділених 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219320" y="1224000"/>
          <a:ext cx="716256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24000"/>
                    <a:ext cx="716256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Прямоугольник 1"/>
          <p:cNvSpPr/>
          <p:nvPr/>
        </p:nvSpPr>
        <p:spPr>
          <a:xfrm>
            <a:off x="77760" y="6324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629400" y="990720"/>
          <a:ext cx="21049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990720"/>
                    <a:ext cx="21049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V="1">
            <a:off x="5715000" y="2362320"/>
            <a:ext cx="838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715000" y="5029200"/>
          <a:ext cx="342900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5029200"/>
                    <a:ext cx="3429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458200" y="33526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715040" y="3042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9"/>
          <p:cNvGraphicFramePr/>
          <p:nvPr/>
        </p:nvGraphicFramePr>
        <p:xfrm>
          <a:off x="1371600" y="1371600"/>
          <a:ext cx="662940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6294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Прямоугольник 1"/>
          <p:cNvSpPr/>
          <p:nvPr/>
        </p:nvSpPr>
        <p:spPr>
          <a:xfrm>
            <a:off x="7776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58960" y="1406520"/>
          <a:ext cx="5626080" cy="4059360"/>
        </p:xfrm>
        <a:graphic>
          <a:graphicData uri="http://schemas.openxmlformats.org/drawingml/2006/table">
            <a:tbl>
              <a:tblPr/>
              <a:tblGrid>
                <a:gridCol w="2117880"/>
                <a:gridCol w="1752480"/>
                <a:gridCol w="175572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ажер на осно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ISaGRAF 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розробка комп’ютерного трена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аріант №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ійно-орієнт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ренажера за результатом формування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дур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бри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індивідуальн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групової навчальн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1"/>
          <p:cNvSpPr/>
          <p:nvPr/>
        </p:nvSpPr>
        <p:spPr>
          <a:xfrm>
            <a:off x="91800" y="6324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257840" y="22824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івнювальний аналіз аналогічного та нового нау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ого рішення навчального засо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1080" y="609480"/>
          <a:ext cx="4800600" cy="5851800"/>
        </p:xfrm>
        <a:graphic>
          <a:graphicData uri="http://schemas.openxmlformats.org/drawingml/2006/table">
            <a:tbl>
              <a:tblPr/>
              <a:tblGrid>
                <a:gridCol w="1806840"/>
                <a:gridCol w="1496880"/>
                <a:gridCol w="14968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тримка дистанційного нав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ROM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через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ern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не та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тацій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іб побудови навчальної інформаційної моделі об’єкту чи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лгоритміч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ренажера з урахуванням фактора ча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ний (ситуаційн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ійна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струментальна система розробки ПЗ тренаж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Visual St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 до інструментальної системи розроб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ж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навчальних заклад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 складності розробки 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універсальній мові програмуванн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сті макрос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ограмне забезпеч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ий промисловий  П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складності розробки інтерфейсу між навчально-інформаційною моделлю та функціональною модель процес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грамування на системному рівні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будовані механізм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Office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1"/>
          <p:cNvSpPr/>
          <p:nvPr/>
        </p:nvSpPr>
        <p:spPr>
          <a:xfrm>
            <a:off x="154800" y="643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1443960" y="380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моделі освоєння навчального матеріа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9"/>
          <p:cNvGraphicFramePr/>
          <p:nvPr/>
        </p:nvGraphicFramePr>
        <p:xfrm>
          <a:off x="1600200" y="923760"/>
          <a:ext cx="604836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23760"/>
                    <a:ext cx="604836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1"/>
          <p:cNvSpPr/>
          <p:nvPr/>
        </p:nvSpPr>
        <p:spPr>
          <a:xfrm>
            <a:off x="7776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6320" y="-720"/>
            <a:ext cx="75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матична система регулювання температури в промислов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івальній печ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0" y="1447920"/>
          <a:ext cx="41054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1054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4591080" y="990720"/>
          <a:ext cx="4552920" cy="561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990720"/>
                    <a:ext cx="455292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Прямоугольник 1"/>
          <p:cNvSpPr/>
          <p:nvPr/>
        </p:nvSpPr>
        <p:spPr>
          <a:xfrm>
            <a:off x="79200" y="64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752480"/>
            <a:ext cx="23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на модель за стандартом  ІЕС 61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181480"/>
            <a:ext cx="237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хема сист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3T05:44:3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