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27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F405-25FB-40E0-88F2-4931E413BF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8410-1DE6-417A-B596-17CB7B7412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CDF-0EE8-4E75-ADA4-28D68BA2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8C8-3AF9-4FEE-A5FC-DB8DCBD5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733-4757-4007-94AD-1C0DBE80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D7E-1CCD-4C1A-82AF-86AD9164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04C-3D75-4E5A-B127-B519508C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035-016B-4D29-85C8-A0F9C922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ED1-BFD4-4378-8177-7F7C4F4A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9EA-1E3E-48E7-B267-87BD79F7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CEA-502B-4056-B593-32AC5C2D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5AE-9220-4EB3-BEE9-62CB7A08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8B3-02BA-4E54-9F1A-742E3C40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4CA-4465-4E8D-93CF-386F444F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603A-B569-4480-B0A5-AED3074BE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’ЮТЕРНИЙ НАВЧАЛЬНИЙ ЗАСІБ ДЛЯ ПРАКТИЧНОГО ОСВОЄННЯ ПРОЕКТУВАННЯ СИСТЕМ УПРАВЛІННЯ ЗА СТАНДАРТОМ ІЕС 614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960" y="49528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ерівник проекту: к.т.н., доцент Софина О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робила: студентка гр. КСУА-14сп з/в Волківська Т.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78480" y="643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76320" y="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ипломний проек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38080" y="7560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гальний принцип комп’ютерного відтвор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у об’єктного проект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20520" y="64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63720" y="990720"/>
          <a:ext cx="529920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3720" y="990720"/>
                    <a:ext cx="52992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81200" y="380160"/>
            <a:ext cx="75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сценарію навчальної гри на рівні діаграм прецеденті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9"/>
          <p:cNvGraphicFramePr/>
          <p:nvPr/>
        </p:nvGraphicFramePr>
        <p:xfrm>
          <a:off x="380880" y="1357200"/>
          <a:ext cx="8458200" cy="46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57200"/>
                    <a:ext cx="8458200" cy="46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Прямоугольник 1"/>
          <p:cNvSpPr/>
          <p:nvPr/>
        </p:nvSpPr>
        <p:spPr>
          <a:xfrm>
            <a:off x="20520" y="64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781200" y="380160"/>
            <a:ext cx="75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сценарію навчальної гри на рівні діаграм прецеденті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10"/>
          <p:cNvGraphicFramePr/>
          <p:nvPr/>
        </p:nvGraphicFramePr>
        <p:xfrm>
          <a:off x="609480" y="1371600"/>
          <a:ext cx="8001000" cy="47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00100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Прямоугольник 1"/>
          <p:cNvSpPr/>
          <p:nvPr/>
        </p:nvSpPr>
        <p:spPr>
          <a:xfrm>
            <a:off x="97920" y="6419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81200" y="380160"/>
            <a:ext cx="75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сценарію навчальної гри на рівні діаграм прецеденті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12"/>
          <p:cNvGraphicFramePr/>
          <p:nvPr/>
        </p:nvGraphicFramePr>
        <p:xfrm>
          <a:off x="914400" y="1295280"/>
          <a:ext cx="662940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662940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Прямоугольник 1"/>
          <p:cNvSpPr/>
          <p:nvPr/>
        </p:nvSpPr>
        <p:spPr>
          <a:xfrm>
            <a:off x="20520" y="64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81200" y="380160"/>
            <a:ext cx="75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сценарію навчальної гри на рівні діаграм прецеденті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13"/>
          <p:cNvGraphicFramePr/>
          <p:nvPr/>
        </p:nvGraphicFramePr>
        <p:xfrm>
          <a:off x="457200" y="1216080"/>
          <a:ext cx="7848720" cy="47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6080"/>
                    <a:ext cx="784872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Прямоугольник 1"/>
          <p:cNvSpPr/>
          <p:nvPr/>
        </p:nvSpPr>
        <p:spPr>
          <a:xfrm>
            <a:off x="20520" y="64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632448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модель діалогу "студент - тренажер" при виконанні основної задачі трен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57200" y="182520"/>
            <a:ext cx="237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дель сценарію навчальної гри для етап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із фізичної реалізації систем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14"/>
          <p:cNvGraphicFramePr/>
          <p:nvPr/>
        </p:nvGraphicFramePr>
        <p:xfrm>
          <a:off x="3962520" y="304920"/>
          <a:ext cx="360036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04920"/>
                    <a:ext cx="360036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Прямоугольник 1"/>
          <p:cNvSpPr/>
          <p:nvPr/>
        </p:nvSpPr>
        <p:spPr>
          <a:xfrm>
            <a:off x="101520" y="64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5160" y="640080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аграма діяль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914400" y="304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нна форма №1 для виконання етапу аналізу фізичної реалізації системи регулю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17"/>
          <p:cNvGraphicFramePr/>
          <p:nvPr/>
        </p:nvGraphicFramePr>
        <p:xfrm>
          <a:off x="1295280" y="1676520"/>
          <a:ext cx="6505560" cy="35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50556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20"/>
          <p:cNvSpPr/>
          <p:nvPr/>
        </p:nvSpPr>
        <p:spPr>
          <a:xfrm>
            <a:off x="1523880" y="5971320"/>
            <a:ext cx="609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ональна схема автоматизації системи регулю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"/>
          <p:cNvSpPr/>
          <p:nvPr/>
        </p:nvSpPr>
        <p:spPr>
          <a:xfrm>
            <a:off x="20520" y="6370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1143000" y="4564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иділення областей функціональності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16"/>
          <p:cNvGraphicFramePr/>
          <p:nvPr/>
        </p:nvGraphicFramePr>
        <p:xfrm>
          <a:off x="1447920" y="1219320"/>
          <a:ext cx="5991120" cy="45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19320"/>
                    <a:ext cx="599112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Прямоугольник 1"/>
          <p:cNvSpPr/>
          <p:nvPr/>
        </p:nvSpPr>
        <p:spPr>
          <a:xfrm>
            <a:off x="21600" y="6369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0"/>
          <p:cNvSpPr/>
          <p:nvPr/>
        </p:nvSpPr>
        <p:spPr>
          <a:xfrm>
            <a:off x="1523880" y="5971320"/>
            <a:ext cx="609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п аналізу фізичної реалізації системи управлін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36540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сценарію навчальної гри для ета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Розробити  функціональні вимоги до компонентів ПЗ системи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0" y="6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17"/>
          <p:cNvGraphicFramePr/>
          <p:nvPr/>
        </p:nvGraphicFramePr>
        <p:xfrm>
          <a:off x="3200400" y="457200"/>
          <a:ext cx="5457960" cy="56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57200"/>
                    <a:ext cx="545796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Прямоугольник 1"/>
          <p:cNvSpPr/>
          <p:nvPr/>
        </p:nvSpPr>
        <p:spPr>
          <a:xfrm>
            <a:off x="87480" y="6415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85160" y="640080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аграма діяль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990720" y="38016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нна форма для виконання етапу опису функціональних вим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2611440" y="604764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п опису функціональних вим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17"/>
          <p:cNvGraphicFramePr/>
          <p:nvPr/>
        </p:nvGraphicFramePr>
        <p:xfrm>
          <a:off x="1066680" y="1371600"/>
          <a:ext cx="7029720" cy="38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029720" cy="38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Прямоугольник 1"/>
          <p:cNvSpPr/>
          <p:nvPr/>
        </p:nvSpPr>
        <p:spPr>
          <a:xfrm>
            <a:off x="96840" y="6369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0"/>
          <p:cNvSpPr/>
          <p:nvPr/>
        </p:nvSpPr>
        <p:spPr>
          <a:xfrm>
            <a:off x="609480" y="382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ю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пломного проекту є розробка відкритого, дешевого та методологічно ефективного комп’ютерного навчального засобу, який сприятиме підвищенню ефективності навчального процесу освоєння студентами проектування систем управління за міжнародним стандартом ІЕС 614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78480" y="640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609480" y="2442960"/>
            <a:ext cx="82296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ий засіб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чений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тудентів спеціальностей 7.05020101 та 8.05020101 "Комп’ютеризовані системи управління та автоматика», які вивчають  дисципліну "Проектування комп’ютеризованих систем управління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ий засіб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нен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ворити умови для індивідуальної когнітивної діяльності студента при рішенні реальної проектної задачі, що сприятиме формуванню професійно-орієнтованих практичних умінь та навичок проектування, які не в змозі  дати ні лабораторні, ні практичні, ні лекційні занятт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4800600" y="24336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дель сценарію навчальної гри для етапу "Вибір базового функціонального блоку"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0" y="-7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20"/>
          <p:cNvGraphicFramePr/>
          <p:nvPr/>
        </p:nvGraphicFramePr>
        <p:xfrm>
          <a:off x="609480" y="380880"/>
          <a:ext cx="383544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383544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Прямоугольник 1"/>
          <p:cNvSpPr/>
          <p:nvPr/>
        </p:nvSpPr>
        <p:spPr>
          <a:xfrm>
            <a:off x="96840" y="64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79840" y="640080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аграма діяль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1066680" y="3801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ранна форма №1 для вибору базового функціонального бл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0" y="-7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17"/>
          <p:cNvGraphicFramePr/>
          <p:nvPr/>
        </p:nvGraphicFramePr>
        <p:xfrm>
          <a:off x="1143000" y="1523880"/>
          <a:ext cx="701028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3880"/>
                    <a:ext cx="701028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Прямоугольник 1"/>
          <p:cNvSpPr/>
          <p:nvPr/>
        </p:nvSpPr>
        <p:spPr>
          <a:xfrm>
            <a:off x="20520" y="6446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8"/>
          <p:cNvSpPr/>
          <p:nvPr/>
        </p:nvSpPr>
        <p:spPr>
          <a:xfrm>
            <a:off x="2177280" y="613944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ір базового ФБ, описаного в стандарті  ІЕС 6149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1066680" y="3801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ранна форма №2 для вибору базового функціонального бл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0" y="-7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2180880" y="6139440"/>
            <a:ext cx="45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ння опису інтерфейсів вибраного базового Ф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Object 19"/>
          <p:cNvGraphicFramePr/>
          <p:nvPr/>
        </p:nvGraphicFramePr>
        <p:xfrm>
          <a:off x="1143000" y="1600200"/>
          <a:ext cx="643896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643896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Прямоугольник 1"/>
          <p:cNvSpPr/>
          <p:nvPr/>
        </p:nvSpPr>
        <p:spPr>
          <a:xfrm>
            <a:off x="21600" y="64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1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"/>
          <p:cNvSpPr/>
          <p:nvPr/>
        </p:nvSpPr>
        <p:spPr>
          <a:xfrm>
            <a:off x="0" y="-7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6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7"/>
          <p:cNvSpPr/>
          <p:nvPr/>
        </p:nvSpPr>
        <p:spPr>
          <a:xfrm>
            <a:off x="1789560" y="6247440"/>
            <a:ext cx="560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становлення зв’язків виходів одного ФБ з входами інших Ф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1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20"/>
          <p:cNvGraphicFramePr/>
          <p:nvPr/>
        </p:nvGraphicFramePr>
        <p:xfrm>
          <a:off x="1523880" y="990720"/>
          <a:ext cx="6229440" cy="46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622944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Прямоугольник 1"/>
          <p:cNvSpPr/>
          <p:nvPr/>
        </p:nvSpPr>
        <p:spPr>
          <a:xfrm>
            <a:off x="21600" y="6431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2"/>
          <p:cNvSpPr/>
          <p:nvPr/>
        </p:nvSpPr>
        <p:spPr>
          <a:xfrm>
            <a:off x="76320" y="619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кранна форма для етапу опису інтерфейсів у об’єктній моделі систе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0" y="-7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0"/>
          <p:cNvSpPr/>
          <p:nvPr/>
        </p:nvSpPr>
        <p:spPr>
          <a:xfrm>
            <a:off x="719280" y="303840"/>
            <a:ext cx="77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рхітектура програмного забезпечення комп’ютерного тренаж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21"/>
          <p:cNvGraphicFramePr/>
          <p:nvPr/>
        </p:nvGraphicFramePr>
        <p:xfrm>
          <a:off x="1914480" y="914400"/>
          <a:ext cx="562932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4480" y="914400"/>
                    <a:ext cx="562932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Прямоугольник 1"/>
          <p:cNvSpPr/>
          <p:nvPr/>
        </p:nvSpPr>
        <p:spPr>
          <a:xfrm>
            <a:off x="20520" y="64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2"/>
          <p:cNvSpPr/>
          <p:nvPr/>
        </p:nvSpPr>
        <p:spPr>
          <a:xfrm>
            <a:off x="0" y="-7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5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0"/>
          <p:cNvSpPr/>
          <p:nvPr/>
        </p:nvSpPr>
        <p:spPr>
          <a:xfrm>
            <a:off x="1658160" y="75600"/>
            <a:ext cx="63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алгоритмічного забезпечення шаблону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йлів презентації навчальних проектних зада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2"/>
          <p:cNvSpPr/>
          <p:nvPr/>
        </p:nvSpPr>
        <p:spPr>
          <a:xfrm>
            <a:off x="0" y="-8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Object 21"/>
          <p:cNvGraphicFramePr/>
          <p:nvPr/>
        </p:nvGraphicFramePr>
        <p:xfrm>
          <a:off x="914400" y="1066680"/>
          <a:ext cx="31464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066680"/>
                    <a:ext cx="31464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Rectangle 24"/>
          <p:cNvSpPr/>
          <p:nvPr/>
        </p:nvSpPr>
        <p:spPr>
          <a:xfrm>
            <a:off x="0" y="-86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Object 23"/>
          <p:cNvGraphicFramePr/>
          <p:nvPr/>
        </p:nvGraphicFramePr>
        <p:xfrm>
          <a:off x="5105520" y="914400"/>
          <a:ext cx="305100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1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914400"/>
                    <a:ext cx="3051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Прямоугольник 1"/>
          <p:cNvSpPr/>
          <p:nvPr/>
        </p:nvSpPr>
        <p:spPr>
          <a:xfrm>
            <a:off x="21600" y="6431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0" y="-7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3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6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7"/>
          <p:cNvSpPr/>
          <p:nvPr/>
        </p:nvSpPr>
        <p:spPr>
          <a:xfrm>
            <a:off x="959760" y="-720"/>
            <a:ext cx="74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риклад виконання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Point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з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множи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ору зв’язків між двома ФБ об’єктної моделі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8"/>
          <p:cNvSpPr/>
          <p:nvPr/>
        </p:nvSpPr>
        <p:spPr>
          <a:xfrm>
            <a:off x="0" y="-8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0"/>
          <p:cNvSpPr/>
          <p:nvPr/>
        </p:nvSpPr>
        <p:spPr>
          <a:xfrm>
            <a:off x="0" y="-86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2" descr="Слайд_множинний вибір"/>
          <p:cNvPicPr/>
          <p:nvPr/>
        </p:nvPicPr>
        <p:blipFill>
          <a:blip r:embed="rId1"/>
          <a:stretch/>
        </p:blipFill>
        <p:spPr>
          <a:xfrm>
            <a:off x="1676520" y="1143000"/>
            <a:ext cx="6114960" cy="458460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1"/>
          <p:cNvSpPr/>
          <p:nvPr/>
        </p:nvSpPr>
        <p:spPr>
          <a:xfrm>
            <a:off x="96840" y="64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49080" y="380520"/>
            <a:ext cx="76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нні навчальні засоби навчально-методичного комплек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НМК) професійно-орієнтованої дисциплі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52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7"/>
          <p:cNvGraphicFramePr/>
          <p:nvPr/>
        </p:nvGraphicFramePr>
        <p:xfrm>
          <a:off x="2286000" y="1276200"/>
          <a:ext cx="5124600" cy="512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76200"/>
                    <a:ext cx="5124600" cy="51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Прямоугольник 1"/>
          <p:cNvSpPr/>
          <p:nvPr/>
        </p:nvSpPr>
        <p:spPr>
          <a:xfrm>
            <a:off x="76320" y="6400800"/>
            <a:ext cx="3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657600"/>
            <a:ext cx="1676160" cy="1295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1515600" y="304200"/>
            <a:ext cx="628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виток стандартів проектного опису промислов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поділених 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7"/>
          <p:cNvGraphicFramePr/>
          <p:nvPr/>
        </p:nvGraphicFramePr>
        <p:xfrm>
          <a:off x="1219320" y="1224000"/>
          <a:ext cx="7162560" cy="47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24000"/>
                    <a:ext cx="716256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Прямоугольник 1"/>
          <p:cNvSpPr/>
          <p:nvPr/>
        </p:nvSpPr>
        <p:spPr>
          <a:xfrm>
            <a:off x="77760" y="6324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629400" y="990720"/>
          <a:ext cx="2104920" cy="21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990720"/>
                    <a:ext cx="21049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 flipV="1">
            <a:off x="5715000" y="2362320"/>
            <a:ext cx="8380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715000" y="5029200"/>
          <a:ext cx="342900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5029200"/>
                    <a:ext cx="34290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8458200" y="335268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1715040" y="304200"/>
            <a:ext cx="66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івнювальний аналіз аналогічного та нового науко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ічного рішення навчального засо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9"/>
          <p:cNvGraphicFramePr/>
          <p:nvPr/>
        </p:nvGraphicFramePr>
        <p:xfrm>
          <a:off x="1371600" y="1371600"/>
          <a:ext cx="662940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662940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Прямоугольник 1"/>
          <p:cNvSpPr/>
          <p:nvPr/>
        </p:nvSpPr>
        <p:spPr>
          <a:xfrm>
            <a:off x="77760" y="640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58960" y="1406520"/>
          <a:ext cx="5626080" cy="4059360"/>
        </p:xfrm>
        <a:graphic>
          <a:graphicData uri="http://schemas.openxmlformats.org/drawingml/2006/table">
            <a:tbl>
              <a:tblPr/>
              <a:tblGrid>
                <a:gridCol w="2117880"/>
                <a:gridCol w="1752480"/>
                <a:gridCol w="1755720"/>
              </a:tblGrid>
              <a:tr h="944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ажер на основ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 ISaGRAF 5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аріант №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 розробка комп’ютерного трена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аріант №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ійно-орієнт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ренажера за результатом формування зн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дур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ібри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тримка індивідуальної навчальної роб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тримка групової навчальної роб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Прямоугольник 1"/>
          <p:cNvSpPr/>
          <p:nvPr/>
        </p:nvSpPr>
        <p:spPr>
          <a:xfrm>
            <a:off x="91800" y="6324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257840" y="228240"/>
            <a:ext cx="66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івнювальний аналіз аналогічного та нового науко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ічного рішення навчального засо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981080" y="609480"/>
          <a:ext cx="4800600" cy="5851800"/>
        </p:xfrm>
        <a:graphic>
          <a:graphicData uri="http://schemas.openxmlformats.org/drawingml/2006/table">
            <a:tbl>
              <a:tblPr/>
              <a:tblGrid>
                <a:gridCol w="1806840"/>
                <a:gridCol w="1496880"/>
                <a:gridCol w="14968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тримка дистанційного навч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ROM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а через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erne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не та програмне забезпеч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моделі об’єкту чи проце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тацій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тацій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іб побудови навчальної інформаційної моделі об’єкту чи проце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іч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лгоритміч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тренажера з урахуванням фактора ча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чний (ситуаційни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чний (ситуаційни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ійна систе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d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d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струментальна система розробки ПЗ тренаж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Visual St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Off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уп до інструментальної системи розроб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меж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навчальних заклад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ль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пень складності розробки П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а універсальній мові програмуванн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ь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ості макрос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Office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кове програмне забезпеч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ізований промисловий  ПП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пінь складності розробки інтерфейсу між навчально-інформаційною моделлю та функціональною модель проце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ограмування на системному рівні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ь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будовані механізм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Office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88" name="Прямоугольник 1"/>
          <p:cNvSpPr/>
          <p:nvPr/>
        </p:nvSpPr>
        <p:spPr>
          <a:xfrm>
            <a:off x="154800" y="643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8"/>
          <p:cNvSpPr/>
          <p:nvPr/>
        </p:nvSpPr>
        <p:spPr>
          <a:xfrm>
            <a:off x="1443960" y="380160"/>
            <a:ext cx="60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моделі освоєння навчального матеріал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0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29"/>
          <p:cNvGraphicFramePr/>
          <p:nvPr/>
        </p:nvGraphicFramePr>
        <p:xfrm>
          <a:off x="1600200" y="923760"/>
          <a:ext cx="6048360" cy="593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23760"/>
                    <a:ext cx="6048360" cy="59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Прямоугольник 1"/>
          <p:cNvSpPr/>
          <p:nvPr/>
        </p:nvSpPr>
        <p:spPr>
          <a:xfrm>
            <a:off x="77760" y="640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16320" y="-720"/>
            <a:ext cx="75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матична система регулювання температури в промислові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грівальній печ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7"/>
          <p:cNvGraphicFramePr/>
          <p:nvPr/>
        </p:nvGraphicFramePr>
        <p:xfrm>
          <a:off x="0" y="1447920"/>
          <a:ext cx="410544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410544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9"/>
          <p:cNvGraphicFramePr/>
          <p:nvPr/>
        </p:nvGraphicFramePr>
        <p:xfrm>
          <a:off x="4591080" y="990720"/>
          <a:ext cx="4552920" cy="561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1080" y="990720"/>
                    <a:ext cx="4552920" cy="56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Прямоугольник 1"/>
          <p:cNvSpPr/>
          <p:nvPr/>
        </p:nvSpPr>
        <p:spPr>
          <a:xfrm>
            <a:off x="79200" y="640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1752480"/>
            <a:ext cx="237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’єктна модель за стандартом  ІЕС 614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5181480"/>
            <a:ext cx="237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схема систе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6-13T05:44:35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