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28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4.png" ContentType="image/png"/>
  <Override PartName="/ppt/media/image2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8B9-1EEB-4C64-BDA1-517A44E6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43C-0465-47E8-B144-B74F4872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5C2-426D-49AE-9A38-81E3F7CD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E75-57C6-48CE-892F-0A340F21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025-A05F-4671-B2AD-61DFA6E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E29-7A97-4C7F-B74D-E18CC62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4B6-BAE0-4A8C-A2C2-93002806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266-5595-4FF4-9FD0-8C9F9FA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432-888A-428F-B6F5-0955099C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0FF-23A6-405E-9745-F0E628C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390-53DB-45A9-A697-93A88BC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48E-1428-43EA-A353-244EF1A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AEE-5064-4103-B724-BBF4CA3A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br>
              <a:rPr sz="20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ИЗОВАНИЙ НАВЧАЛЬНИЙ ЗАСІБ ДЛЯ ПРАКТИЧНОГО ВИВЧЕННЯ ПРОГРАМНО-АПАРАТНИХ ЗАСОБІВ ВПЛИВУ НА ОБ’ЄКТ УПРАВЛІННЯ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 проекту: к.т.н., професор Скидан Ю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Пневський Я.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0600"/>
            <a:ext cx="861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гальна конфігурація універсальної комп’ютеризованої лаборато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акультету КСА В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1209600"/>
          <a:ext cx="72388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09600"/>
                    <a:ext cx="723888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763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оптимального навчального процесу, що має забезпечувати проектований навчальний за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752480"/>
          <a:ext cx="684864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84864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нфігурація нового комп’ютеризованого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9880" y="6480"/>
            <a:ext cx="5131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прощена функціональна схема комбінованої моделі виконавчого прист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125360"/>
          <a:ext cx="7467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5360"/>
                    <a:ext cx="7467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автоматизації функціональна системи регулювання, що моделює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0600" y="1535040"/>
          <a:ext cx="7915320" cy="41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535040"/>
                    <a:ext cx="791532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677880"/>
          <a:ext cx="800100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77880"/>
                    <a:ext cx="800100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функціона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617400"/>
          <a:ext cx="8076960" cy="57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17400"/>
                    <a:ext cx="807696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підклю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546120"/>
          <a:ext cx="7924680" cy="588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46120"/>
                    <a:ext cx="792468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320" y="16668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числювальні ресурси вибраної конфігурації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4280" y="1752480"/>
          <a:ext cx="829620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752480"/>
                    <a:ext cx="829620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рхітектура програм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660240"/>
          <a:ext cx="822960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60240"/>
                    <a:ext cx="822960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25480"/>
            <a:ext cx="8610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етою розробк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є створення на основі обладнання універсальної комп’ютеризованої лабораторії ФКСА ВНТУ такого навчального засобу, який би забезпечував широкий спектр тематики практичних занять по вивченню програмно-апаратних засобів впливу на об’єкт управління та вимагав мінімальних витратах коштів на реалізац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изначений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забезпечення практичного курсу навчальної дисципліни "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соби автоматизації комп’ютерних систем управлі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а викладається для студентів 3 курсу напряму підготовки 6.050201 - "Системна інженері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076640" y="4915080"/>
          <a:ext cx="506736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6640" y="4915080"/>
                    <a:ext cx="50673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3"/>
          <a:srcRect l="0" t="0" r="0" b="12562"/>
          <a:stretch/>
        </p:blipFill>
        <p:spPr>
          <a:xfrm>
            <a:off x="0" y="533520"/>
            <a:ext cx="5896080" cy="29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4800600" cy="329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оектування програмного забезпечення контролер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5000" y="380880"/>
            <a:ext cx="2593800" cy="19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743200" y="4389480"/>
            <a:ext cx="2232000" cy="23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4572000" y="1828800"/>
            <a:ext cx="4572000" cy="1978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486400" y="3057480"/>
            <a:ext cx="365760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533520" y="4770360"/>
            <a:ext cx="2457360" cy="20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кладальний кресл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1230480"/>
          <a:ext cx="8686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30480"/>
                    <a:ext cx="8686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єкти практичного вив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21932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ий виконавчий пристрій (регулюючий венти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0" y="2819520"/>
          <a:ext cx="424188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19520"/>
                    <a:ext cx="424188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876920" y="57913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автоматичного регулювання рівня рідини в ба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762120"/>
          <a:ext cx="177156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762120"/>
                    <a:ext cx="17715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рганізації комп’ютеризованого навчального засобу на основі реального виконавчого прист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143000"/>
          <a:ext cx="664848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64848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изована лабораторна установка "Система автоматизації перекачувальної насосної станції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8672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тість для вищих навчальних закладів Росії - від 2,4 млн. до 4,5 млн. рубл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1252440"/>
            <a:ext cx="65962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агатофункціональний комп’ютеризований стенд «Вимірювальні прилади тиску, витрати й температури» НПП «Учтех-Профи» (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7150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558,82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20920" y="914400"/>
            <a:ext cx="3408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агатофункціональний комп’ютеризований стенд "Система автоматичного управління рівня" НПП «Учтех-Проф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6095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434,82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ніверсальна комп’ютеризована лабораторія кафедри                         "Автоматизація й комп'ютерні системи" НГУ (м. Дніпропетровсь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914400" y="57150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оцінка вартості основного обладнання та програмного забезпечення лабораторії складає 8600,0 є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Днепр-2"/>
          <p:cNvPicPr/>
          <p:nvPr/>
        </p:nvPicPr>
        <p:blipFill>
          <a:blip r:embed="rId1"/>
          <a:stretch/>
        </p:blipFill>
        <p:spPr>
          <a:xfrm>
            <a:off x="1828800" y="106668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ункціональна схема лабораторного стенду "Система управління приводом позиціонування поворотного затвор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Днепр-8"/>
          <p:cNvPicPr/>
          <p:nvPr/>
        </p:nvPicPr>
        <p:blipFill>
          <a:blip r:embed="rId1"/>
          <a:stretch/>
        </p:blipFill>
        <p:spPr>
          <a:xfrm>
            <a:off x="838080" y="1630440"/>
            <a:ext cx="73882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вич</cp:lastModifiedBy>
  <dcterms:modified xsi:type="dcterms:W3CDTF">2015-06-16T08:34:06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