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2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28.wmf" ContentType="image/x-wmf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4.png" ContentType="image/png"/>
  <Override PartName="/ppt/media/image2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0AC-8907-473D-AB47-BB1807EC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61E-7ECF-4F6E-A8EF-EC7D9CBB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899-3B6F-4497-8074-ED930315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B26-E3CF-48C1-9C51-C5A9ECD0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9FB-69E5-400E-9D73-74F2CCA4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1BA-EE74-4B04-846B-CE90050E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F02-606B-41E1-9E08-1B6060CF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813-4819-47EC-89CB-7AE1F653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B10-3A54-410D-9E03-F0CB6ECD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A29-906B-4528-BB93-E6DA9445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7E6-5DEF-4E25-B98A-903F7C56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5EF-A587-42F4-B238-3E16C1B3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9A4B-9C8A-456E-893E-101778944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</a:t>
            </a:r>
            <a:br>
              <a:rPr sz="20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ИЗОВАНИЙ НАВЧАЛЬНИЙ ЗАСІБ ДЛЯ ПРАКТИЧНОГО ВИВЧЕННЯ ПРОГРАМНО-АПАРАТНИХ ЗАСОБІВ ВПЛИВУ НА ОБ’ЄКТ УПРАВЛІННЯ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57150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ерівник проекту: к.т.н., професор Скидан Ю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робив: студент гр. КСУА-14сп з/в Пневський Я.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0600"/>
            <a:ext cx="861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гальна конфігурація універсальної комп’ютеризованої лаборато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факультету КСА В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1209600"/>
          <a:ext cx="72388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09600"/>
                    <a:ext cx="723888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7632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хема оптимального навчального процесу, що має забезпечувати проектований навчальний за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752480"/>
          <a:ext cx="6848640" cy="41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84864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477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нфігурація нового комп’ютеризованого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9880" y="6480"/>
            <a:ext cx="51310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477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прощена функціональна схема комбінованої моделі виконавчого прист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14400" y="1125360"/>
          <a:ext cx="746748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5360"/>
                    <a:ext cx="74674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477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хема автоматизації функціональна системи регулювання, що моделю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0600" y="1535040"/>
          <a:ext cx="7915320" cy="41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535040"/>
                    <a:ext cx="791532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хема електрична струк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677880"/>
          <a:ext cx="800100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77880"/>
                    <a:ext cx="800100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хема електрична функціональ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617400"/>
          <a:ext cx="8076960" cy="57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17400"/>
                    <a:ext cx="807696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хема електрична підклю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546120"/>
          <a:ext cx="7924680" cy="588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46120"/>
                    <a:ext cx="7924680" cy="58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320" y="16668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числювальні ресурси вибраної конфігурації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14280" y="1752480"/>
          <a:ext cx="8296200" cy="27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752480"/>
                    <a:ext cx="829620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рхітектура програм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660240"/>
          <a:ext cx="8229600" cy="57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60240"/>
                    <a:ext cx="822960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725480"/>
            <a:ext cx="861048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етою розробк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є створення на основі обладнання універсальної комп’ютеризованої лабораторії ФКСА ВНТУ такого навчального засобу, який би забезпечував широкий спектр тематики практичних занять по вивченню програмно-апаратних засобів впливу на об’єкт управління та вимагав мінімальних витратах коштів на реалізаці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вчальний засіб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изначений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забезпечення практичного курсу навчальної дисципліни "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соби автоматизації комп’ютерних систем управлі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яка викладається для студентів 3 курсу напряму підготовки 6.050201 - "Системна інженері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076640" y="4915080"/>
          <a:ext cx="506736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6640" y="4915080"/>
                    <a:ext cx="506736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3"/>
          <a:srcRect l="0" t="0" r="0" b="12562"/>
          <a:stretch/>
        </p:blipFill>
        <p:spPr>
          <a:xfrm>
            <a:off x="0" y="533520"/>
            <a:ext cx="5896080" cy="29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4800600" cy="329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оектування програмного забезпечення контролер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715000" y="380880"/>
            <a:ext cx="2593800" cy="196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743200" y="4389480"/>
            <a:ext cx="2232000" cy="23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4572000" y="1828800"/>
            <a:ext cx="4572000" cy="1978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5486400" y="3057480"/>
            <a:ext cx="365760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533520" y="4770360"/>
            <a:ext cx="2457360" cy="20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кладальний кресл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1230480"/>
          <a:ext cx="86868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30480"/>
                    <a:ext cx="86868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єкти практичного вив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1219320"/>
            <a:ext cx="213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ий виконавчий пристрій (регулюючий вентил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0" y="2819520"/>
          <a:ext cx="4241880" cy="25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19520"/>
                    <a:ext cx="424188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876920" y="57913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автоматичного регулювання рівня рідини в ба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762120"/>
          <a:ext cx="177156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762120"/>
                    <a:ext cx="17715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рганізації комп’ютеризованого навчального засобу на основі реального виконавчого прист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1143000"/>
          <a:ext cx="6648480" cy="45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664848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изована лабораторна установка "Система автоматизації перекачувальної насосної станції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8672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тість для вищих навчальних закладів Росії - від 2,4 млн. до 4,5 млн. рублі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1252440"/>
            <a:ext cx="65962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Багатофункціональний комп’ютеризований стенд «Вимірювальні прилади тиску, витрати й температури» НПП «Учтех-Профи» (Рос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57150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 - 558,82 тис. руб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20920" y="914400"/>
            <a:ext cx="3408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Багатофункціональний комп’ютеризований стенд "Система автоматичного управління рівня" НПП «Учтех-Проф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60958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 - 434,82 тис. руб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781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04920" y="120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Універсальна комп’ютеризована лабораторія кафедри                         "Автоматизація й комп'ютерні системи" НГУ (м. Дніпропетровсь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914400" y="571500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оцінка вартості основного обладнання та програмного забезпечення лабораторії складає 8600,0 є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Днепр-2"/>
          <p:cNvPicPr/>
          <p:nvPr/>
        </p:nvPicPr>
        <p:blipFill>
          <a:blip r:embed="rId1"/>
          <a:stretch/>
        </p:blipFill>
        <p:spPr>
          <a:xfrm>
            <a:off x="1828800" y="1066680"/>
            <a:ext cx="5664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04920" y="120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Функціональна схема лабораторного стенду "Система управління приводом позиціонування поворотного затвора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Днепр-8"/>
          <p:cNvPicPr/>
          <p:nvPr/>
        </p:nvPicPr>
        <p:blipFill>
          <a:blip r:embed="rId1"/>
          <a:stretch/>
        </p:blipFill>
        <p:spPr>
          <a:xfrm>
            <a:off x="838080" y="1630440"/>
            <a:ext cx="738828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ович</cp:lastModifiedBy>
  <dcterms:modified xsi:type="dcterms:W3CDTF">2015-06-16T08:34:06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