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E90-89EC-41B2-88F1-147DF73D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5A0-4379-41B5-907E-D95061B4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C78-D772-4E47-AD6B-9A6A3FA6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799-A173-4DCE-B0D1-F8362F1D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C75-CC6D-45C5-AA27-B13E3863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A99-17A6-4984-B651-B24BD818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675-1135-47D5-850E-AA17FF5B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6E9-647D-454F-BDFD-FFA6407C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0B5-854A-4393-8962-4826565F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976-9BBD-4697-850A-E9AA3175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FB7-25F8-44F4-A5D9-9CD6145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D6F-785A-4CEE-ADED-7F7183CB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BA64-3049-4727-A8CC-31DCEADE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НИЙ НАВЧАЛЬНИЙ ЗАСІБ ДЛЯ ПРАКТИЧНОГО ОСВОЄННЯ РОЗРОБКИ СИСТЕМ УПРАВЛІННЯ В РАМКАХ УНІФІКОВАНОГО ПРОЦЕСУ R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876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ерівник проекту: к.т.н., доцент Софина О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ив: студент гр. КСУА-14сп з/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ієнко А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8600" y="12193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ипломни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236680" y="13572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явлення та формулювання вим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1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523880"/>
          <a:ext cx="452916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452916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105520" y="1487520"/>
          <a:ext cx="3632040" cy="34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87520"/>
                    <a:ext cx="363204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1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19320" y="1143000"/>
          <a:ext cx="632448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632448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2236680" y="13572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явлення та формулювання вим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01680" y="1218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2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352680" y="0"/>
          <a:ext cx="5410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5410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2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673440" y="714240"/>
          <a:ext cx="4708440" cy="54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3440" y="714240"/>
                    <a:ext cx="470844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4"/>
          <p:cNvSpPr/>
          <p:nvPr/>
        </p:nvSpPr>
        <p:spPr>
          <a:xfrm>
            <a:off x="1201680" y="1218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28600" y="1399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3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127320" y="0"/>
          <a:ext cx="60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0"/>
                    <a:ext cx="60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28600" y="1202760"/>
            <a:ext cx="24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-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4"/>
          <p:cNvSpPr/>
          <p:nvPr/>
        </p:nvSpPr>
        <p:spPr>
          <a:xfrm>
            <a:off x="228600" y="30492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895480" y="0"/>
          <a:ext cx="5534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0"/>
                    <a:ext cx="5534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638440" y="22788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28600" y="624708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Загальний принцип відтворення в комп’ютерному тренажер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оцесу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UP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 для розробки моделі статики А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57400" y="762120"/>
          <a:ext cx="4997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997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638440" y="22788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52280" y="627912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гальна модель діалогу "студент – навчальний засіб (тренажер)" при виконанні основної задачі тренуван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95280" y="1371600"/>
          <a:ext cx="662940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562120" y="-7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0" y="5713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загальнена модель діалогу (сценарій) для окремої задачі процес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276720" y="457200"/>
          <a:ext cx="5511600" cy="60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57200"/>
                    <a:ext cx="55116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966680" y="38016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хітектура програмної реалізації сценар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191120" y="655200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мпонентна архітектура програмної реалізації тренаж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280" y="1143000"/>
          <a:ext cx="4648320" cy="32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64832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12"/>
          <p:cNvSpPr/>
          <p:nvPr/>
        </p:nvSpPr>
        <p:spPr>
          <a:xfrm>
            <a:off x="762120" y="460224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ідтворення в навчальному засобі (тренажері) процесу проектування АСУ виробництв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073480" y="2133720"/>
          <a:ext cx="375624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3480" y="2133720"/>
                    <a:ext cx="3756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04920" y="11714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пломного проекту є розробка відкритого, дешевого та методологічно ефективного комп’ютерного навчального засобу, який сприятиме підвищенню ефективності навчального процесу практичного освоєння студентами проектування систем управління в рамках уніфікованого процес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4"/>
          <p:cNvSpPr/>
          <p:nvPr/>
        </p:nvSpPr>
        <p:spPr>
          <a:xfrm>
            <a:off x="304920" y="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04920" y="28198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тудентів напряму підготовки 6.050201 "Системна інженерія», які вивчають  дисципліну "Проектування програмних засобів систем управління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комп’ютерного навчального засобу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ли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ворити умови для індивідуальної когнітивної діяльності студента при рішенні реальної проектної задачі,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им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ільш глибокому вивченню студентом теоретичного матеріалу навчальної дисципліни, а також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ливість сформувати у студента відповідні професійно-орієнтовані практичні уміння та навички моделювання, які не в змозі  дати ні лабораторні, ні лекційні занят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202120" y="38016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алгоритмі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152280" y="579024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сновної програми для реалізації “простої" проектної задачі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процес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1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728720"/>
          <a:ext cx="914400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28720"/>
                    <a:ext cx="914400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80880" y="594252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щений зовнішній вигляд слайду для візуального складання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“простої“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-модел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2"/>
          <p:cNvSpPr/>
          <p:nvPr/>
        </p:nvSpPr>
        <p:spPr>
          <a:xfrm>
            <a:off x="228600" y="38088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19320" y="990720"/>
          <a:ext cx="6858000" cy="47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85800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4"/>
          <p:cNvSpPr/>
          <p:nvPr/>
        </p:nvSpPr>
        <p:spPr>
          <a:xfrm>
            <a:off x="2217240" y="38016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17240" y="38016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228600" y="60948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ій вигляд шаблону для візуального складання UML-діаграми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на слайді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3" descr="Слайд складання діаграми"/>
          <p:cNvPicPr/>
          <p:nvPr/>
        </p:nvPicPr>
        <p:blipFill>
          <a:blip r:embed="rId1"/>
          <a:stretch/>
        </p:blipFill>
        <p:spPr>
          <a:xfrm>
            <a:off x="1371600" y="968400"/>
            <a:ext cx="6248520" cy="46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Овал 12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649080" y="38052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нні навчальні засоби навчально-методичного комплек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НМК) професійно-орієнтованої дисциплі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52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2286000" y="1276200"/>
          <a:ext cx="512460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76200"/>
                    <a:ext cx="51246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648320" y="3657600"/>
            <a:ext cx="1676160" cy="1295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304920" y="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885320" y="227880"/>
            <a:ext cx="52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ована система управління виробниц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52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4"/>
          <p:cNvSpPr/>
          <p:nvPr/>
        </p:nvSpPr>
        <p:spPr>
          <a:xfrm>
            <a:off x="304920" y="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0" y="762120"/>
          <a:ext cx="449568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62120"/>
                    <a:ext cx="44956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52560" y="1523880"/>
          <a:ext cx="7581960" cy="46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523880"/>
                    <a:ext cx="758196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6"/>
          <p:cNvSpPr/>
          <p:nvPr/>
        </p:nvSpPr>
        <p:spPr>
          <a:xfrm>
            <a:off x="1371600" y="151920"/>
            <a:ext cx="65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життєвого циклу розробки об'єктно-орієнтованого ПЗ за технологією 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1715040" y="3042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9"/>
          <p:cNvGraphicFramePr/>
          <p:nvPr/>
        </p:nvGraphicFramePr>
        <p:xfrm>
          <a:off x="1371600" y="1371600"/>
          <a:ext cx="662940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6294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720" y="6248520"/>
            <a:ext cx="83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лектуальний тренажер комплексу "СТРУКТУРА“, побудований на основі пакету прикладних прогр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12200" y="228240"/>
            <a:ext cx="65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их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92280" y="1317600"/>
          <a:ext cx="5959440" cy="5083200"/>
        </p:xfrm>
        <a:graphic>
          <a:graphicData uri="http://schemas.openxmlformats.org/drawingml/2006/table">
            <a:tbl>
              <a:tblPr/>
              <a:tblGrid>
                <a:gridCol w="1716120"/>
                <a:gridCol w="1387440"/>
                <a:gridCol w="1405080"/>
                <a:gridCol w="14508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ажер на основ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П ДІ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ажер комплексу "СТРУКТУР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 розробка комп’ютерного трена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ійно-орієнт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ренажера за результатом формування зн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дур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дур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бри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індивідуальн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групов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дистанційного нав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чере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ern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05120" y="725400"/>
          <a:ext cx="5646600" cy="5827680"/>
        </p:xfrm>
        <a:graphic>
          <a:graphicData uri="http://schemas.openxmlformats.org/drawingml/2006/table">
            <a:tbl>
              <a:tblPr/>
              <a:tblGrid>
                <a:gridCol w="1625400"/>
                <a:gridCol w="1314360"/>
                <a:gridCol w="1332000"/>
                <a:gridCol w="1374840"/>
              </a:tblGrid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ренажера з урахуванням фактора ча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ійна 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 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 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гінальність інструментальної системи розроб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ська розроб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ська розроб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 до інструментальної системи розроб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ільки для фахівців галузі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вна версія - для російських вузів, демо-версія –для всіх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ль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ень складності розробки 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ніверсальна мова програмуванн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ніверсальна мова програмуванн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сті макрос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е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зований П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тосування мультимедійних засоб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адність введення мультимедіа в дидактичний інтерфей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будовані механізм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1443960" y="38016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моделі освоєння навчального матеріа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5791320" y="1372320"/>
            <a:ext cx="335268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1 – "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ення та формулювання вимог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1.1с – розробка діаграми прецедентів актора "Черговий Оператор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1.2с – розробка діаграми прецедентів актора "Інженер-Технолог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1.3с – розробка діаграми прецедентів актора "Начальник Виробництва"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2 – "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2.1с – розробка концептуальної статичної моделі АСУ виробництвом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2.2с – аналіз статичного погляду на систему в термінах класів та їхніх атрибутів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2.3с – розробка діаграми класів контексту АСУ виробництвом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2.4с – розбивка програмної системи на об'єк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3 – "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ування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3.1с – проектування   розподіленого    управління    прецеденту "Виготовити Деталь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3.2с – розбивка програмної системи на підсистеми та розробка статичної моделі складених класів (виконується після розробки діаграми кооперації підсистем моделі динаміки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3.3с – визначення архітектури розподіленої програмної систем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3.4с – конфігурування програмної системи та розробка відповідної діаграми розгортання (виконується після моделювання інтерфейсів підсистем моделі динаміки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1066680"/>
          <a:ext cx="49644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49644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15T04:14:11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