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216-A7B1-4736-A117-20F32E0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6F3-78B0-4AEA-B76D-A64B14D1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403-EF94-4BC9-8EBF-0FB9669F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B9A-18AE-439A-A383-0F025A68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A96-C437-441E-AEB7-B3A1BC0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948-727F-4045-A25E-7797708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572-3A21-46E5-A82E-DC6C60D5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A80-6272-433B-8217-EBCE11C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746-BBCD-455C-9DE5-800244F3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5D2-355A-492A-8203-0AEB5C2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C48-484B-4B2D-813C-D766621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B42-7C8C-4507-B9F3-9FB35C4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438-5C5F-499B-A2C4-CE3FBA00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РОЗРОБКИ СИСТЕМ УПРАВЛІННЯ В РАМКАХ УНІФІКОВАНОГО ПРОЦЕСУ 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ієнко А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пломн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36680" y="13572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явлення та формулювання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523880"/>
          <a:ext cx="452916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452916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105520" y="1487520"/>
          <a:ext cx="3632040" cy="34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87520"/>
                    <a:ext cx="363204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19320" y="1143000"/>
          <a:ext cx="632448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32448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2236680" y="13572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явлення та формулювання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01680" y="1218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52680" y="0"/>
          <a:ext cx="5410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5410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73440" y="714240"/>
          <a:ext cx="47084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3440" y="714240"/>
                    <a:ext cx="47084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4"/>
          <p:cNvSpPr/>
          <p:nvPr/>
        </p:nvSpPr>
        <p:spPr>
          <a:xfrm>
            <a:off x="1201680" y="1218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1399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3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27320" y="0"/>
          <a:ext cx="60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0"/>
                    <a:ext cx="60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8600" y="120276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-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4"/>
          <p:cNvSpPr/>
          <p:nvPr/>
        </p:nvSpPr>
        <p:spPr>
          <a:xfrm>
            <a:off x="228600" y="30492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895480" y="0"/>
          <a:ext cx="5534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0"/>
                    <a:ext cx="5534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8600" y="6247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Загальний принцип відтворення в комп’ютерному тренажер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цесу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P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 для розробки моделі статики А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57400" y="762120"/>
          <a:ext cx="4997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997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52280" y="627912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гальна модель діалогу "студент – навчальний засіб (тренажер)" при виконанні основної задачі тренув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1371600"/>
          <a:ext cx="662940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5621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а модель діалогу (сценарій) для окремої задачі процес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76720" y="457200"/>
          <a:ext cx="5511600" cy="60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7200"/>
                    <a:ext cx="55116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966680" y="38016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ї реалізації сценар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191120" y="655200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мпонентна архітектура програмної реалізації тренаж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280" y="1143000"/>
          <a:ext cx="464832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64832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12"/>
          <p:cNvSpPr/>
          <p:nvPr/>
        </p:nvSpPr>
        <p:spPr>
          <a:xfrm>
            <a:off x="762120" y="460224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дтворення в навчальному засобі (тренажері) процесу проектування АСУ виробництв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073480" y="2133720"/>
          <a:ext cx="375624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3480" y="2133720"/>
                    <a:ext cx="3756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04920" y="11714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практичного освоєння студентами проектування систем управління в рамках уніфікованого процес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04920" y="28198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напряму підготовки 6.050201 "Системна інженерія», які вивчають  дисципліну "Проектування програмних засобів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комп’ютерного навчального засоб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и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им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ільш глибокому вивченню студентом теоретичного матеріалу навчальної дисципліни, а також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ливість сформувати у студента відповідні професійно-орієнтовані практичні уміння та навички моделювання, які не в змозі  дати ні лаборатор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202120" y="38016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152280" y="579024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новної програми для реалізації “простої" проектної задач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оцес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728720"/>
          <a:ext cx="914400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8720"/>
                    <a:ext cx="914400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80880" y="59425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щений зовнішній вигляд слайду для візуального складання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“простої“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-моде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2"/>
          <p:cNvSpPr/>
          <p:nvPr/>
        </p:nvSpPr>
        <p:spPr>
          <a:xfrm>
            <a:off x="228600" y="3808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990720"/>
          <a:ext cx="6858000" cy="47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8580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4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28600" y="60948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шаблону для візуального складання UML-діаграми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на слайді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Слайд складання діаграми"/>
          <p:cNvPicPr/>
          <p:nvPr/>
        </p:nvPicPr>
        <p:blipFill>
          <a:blip r:embed="rId1"/>
          <a:stretch/>
        </p:blipFill>
        <p:spPr>
          <a:xfrm>
            <a:off x="1371600" y="968400"/>
            <a:ext cx="6248520" cy="46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Овал 12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49080" y="38052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ні навчальні засоби навчально-методичного комплек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НМК) професійно-орієнтованої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2286000" y="1276200"/>
          <a:ext cx="51246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6200"/>
                    <a:ext cx="51246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48320" y="3657600"/>
            <a:ext cx="167616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885320" y="227880"/>
            <a:ext cx="52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ована система управління виробниц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0" y="762120"/>
          <a:ext cx="449568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44956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52560" y="1523880"/>
          <a:ext cx="758196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523880"/>
                    <a:ext cx="758196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6"/>
          <p:cNvSpPr/>
          <p:nvPr/>
        </p:nvSpPr>
        <p:spPr>
          <a:xfrm>
            <a:off x="1371600" y="151920"/>
            <a:ext cx="65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життєвого циклу розробки об'єктно-орієнтованого ПЗ за технологією 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720" y="6248520"/>
            <a:ext cx="83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лектуальний тренажер комплексу "СТРУКТУРА“, побудований на основі пакету прикладних прог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12200" y="228240"/>
            <a:ext cx="65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их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92280" y="1317600"/>
          <a:ext cx="5959440" cy="5083200"/>
        </p:xfrm>
        <a:graphic>
          <a:graphicData uri="http://schemas.openxmlformats.org/drawingml/2006/table">
            <a:tbl>
              <a:tblPr/>
              <a:tblGrid>
                <a:gridCol w="1716120"/>
                <a:gridCol w="1387440"/>
                <a:gridCol w="1405080"/>
                <a:gridCol w="14508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П ДІ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комплексу "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05120" y="725400"/>
          <a:ext cx="5646600" cy="5827680"/>
        </p:xfrm>
        <a:graphic>
          <a:graphicData uri="http://schemas.openxmlformats.org/drawingml/2006/table">
            <a:tbl>
              <a:tblPr/>
              <a:tblGrid>
                <a:gridCol w="1625400"/>
                <a:gridCol w="1314360"/>
                <a:gridCol w="1332000"/>
                <a:gridCol w="1374840"/>
              </a:tblGrid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 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гінальність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ська розроб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ська розроб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ільки для фахівців галузі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на версія - для російських вузів, демо-версія –для всі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ніверсальна мова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ніверсальна мова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осування мультимедійних засоб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ність введення мультимедіа в дидактичний інтерфей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1443960" y="380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5791320" y="1372320"/>
            <a:ext cx="33526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1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та формулювання вимог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1с – розробка діаграми прецедентів актора "Черговий Оператор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2с – розробка діаграми прецедентів актора "Інженер-Технолог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1.3с – розробка діаграми прецедентів актора "Начальник Виробництва"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2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1с – розробка концептуальної статичної моделі АСУ виробництвом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2с – аналіз статичного погляду на систему в термінах класів та їхніх атрибуті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3с – розробка діаграми класів контексту АСУ виробництвом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2.4с – розбивка програмної системи на об'єк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3 – "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ування</a:t>
            </a: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1с – проектування   розподіленого    управління    прецеденту "Виготовити Деталь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2с – розбивка програмної системи на підсистеми та розробка статичної моделі складених класів (виконується після розробки діаграми кооперації підсистем моделі динаміки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3с – визначення архітектури розподіленої програмної систе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3.4с – конфігурування програмної системи та розробка відповідної діаграми розгортання (виконується після моделювання інтерфейсів підсистем моделі динамік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1066680"/>
          <a:ext cx="49644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49644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5T04:14:1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