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A489-51B8-47B3-9574-8F1BC5A14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3AB8-7687-4274-A6E6-6437C3C0D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180D-2F94-475C-90D3-AD2907497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5C22-8C5D-4E79-B3B1-C6EDD4652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DCF2-815D-446A-A432-067C2A240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9783-952B-44EA-BFFC-5BD149282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A062-222D-4851-BB1A-F188EA231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9DB0-6F8F-4AC0-9001-4DA27E3EB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B7FD-9DFD-4F21-9288-EBD11DAA2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40CE-9D71-4A3D-B276-2E15E50ED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B41F-8687-4573-88F4-0DDFCB84A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8E16-D1D2-4CF0-9F55-5A8850103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8C632-E0C2-4273-8019-5010B9259B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1523520"/>
            <a:ext cx="868680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’ЮТЕРНИЙ НАВЧАЛЬНИЙ ЗАСІБ ДЛЯ ПРАКТИЧНОГО ОСВОЄННЯ ПРОЕКТУВАННЯ СИСТЕМ УПРАВЛІННЯ ЗА МЕТОДОМ СОМ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8600" y="48765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Керівник проекту: к.т.н., доцент Софина О.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Розробив: студент гр. КСУА-14сп з/в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йданюк В.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Овал 3"/>
          <p:cNvSpPr/>
          <p:nvPr/>
        </p:nvSpPr>
        <p:spPr>
          <a:xfrm>
            <a:off x="304920" y="380880"/>
            <a:ext cx="6858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228600" y="1219320"/>
            <a:ext cx="8686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Дипломний прое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3"/>
          <p:cNvSpPr/>
          <p:nvPr/>
        </p:nvSpPr>
        <p:spPr>
          <a:xfrm>
            <a:off x="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0" y="13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8"/>
          <p:cNvSpPr/>
          <p:nvPr/>
        </p:nvSpPr>
        <p:spPr>
          <a:xfrm>
            <a:off x="1463400" y="75600"/>
            <a:ext cx="68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озробка дидактичного забезпечення навчального засоб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0"/>
          <p:cNvSpPr/>
          <p:nvPr/>
        </p:nvSpPr>
        <p:spPr>
          <a:xfrm>
            <a:off x="0" y="46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2"/>
          <p:cNvSpPr/>
          <p:nvPr/>
        </p:nvSpPr>
        <p:spPr>
          <a:xfrm>
            <a:off x="0" y="11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Овал 8"/>
          <p:cNvSpPr/>
          <p:nvPr/>
        </p:nvSpPr>
        <p:spPr>
          <a:xfrm>
            <a:off x="457200" y="457200"/>
            <a:ext cx="6858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24080" y="6477120"/>
            <a:ext cx="579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чна система управління ліфтом. Модель архітектури зада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2463840" y="533520"/>
          <a:ext cx="427500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63840" y="533520"/>
                    <a:ext cx="42750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3"/>
          <p:cNvSpPr/>
          <p:nvPr/>
        </p:nvSpPr>
        <p:spPr>
          <a:xfrm>
            <a:off x="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0" y="13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8"/>
          <p:cNvSpPr/>
          <p:nvPr/>
        </p:nvSpPr>
        <p:spPr>
          <a:xfrm>
            <a:off x="1463400" y="75600"/>
            <a:ext cx="68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озробка дидактичного забезпечення навчального засоб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0"/>
          <p:cNvSpPr/>
          <p:nvPr/>
        </p:nvSpPr>
        <p:spPr>
          <a:xfrm>
            <a:off x="0" y="46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2"/>
          <p:cNvSpPr/>
          <p:nvPr/>
        </p:nvSpPr>
        <p:spPr>
          <a:xfrm>
            <a:off x="0" y="11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8"/>
          <p:cNvSpPr/>
          <p:nvPr/>
        </p:nvSpPr>
        <p:spPr>
          <a:xfrm>
            <a:off x="457200" y="457200"/>
            <a:ext cx="6858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124080" y="6477120"/>
            <a:ext cx="579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чна система управління ліфтом. Модель інтерфейсі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428920" y="685800"/>
          <a:ext cx="420048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28920" y="685800"/>
                    <a:ext cx="420048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3"/>
          <p:cNvSpPr/>
          <p:nvPr/>
        </p:nvSpPr>
        <p:spPr>
          <a:xfrm>
            <a:off x="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0" y="13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8"/>
          <p:cNvSpPr/>
          <p:nvPr/>
        </p:nvSpPr>
        <p:spPr>
          <a:xfrm>
            <a:off x="1463400" y="75600"/>
            <a:ext cx="68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озробка дидактичного забезпечення навчального засоб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0"/>
          <p:cNvSpPr/>
          <p:nvPr/>
        </p:nvSpPr>
        <p:spPr>
          <a:xfrm>
            <a:off x="0" y="46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2"/>
          <p:cNvSpPr/>
          <p:nvPr/>
        </p:nvSpPr>
        <p:spPr>
          <a:xfrm>
            <a:off x="0" y="11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Овал 8"/>
          <p:cNvSpPr/>
          <p:nvPr/>
        </p:nvSpPr>
        <p:spPr>
          <a:xfrm>
            <a:off x="457200" y="457200"/>
            <a:ext cx="6858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6477120"/>
            <a:ext cx="579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чна система управління ліфтом. Модель розгорта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143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600200" y="1219320"/>
          <a:ext cx="558180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219320"/>
                    <a:ext cx="558180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0" y="13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2638440" y="227880"/>
            <a:ext cx="383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Розробка сценарію навчальної гр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0" y="15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0" y="90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152280" y="6247080"/>
            <a:ext cx="876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</a:rPr>
              <a:t>Загальний принцип відтворення в комп’ютерному тренажері процесу розробки моделі проектува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1"/>
          <p:cNvSpPr/>
          <p:nvPr/>
        </p:nvSpPr>
        <p:spPr>
          <a:xfrm>
            <a:off x="0" y="16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Овал 10"/>
          <p:cNvSpPr/>
          <p:nvPr/>
        </p:nvSpPr>
        <p:spPr>
          <a:xfrm>
            <a:off x="457200" y="457200"/>
            <a:ext cx="6858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587600" y="933480"/>
          <a:ext cx="5968800" cy="508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7600" y="933480"/>
                    <a:ext cx="5968800" cy="508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0" y="13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2638440" y="227880"/>
            <a:ext cx="383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Розробка сценарію навчальної гр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15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0" y="90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152280" y="6279120"/>
            <a:ext cx="876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Загальна модель діалогу "студент – навчальний засіб (тренажер)" при виконанні основної задачі тренування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1"/>
          <p:cNvSpPr/>
          <p:nvPr/>
        </p:nvSpPr>
        <p:spPr>
          <a:xfrm>
            <a:off x="0" y="16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Овал 10"/>
          <p:cNvSpPr/>
          <p:nvPr/>
        </p:nvSpPr>
        <p:spPr>
          <a:xfrm>
            <a:off x="457200" y="457200"/>
            <a:ext cx="6858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16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295280" y="1447920"/>
          <a:ext cx="6400800" cy="385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447920"/>
                    <a:ext cx="6400800" cy="385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0" y="13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2562120" y="-720"/>
            <a:ext cx="383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Розробка сценарію навчальної гр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15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0" y="5713560"/>
            <a:ext cx="281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Узагальнена модель діалогу (сценарій) для окремої задачі методу СОМ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0" y="16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0" y="25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Object 11"/>
          <p:cNvGraphicFramePr/>
          <p:nvPr/>
        </p:nvGraphicFramePr>
        <p:xfrm>
          <a:off x="3200400" y="457200"/>
          <a:ext cx="5857920" cy="634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457200"/>
                    <a:ext cx="5857920" cy="63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Овал 10"/>
          <p:cNvSpPr/>
          <p:nvPr/>
        </p:nvSpPr>
        <p:spPr>
          <a:xfrm>
            <a:off x="457200" y="457200"/>
            <a:ext cx="6858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0" y="13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733320" y="-720"/>
            <a:ext cx="383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Розробка сценарію навчальної гр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0" y="15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0" y="5713560"/>
            <a:ext cx="281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Деталізована модель діалогу (сценарій) для окремої задачі методу СОМ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0" y="16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0" y="25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10"/>
          <p:cNvSpPr/>
          <p:nvPr/>
        </p:nvSpPr>
        <p:spPr>
          <a:xfrm>
            <a:off x="457200" y="457200"/>
            <a:ext cx="6858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-60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4268880" y="0"/>
          <a:ext cx="4417920" cy="65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0"/>
                    <a:ext cx="4417920" cy="65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0" y="13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1966680" y="380160"/>
            <a:ext cx="518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Архітектура програмної реалізації сценарі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0" y="23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0"/>
          <p:cNvSpPr/>
          <p:nvPr/>
        </p:nvSpPr>
        <p:spPr>
          <a:xfrm>
            <a:off x="0" y="23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2"/>
          <p:cNvSpPr/>
          <p:nvPr/>
        </p:nvSpPr>
        <p:spPr>
          <a:xfrm>
            <a:off x="1143000" y="6064920"/>
            <a:ext cx="68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Компонентна архітектура програмної реалізації тренаже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4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Object 13"/>
          <p:cNvGraphicFramePr/>
          <p:nvPr/>
        </p:nvGraphicFramePr>
        <p:xfrm>
          <a:off x="2057400" y="1219320"/>
          <a:ext cx="448632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219320"/>
                    <a:ext cx="448632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Овал 10"/>
          <p:cNvSpPr/>
          <p:nvPr/>
        </p:nvSpPr>
        <p:spPr>
          <a:xfrm>
            <a:off x="457200" y="457200"/>
            <a:ext cx="6858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0" y="13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2202120" y="380160"/>
            <a:ext cx="47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озробка алгоритмічного забезпече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0" y="23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8"/>
          <p:cNvSpPr/>
          <p:nvPr/>
        </p:nvSpPr>
        <p:spPr>
          <a:xfrm>
            <a:off x="0" y="23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0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4"/>
          <p:cNvSpPr/>
          <p:nvPr/>
        </p:nvSpPr>
        <p:spPr>
          <a:xfrm>
            <a:off x="152280" y="5790240"/>
            <a:ext cx="868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ема основної програми для реалізації "складної" тренувальної задачі проектування методом СОМ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Овал 11"/>
          <p:cNvSpPr/>
          <p:nvPr/>
        </p:nvSpPr>
        <p:spPr>
          <a:xfrm>
            <a:off x="457200" y="457200"/>
            <a:ext cx="6858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0" y="1862280"/>
          <a:ext cx="9144000" cy="313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62280"/>
                    <a:ext cx="9144000" cy="31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13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217240" y="380160"/>
            <a:ext cx="46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озробка окремих програмних модул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23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23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17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6780240" cy="22683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1447920" y="5485320"/>
            <a:ext cx="571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Конструкція власних прапорців і перемикачі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Овал 10"/>
          <p:cNvSpPr/>
          <p:nvPr/>
        </p:nvSpPr>
        <p:spPr>
          <a:xfrm>
            <a:off x="457200" y="533520"/>
            <a:ext cx="6858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304920" y="117144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етою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дипломного проекту є розробка відкритого, дешевого та методологічно ефективного комп’ютерного навчального засобу, який сприятиме підвищенню ефективності навчального процесу практичного освоєння студентами проектування систем управління за методом СОМ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Овал 4"/>
          <p:cNvSpPr/>
          <p:nvPr/>
        </p:nvSpPr>
        <p:spPr>
          <a:xfrm>
            <a:off x="304920" y="0"/>
            <a:ext cx="6858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304920" y="2819880"/>
            <a:ext cx="8610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чальний засіб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значений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студентів напряму підготовки 6.050201 "Системна інженерія», які вивчають  дисципліну "Проектування програмних засобів систем управління"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користання комп’ютерного навчального засобу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зволить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ворити умови для індивідуальної когнітивної діяльності студента при рішенні реальної проектної задачі,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иятиме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ільш глибокому вивченню студентом теоретичного матеріалу навчальної дисципліни, а також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сть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жливість сформувати у студента відповідні професійно-орієнтовані практичні уміння та навички моделювання, які не в змозі  дати ні лабораторні, ні лекційні занятт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13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17240" y="227880"/>
            <a:ext cx="46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озробка окремих програмних модул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23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28600" y="6094800"/>
            <a:ext cx="845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внішній вигляд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екрану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множинн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ого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иб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ору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’єктів предметної ситуації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 на слайді Power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17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219320" y="762120"/>
            <a:ext cx="6724440" cy="5041800"/>
          </a:xfrm>
          <a:prstGeom prst="rect">
            <a:avLst/>
          </a:prstGeom>
          <a:ln w="0">
            <a:noFill/>
          </a:ln>
        </p:spPr>
      </p:pic>
      <p:sp>
        <p:nvSpPr>
          <p:cNvPr id="213" name="Овал 10"/>
          <p:cNvSpPr/>
          <p:nvPr/>
        </p:nvSpPr>
        <p:spPr>
          <a:xfrm>
            <a:off x="457200" y="152280"/>
            <a:ext cx="6858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13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217240" y="227880"/>
            <a:ext cx="46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озробка окремих програмних модул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3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" y="6094800"/>
            <a:ext cx="868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внішній вигляд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екрану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єдиний вибір при визначенні зв’язку між об’єктами  на слайді Power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17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6496200" cy="4870440"/>
          </a:xfrm>
          <a:prstGeom prst="rect">
            <a:avLst/>
          </a:prstGeom>
          <a:ln w="0">
            <a:noFill/>
          </a:ln>
        </p:spPr>
      </p:pic>
      <p:sp>
        <p:nvSpPr>
          <p:cNvPr id="223" name="Овал 10"/>
          <p:cNvSpPr/>
          <p:nvPr/>
        </p:nvSpPr>
        <p:spPr>
          <a:xfrm>
            <a:off x="457200" y="228600"/>
            <a:ext cx="6858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"/>
          <p:cNvSpPr/>
          <p:nvPr/>
        </p:nvSpPr>
        <p:spPr>
          <a:xfrm>
            <a:off x="2209680" y="244080"/>
            <a:ext cx="510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Раціональна послідовність навчання за психолого-педагогічною моделлю навчально-методичного комплексу (НМК) дисциплі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5"/>
          <p:cNvSpPr/>
          <p:nvPr/>
        </p:nvSpPr>
        <p:spPr>
          <a:xfrm>
            <a:off x="304920" y="5348520"/>
            <a:ext cx="8610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</a:rPr>
              <a:t>Навчальний потенціал комп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</a:rPr>
              <a:t>ютерних тренажерів досить високий (рівень освоєння α дорівнює 2-3), а в окремих випадках застосування α може сягати навіть 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Овал 4"/>
          <p:cNvSpPr/>
          <p:nvPr/>
        </p:nvSpPr>
        <p:spPr>
          <a:xfrm>
            <a:off x="457200" y="457200"/>
            <a:ext cx="6858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447920" y="1219320"/>
          <a:ext cx="5829120" cy="338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219320"/>
                    <a:ext cx="5829120" cy="33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3581280" y="1219320"/>
            <a:ext cx="4419720" cy="251460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5"/>
          <p:cNvSpPr/>
          <p:nvPr/>
        </p:nvSpPr>
        <p:spPr>
          <a:xfrm>
            <a:off x="4724280" y="319932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0000"/>
                </a:solidFill>
                <a:latin typeface="Times New Roman"/>
              </a:rPr>
              <a:t>Комп</a:t>
            </a:r>
            <a:r>
              <a:rPr b="1" lang="uk-UA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’</a:t>
            </a:r>
            <a:r>
              <a:rPr b="1" lang="uk-UA" sz="1400" spc="-1" strike="noStrike">
                <a:solidFill>
                  <a:srgbClr val="ff0000"/>
                </a:solidFill>
                <a:latin typeface="Times New Roman"/>
              </a:rPr>
              <a:t>ютерні тренаже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2365920" y="380520"/>
            <a:ext cx="439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Етапи методу СОМЕТ для проектуванн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системи управлі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0" y="16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Object 5"/>
          <p:cNvGraphicFramePr/>
          <p:nvPr/>
        </p:nvGraphicFramePr>
        <p:xfrm>
          <a:off x="733320" y="1527120"/>
          <a:ext cx="7572600" cy="472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3320" y="1527120"/>
                    <a:ext cx="7572600" cy="472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Овал 4"/>
          <p:cNvSpPr/>
          <p:nvPr/>
        </p:nvSpPr>
        <p:spPr>
          <a:xfrm>
            <a:off x="457200" y="457200"/>
            <a:ext cx="6858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6"/>
          <p:cNvSpPr/>
          <p:nvPr/>
        </p:nvSpPr>
        <p:spPr>
          <a:xfrm>
            <a:off x="1715040" y="304200"/>
            <a:ext cx="668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орівнювальний аналіз аналогічного та нового науков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технічного рішення навчального засоб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0"/>
          <p:cNvSpPr/>
          <p:nvPr/>
        </p:nvSpPr>
        <p:spPr>
          <a:xfrm>
            <a:off x="0" y="13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9"/>
          <p:cNvGraphicFramePr/>
          <p:nvPr/>
        </p:nvGraphicFramePr>
        <p:xfrm>
          <a:off x="1371600" y="1371600"/>
          <a:ext cx="6629400" cy="465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371600"/>
                    <a:ext cx="6629400" cy="465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Овал 4"/>
          <p:cNvSpPr/>
          <p:nvPr/>
        </p:nvSpPr>
        <p:spPr>
          <a:xfrm>
            <a:off x="457200" y="457200"/>
            <a:ext cx="6858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0" y="13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758960" y="1406520"/>
          <a:ext cx="5626080" cy="4057560"/>
        </p:xfrm>
        <a:graphic>
          <a:graphicData uri="http://schemas.openxmlformats.org/drawingml/2006/table">
            <a:tbl>
              <a:tblPr/>
              <a:tblGrid>
                <a:gridCol w="2117880"/>
                <a:gridCol w="1752480"/>
                <a:gridCol w="1755720"/>
              </a:tblGrid>
              <a:tr h="9442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с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нажер на основі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П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tional Rose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варіант № 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а розробка комп’ютерного тренаже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варіант № 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значе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040"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есійно-орієнтов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200"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тренажера за результатом формування зна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дур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ібрид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31520"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ідтримка індивідуальної навчальної робо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ідтримка групової навчальної робо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ма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ма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Rectangle 6"/>
          <p:cNvSpPr/>
          <p:nvPr/>
        </p:nvSpPr>
        <p:spPr>
          <a:xfrm>
            <a:off x="1257840" y="228240"/>
            <a:ext cx="668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орівнювальний аналіз аналогічного та нового науков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технічного рішення навчального засоб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Овал 4"/>
          <p:cNvSpPr/>
          <p:nvPr/>
        </p:nvSpPr>
        <p:spPr>
          <a:xfrm>
            <a:off x="457200" y="457200"/>
            <a:ext cx="6858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0" y="13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981080" y="609480"/>
          <a:ext cx="4800600" cy="5851800"/>
        </p:xfrm>
        <a:graphic>
          <a:graphicData uri="http://schemas.openxmlformats.org/drawingml/2006/table">
            <a:tbl>
              <a:tblPr/>
              <a:tblGrid>
                <a:gridCol w="1806840"/>
                <a:gridCol w="1496880"/>
                <a:gridCol w="1496880"/>
              </a:tblGrid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ідтримка дистанційного навчанн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має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ез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 ROM</a:t>
                      </a: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та через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nterne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матичне та програмне забезпеченн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моделі об’єкту чи процес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мітацій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мітацій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іб побудови навчальної інформаційної моделі об’єкту чи процес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горитміч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алгоритміч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тренажера з урахуванням фактора час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ичний (ситуаційни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ичний (ситуаційни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ераційна систем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ndow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ndow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нструментальна система розробки ПЗ тренажер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crosoft Visual Stud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crosoft Offi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54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туп до інструментальної системи розроб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меже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навчальних закладі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ль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упень складності розробки П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сокий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а універсальній мові програмування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зький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прості макроси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crosoft Office</a:t>
                      </a: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430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даткове програмне забезпеченн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іалізований промисловий  ПП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має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упінь складності розробки інтерфейсу між навчально-інформаційною моделлю та функціональною модель процес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со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програмування на системному рівні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зький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вбудовані механізми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crosoft Office</a:t>
                      </a: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</a:tbl>
          </a:graphicData>
        </a:graphic>
      </p:graphicFrame>
      <p:sp>
        <p:nvSpPr>
          <p:cNvPr id="75" name="Овал 4"/>
          <p:cNvSpPr/>
          <p:nvPr/>
        </p:nvSpPr>
        <p:spPr>
          <a:xfrm>
            <a:off x="457200" y="457200"/>
            <a:ext cx="6858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0" y="13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8"/>
          <p:cNvSpPr/>
          <p:nvPr/>
        </p:nvSpPr>
        <p:spPr>
          <a:xfrm>
            <a:off x="1504080" y="227880"/>
            <a:ext cx="604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озробка моделі освоєння навчального матеріал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0"/>
          <p:cNvSpPr/>
          <p:nvPr/>
        </p:nvSpPr>
        <p:spPr>
          <a:xfrm>
            <a:off x="0" y="46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2"/>
          <p:cNvSpPr/>
          <p:nvPr/>
        </p:nvSpPr>
        <p:spPr>
          <a:xfrm>
            <a:off x="0" y="11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Овал 8"/>
          <p:cNvSpPr/>
          <p:nvPr/>
        </p:nvSpPr>
        <p:spPr>
          <a:xfrm>
            <a:off x="457200" y="457200"/>
            <a:ext cx="6858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920960" y="1020600"/>
          <a:ext cx="530208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0960" y="1020600"/>
                    <a:ext cx="530208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685800" y="4267080"/>
            <a:ext cx="6934320" cy="2438640"/>
          </a:xfrm>
          <a:prstGeom prst="ellipse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3"/>
          <p:cNvSpPr/>
          <p:nvPr/>
        </p:nvSpPr>
        <p:spPr>
          <a:xfrm>
            <a:off x="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0" y="13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8"/>
          <p:cNvSpPr/>
          <p:nvPr/>
        </p:nvSpPr>
        <p:spPr>
          <a:xfrm>
            <a:off x="1463400" y="75600"/>
            <a:ext cx="68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озробка дидактичного забезпечення навчального засоб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0"/>
          <p:cNvSpPr/>
          <p:nvPr/>
        </p:nvSpPr>
        <p:spPr>
          <a:xfrm>
            <a:off x="0" y="46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2"/>
          <p:cNvSpPr/>
          <p:nvPr/>
        </p:nvSpPr>
        <p:spPr>
          <a:xfrm>
            <a:off x="0" y="11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Овал 8"/>
          <p:cNvSpPr/>
          <p:nvPr/>
        </p:nvSpPr>
        <p:spPr>
          <a:xfrm>
            <a:off x="457200" y="457200"/>
            <a:ext cx="6858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309760" y="838080"/>
          <a:ext cx="459432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9760" y="838080"/>
                    <a:ext cx="459432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3733920" y="6324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чна система управління ліфтом. Модель структу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5-06-13T09:33:52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