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D06-3E33-49EF-A7BD-5684A0DC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BB8-FD5A-4712-9008-0E2F7BCE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6387-541C-4212-85DF-6965CC0D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F33-82BE-449D-A76C-DBC8AE1E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D183-5FB9-4461-8971-8DB06410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493-A4E5-410B-8B13-9E2203FE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995-7A78-4B8B-89A6-6F8F287D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372-EAC5-496E-BAAA-77BA0CFC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877-FBA7-41B1-BD53-5F4A5613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EE8-F204-47B4-90B1-5DCB0B9D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3B7-C70E-485C-B65A-2608B869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3EC-7FFF-472E-98E8-798961A9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E698-BDC0-4BA8-964E-7788B239B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’ЮТЕРНИЙ НАВЧАЛЬНИЙ ЗАСІБ ДЛЯ ПРАКТИЧНОГО ОСВОЄННЯ ПРОЕКТУВАННЯ СИСТЕМ УПРАВЛІННЯ ЗА МЕТОДОМ СО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4876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ерівник проекту: к.т.н., доцент Софина О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робив: студент гр. КСУА-14сп з/в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данюк В.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3"/>
          <p:cNvSpPr/>
          <p:nvPr/>
        </p:nvSpPr>
        <p:spPr>
          <a:xfrm>
            <a:off x="304920" y="38088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8600" y="12193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Дипломний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1463400" y="7560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дидактичного забезпечення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2"/>
          <p:cNvSpPr/>
          <p:nvPr/>
        </p:nvSpPr>
        <p:spPr>
          <a:xfrm>
            <a:off x="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8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4771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на система управління ліфтом. Модель архітектури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463840" y="533520"/>
          <a:ext cx="4275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3840" y="533520"/>
                    <a:ext cx="4275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8"/>
          <p:cNvSpPr/>
          <p:nvPr/>
        </p:nvSpPr>
        <p:spPr>
          <a:xfrm>
            <a:off x="1463400" y="7560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дидактичного забезпечення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2"/>
          <p:cNvSpPr/>
          <p:nvPr/>
        </p:nvSpPr>
        <p:spPr>
          <a:xfrm>
            <a:off x="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8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4771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на система управління ліфтом. Модель інтерфейс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428920" y="685800"/>
          <a:ext cx="42004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685800"/>
                    <a:ext cx="42004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8"/>
          <p:cNvSpPr/>
          <p:nvPr/>
        </p:nvSpPr>
        <p:spPr>
          <a:xfrm>
            <a:off x="1463400" y="7560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дидактичного забезпечення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2"/>
          <p:cNvSpPr/>
          <p:nvPr/>
        </p:nvSpPr>
        <p:spPr>
          <a:xfrm>
            <a:off x="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8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47712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на система управління ліфтом. Модель розгор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00200" y="1219320"/>
          <a:ext cx="558180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558180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638440" y="22788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озробка сценарію навчальної г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2280" y="6247080"/>
            <a:ext cx="876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Загальний принцип відтворення в комп’ютерному тренажері процесу розробки моделі проект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87600" y="933480"/>
          <a:ext cx="596880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933480"/>
                    <a:ext cx="596880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638440" y="22788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озробка сценарію навчальної г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152280" y="6279120"/>
            <a:ext cx="87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гальна модель діалогу "студент – навчальний засіб (тренажер)" при виконанні основної задачі тренуванн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95280" y="1447920"/>
          <a:ext cx="6400800" cy="38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640080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562120" y="-72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озробка сценарію навчальної г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5713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Узагальнена модель діалогу (сценарій) для окремої задачі методу СОМ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0" y="25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1"/>
          <p:cNvGraphicFramePr/>
          <p:nvPr/>
        </p:nvGraphicFramePr>
        <p:xfrm>
          <a:off x="3200400" y="457200"/>
          <a:ext cx="5857920" cy="63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57200"/>
                    <a:ext cx="585792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733320" y="-72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озробка сценарію навчальної г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5713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Деталізована модель діалогу (сценарій) для окремої задачі методу СОМ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0" y="25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-6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268880" y="0"/>
          <a:ext cx="441792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0"/>
                    <a:ext cx="441792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966680" y="380160"/>
            <a:ext cx="51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рхітектура програмної реалізації сценар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1143000" y="60649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Компонентна архітектура програмної реалізації тренаж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13"/>
          <p:cNvGraphicFramePr/>
          <p:nvPr/>
        </p:nvGraphicFramePr>
        <p:xfrm>
          <a:off x="2057400" y="1219320"/>
          <a:ext cx="448632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219320"/>
                    <a:ext cx="448632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Овал 10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202120" y="38016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алгоритмічного забезп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152280" y="579024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основної програми для реалізації "складної" тренувальної задачі проектування методом СОМ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11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862280"/>
          <a:ext cx="9144000" cy="31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2280"/>
                    <a:ext cx="9144000" cy="31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17240" y="380160"/>
            <a:ext cx="46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окремих програмних моду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6780240" cy="2268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447920" y="548532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Конструкція власних прапорців і перемикач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10"/>
          <p:cNvSpPr/>
          <p:nvPr/>
        </p:nvSpPr>
        <p:spPr>
          <a:xfrm>
            <a:off x="457200" y="53352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304920" y="11714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дипломного проекту є розробка відкритого, дешевого та методологічно ефективного комп’ютерного навчального засобу, який сприятиме підвищенню ефективності навчального процесу практичного освоєння студентами проектування систем управління за методом СОМ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304920" y="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304920" y="281988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ий засіб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чений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тудентів напряму підготовки 6.050201 "Системна інженерія», які вивчають  дисципліну "Проектування програмних засобів систем управління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комп’ютерного навчального засобу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ли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ворити умови для індивідуальної когнітивної діяльності студента при рішенні реальної проектної задачі,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ятиме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ільш глибокому вивченню студентом теоретичного матеріалу навчальної дисципліни, а також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ливість сформувати у студента відповідні професійно-орієнтовані практичні уміння та навички моделювання, які не в змозі  дати ні лабораторні, ні лекційні занятт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17240" y="227880"/>
            <a:ext cx="46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окремих програмних моду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609480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нішній вигляд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екрану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множинн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ого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б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ору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’єктів предметної ситуації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на слайді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724440" cy="5041800"/>
          </a:xfrm>
          <a:prstGeom prst="rect">
            <a:avLst/>
          </a:prstGeom>
          <a:ln w="0">
            <a:noFill/>
          </a:ln>
        </p:spPr>
      </p:pic>
      <p:sp>
        <p:nvSpPr>
          <p:cNvPr id="213" name="Овал 10"/>
          <p:cNvSpPr/>
          <p:nvPr/>
        </p:nvSpPr>
        <p:spPr>
          <a:xfrm>
            <a:off x="457200" y="15228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17240" y="227880"/>
            <a:ext cx="46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окремих програмних моду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609480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нішній вигляд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екрану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єдиний вибір при визначенні зв’язку між об’єктами  на слайді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496200" cy="4870440"/>
          </a:xfrm>
          <a:prstGeom prst="rect">
            <a:avLst/>
          </a:prstGeom>
          <a:ln w="0">
            <a:noFill/>
          </a:ln>
        </p:spPr>
      </p:pic>
      <p:sp>
        <p:nvSpPr>
          <p:cNvPr id="223" name="Овал 10"/>
          <p:cNvSpPr/>
          <p:nvPr/>
        </p:nvSpPr>
        <p:spPr>
          <a:xfrm>
            <a:off x="457200" y="2286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2209680" y="24408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аціональна послідовність навчання за психолого-педагогічною моделлю навчально-методичного комплексу (НМК) дисциплі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304920" y="53485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Навчальний потенціал комп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ютерних тренажерів досить високий (рівень освоєння α дорівнює 2-3), а в окремих випадках застосування α може сягати навіть 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47920" y="1219320"/>
          <a:ext cx="5829120" cy="33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19320"/>
                    <a:ext cx="582912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581280" y="1219320"/>
            <a:ext cx="4419720" cy="2514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4724280" y="31993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</a:rPr>
              <a:t>Комп</a:t>
            </a: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</a:t>
            </a:r>
            <a:r>
              <a:rPr b="1" lang="uk-UA" sz="1400" spc="-1" strike="noStrike">
                <a:solidFill>
                  <a:srgbClr val="ff0000"/>
                </a:solidFill>
                <a:latin typeface="Times New Roman"/>
              </a:rPr>
              <a:t>ютерні тренаже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365920" y="380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Етапи методу СОМЕТ для проектуван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истеми управл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733320" y="1527120"/>
          <a:ext cx="7572600" cy="472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1527120"/>
                    <a:ext cx="757260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1715040" y="304200"/>
            <a:ext cx="66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івнювальний аналіз аналогічного та нового науко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ічного рішення навчального засо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9"/>
          <p:cNvGraphicFramePr/>
          <p:nvPr/>
        </p:nvGraphicFramePr>
        <p:xfrm>
          <a:off x="1371600" y="1371600"/>
          <a:ext cx="662940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662940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58960" y="1406520"/>
          <a:ext cx="5626080" cy="4057560"/>
        </p:xfrm>
        <a:graphic>
          <a:graphicData uri="http://schemas.openxmlformats.org/drawingml/2006/table">
            <a:tbl>
              <a:tblPr/>
              <a:tblGrid>
                <a:gridCol w="2117880"/>
                <a:gridCol w="1752480"/>
                <a:gridCol w="1755720"/>
              </a:tblGrid>
              <a:tr h="944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ажер на основ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nal Rose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аріант №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 розробка комп’ютерного трена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аріант №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ійно-орієнт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ренажера за результатом формування зн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дур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бри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індивідуальної навчальної роб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групової навчальної роб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6"/>
          <p:cNvSpPr/>
          <p:nvPr/>
        </p:nvSpPr>
        <p:spPr>
          <a:xfrm>
            <a:off x="1257840" y="228240"/>
            <a:ext cx="66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івнювальний аналіз аналогічного та нового науко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ічного рішення навчального засо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981080" y="609480"/>
          <a:ext cx="4800600" cy="5851800"/>
        </p:xfrm>
        <a:graphic>
          <a:graphicData uri="http://schemas.openxmlformats.org/drawingml/2006/table">
            <a:tbl>
              <a:tblPr/>
              <a:tblGrid>
                <a:gridCol w="1806840"/>
                <a:gridCol w="1496880"/>
                <a:gridCol w="14968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дистанційного навч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ROM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а через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erne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не та програмне забезпеч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моделі об’єкту чи проце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тацій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тацій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іб побудови навчальної інформаційної моделі об’єкту чи проце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іч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лгоритміч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тренажера з урахуванням фактора ча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чний (ситуаційни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чний (ситуаційни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ійна систе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струментальна система розробки ПЗ тренаж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Visual St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уп до інструментальної системи розроб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еж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навчальних заклад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ль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ень складності розробки П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а універсальній мові програмуванн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ь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ості макрос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кове програмне забезпеч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ізований промисловий  ПП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інь складності розробки інтерфейсу між навчально-інформаційною моделлю та функціональною модель проце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ограмування на системному рівні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ь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будовані механізм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75" name="Овал 4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1504080" y="22788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моделі освоєння навчального матеріал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8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920960" y="1020600"/>
          <a:ext cx="530208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0960" y="1020600"/>
                    <a:ext cx="530208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4267080"/>
            <a:ext cx="6934320" cy="243864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8"/>
          <p:cNvSpPr/>
          <p:nvPr/>
        </p:nvSpPr>
        <p:spPr>
          <a:xfrm>
            <a:off x="1463400" y="7560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дидактичного забезпечення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0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2"/>
          <p:cNvSpPr/>
          <p:nvPr/>
        </p:nvSpPr>
        <p:spPr>
          <a:xfrm>
            <a:off x="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8"/>
          <p:cNvSpPr/>
          <p:nvPr/>
        </p:nvSpPr>
        <p:spPr>
          <a:xfrm>
            <a:off x="457200" y="457200"/>
            <a:ext cx="685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309760" y="838080"/>
          <a:ext cx="45943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9760" y="838080"/>
                    <a:ext cx="45943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733920" y="6324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на система управління ліфтом. Модель структу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6-13T09:33:5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