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4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5.wmf" ContentType="image/x-wmf"/>
  <Override PartName="/ppt/media/image2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6AF-AF1C-40AA-AEA7-CB7810F6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B71-21DA-445E-A4AE-4A5292EA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FA8-6699-43A3-AB65-5C7E6C54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878-0B6B-4419-B07F-4CB5034B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132-0A0C-42A3-98CD-4C270F7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A0C-DA92-4A84-A186-C1B7942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771-27E1-4BEF-A34F-8D890256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A31-F045-4FAD-AED4-6B9612FF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CCA-11BB-4B6B-9641-C059745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F2C-F8FC-458E-96A3-0BC67379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4C3-9C21-4846-9FA6-54BBCC7F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78E-23B1-4258-A29C-7DDBC646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EF7-3F55-429A-AC59-47504D2CE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br>
              <a:rPr sz="20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ИЗОВАНИЙ НАВЧАЛЬНИЙ ЗАСІБ ДЛЯ ПРАКТИЧНОГО ВИВЧЕННЯ ПРОГРАМОВАНОГО РЕЛЕ RELPOL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571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проф. Скидан Ю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Єфанов С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ункціональна схема лабораторного стенду "Система управління приводом позиціонування поворотного затвор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Днепр-8"/>
          <p:cNvPicPr/>
          <p:nvPr/>
        </p:nvPicPr>
        <p:blipFill>
          <a:blip r:embed="rId1"/>
          <a:stretch/>
        </p:blipFill>
        <p:spPr>
          <a:xfrm>
            <a:off x="838080" y="1630440"/>
            <a:ext cx="73882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20600"/>
            <a:ext cx="861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гальна конфігурація універсальної комп’ютеризованої лаборато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акультету КСА В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8"/>
          <p:cNvGraphicFramePr/>
          <p:nvPr/>
        </p:nvGraphicFramePr>
        <p:xfrm>
          <a:off x="685800" y="1031760"/>
          <a:ext cx="7543800" cy="544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31760"/>
                    <a:ext cx="75438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можливих взаємодій в існуючій конфігурації універсального лабораторного сто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ис"/>
          <p:cNvPicPr/>
          <p:nvPr/>
        </p:nvPicPr>
        <p:blipFill>
          <a:blip r:embed="rId1"/>
          <a:stretch/>
        </p:blipFill>
        <p:spPr>
          <a:xfrm>
            <a:off x="228600" y="1752480"/>
            <a:ext cx="3809880" cy="351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Рис"/>
          <p:cNvPicPr/>
          <p:nvPr/>
        </p:nvPicPr>
        <p:blipFill>
          <a:blip r:embed="rId2"/>
          <a:stretch/>
        </p:blipFill>
        <p:spPr>
          <a:xfrm>
            <a:off x="5029200" y="1295280"/>
            <a:ext cx="354348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6095880" y="6095880"/>
            <a:ext cx="27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 фізичною моделлю технологічного об’єк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219320" y="6095880"/>
            <a:ext cx="271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і спеціалізованим настільним стен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конфігурації нового комп’ютеризованого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Рис"/>
          <p:cNvPicPr/>
          <p:nvPr/>
        </p:nvPicPr>
        <p:blipFill>
          <a:blip r:embed="rId1"/>
          <a:stretch/>
        </p:blipFill>
        <p:spPr>
          <a:xfrm>
            <a:off x="2297160" y="457200"/>
            <a:ext cx="4805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763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0"/>
          <p:cNvGraphicFramePr/>
          <p:nvPr/>
        </p:nvGraphicFramePr>
        <p:xfrm>
          <a:off x="228600" y="428760"/>
          <a:ext cx="8458200" cy="61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28760"/>
                    <a:ext cx="8458200" cy="61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функціона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6"/>
          <p:cNvGraphicFramePr/>
          <p:nvPr/>
        </p:nvGraphicFramePr>
        <p:xfrm>
          <a:off x="228600" y="434880"/>
          <a:ext cx="8686800" cy="61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34880"/>
                    <a:ext cx="8686800" cy="61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підклю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838080" y="439560"/>
          <a:ext cx="7772400" cy="626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39560"/>
                    <a:ext cx="7772400" cy="626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76320" y="16668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числювальні ресурси вибраної конфігурації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9"/>
          <p:cNvGraphicFramePr/>
          <p:nvPr/>
        </p:nvGraphicFramePr>
        <p:xfrm>
          <a:off x="1905120" y="1523880"/>
          <a:ext cx="48765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3880"/>
                    <a:ext cx="48765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рхітектура програм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228600" y="1870200"/>
          <a:ext cx="868680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70200"/>
                    <a:ext cx="868680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3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даних програм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7"/>
          <p:cNvGraphicFramePr/>
          <p:nvPr/>
        </p:nvGraphicFramePr>
        <p:xfrm>
          <a:off x="2319480" y="457200"/>
          <a:ext cx="44622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457200"/>
                    <a:ext cx="4462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6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304920" y="457200"/>
            <a:ext cx="8610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етою дипломного проектування є розробка комп’ютеризованого навчального засобу для професійно-орієнтованої дисципліни "Засоби автоматизації комп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ютерних систем управління" (ЗАКСУ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повинен враховувати навчально-методичні особливості практичного курсу даної дисциплі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повинен будуватися на основі програмованого рел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Relpol"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та сучасних інформаційно-комунікаційних технологі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повинен максимально інтегруватися в комп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ютеризовану систему учбової лабораторії "Промислова мікропроцесорна техніка"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акультету КСА ВНТУ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еалізація навчального засобу в учбовій лабораторії повинна потребувати мінімальних витрат кошт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лгоритмічне забезпечення навчальних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228600" y="2514600"/>
          <a:ext cx="495288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95288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9"/>
          <p:cNvSpPr/>
          <p:nvPr/>
        </p:nvSpPr>
        <p:spPr>
          <a:xfrm>
            <a:off x="609480" y="4740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я навчального засобу з введенням різних сигналів до реле “Relpo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10"/>
          <p:cNvGraphicFramePr/>
          <p:nvPr/>
        </p:nvGraphicFramePr>
        <p:xfrm>
          <a:off x="5351400" y="533520"/>
          <a:ext cx="3640320" cy="617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533520"/>
                    <a:ext cx="36403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лгоритмічне забезпечення навчальних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80880" y="4740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я навчального засобу з виведенням різних сигналів з реле “Relpo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228600" y="2666880"/>
          <a:ext cx="466092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46609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1"/>
          <p:cNvGraphicFramePr/>
          <p:nvPr/>
        </p:nvGraphicFramePr>
        <p:xfrm>
          <a:off x="6002280" y="457200"/>
          <a:ext cx="2952720" cy="617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2280" y="457200"/>
                    <a:ext cx="29527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лгоритмічне забезпечення навчальних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880" y="493884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я навчального засобу для управлі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хнологічним об’єктом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10"/>
          <p:cNvGraphicFramePr/>
          <p:nvPr/>
        </p:nvGraphicFramePr>
        <p:xfrm>
          <a:off x="415800" y="2590920"/>
          <a:ext cx="47656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590920"/>
                    <a:ext cx="47656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1"/>
          <p:cNvGraphicFramePr/>
          <p:nvPr/>
        </p:nvGraphicFramePr>
        <p:xfrm>
          <a:off x="5775480" y="380880"/>
          <a:ext cx="336852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5480" y="380880"/>
                    <a:ext cx="3368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кладальний кресл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8"/>
          <p:cNvGraphicFramePr/>
          <p:nvPr/>
        </p:nvGraphicFramePr>
        <p:xfrm>
          <a:off x="457200" y="838080"/>
          <a:ext cx="815328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15328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763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оптимального навчального процесу практичного                          освоєння знань з дисципліни "ЗАКС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2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1647720" y="1905120"/>
          <a:ext cx="58960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1905120"/>
                    <a:ext cx="5896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04920" y="685800"/>
            <a:ext cx="86104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ля всебічного вивчення програмованого реле “Relpol” доцільно проводити практичні заняття за такою тематико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пособи та засоби конфігурування програмованого реле для рішення різних практичних задач КС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лаштування та програмування реле “Relpol” для введення сигналів промислових датчик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лаштування та програмування реле “Relpol” для виведення сигналів управління виконавчими пристро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лаштування та програмування реле “Relpol” для реалізації алгоритмів управління різними технічними або технологічними об’єктами (процес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ограмування реле “Relpol” для реалізації графічного інтерфейсу людини-оператора К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Лабораторний стенд "Основи автоматики" НПП «Учтех-Профи» (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9160" y="5943600"/>
            <a:ext cx="78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екземпляр лабораторного стенда продається по ціні приблизно 1,1 тис. умовних одиниц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>
            <a:lum contrast="24000"/>
          </a:blip>
          <a:srcRect l="0" t="0" r="1155" b="0"/>
          <a:stretch/>
        </p:blipFill>
        <p:spPr>
          <a:xfrm>
            <a:off x="1523880" y="1700280"/>
            <a:ext cx="616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’ютеризований багатофункціональний лабораторний модуль "Інтелектуальне реле ZEN"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ПП «Учтех-Профи» (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14400" y="57150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: 34,79 тис. рублів (для навчальних закладів Росі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64176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04920" y="0"/>
            <a:ext cx="8610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’ютеризований лабораторний стенд "Програмоване реле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модель ПР1-Н-Р) інженерно-виробничого центру «Учебная техни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м. Челябінськ, 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14400" y="57150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64,6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2"/>
          <p:cNvPicPr/>
          <p:nvPr/>
        </p:nvPicPr>
        <p:blipFill>
          <a:blip r:embed="rId1"/>
          <a:srcRect l="0" t="12714" r="0" b="11559"/>
          <a:stretch/>
        </p:blipFill>
        <p:spPr>
          <a:xfrm>
            <a:off x="1981080" y="1752480"/>
            <a:ext cx="537552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04920" y="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’ютеризований лабораторний стенд "Автоматика на основі програмованого реле" моделі АПР1-Н-Р інженерно-виробничого центру «Учебная техника» (м. Челябінськ, 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914400" y="57150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118,2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2"/>
          <p:cNvPicPr/>
          <p:nvPr/>
        </p:nvPicPr>
        <p:blipFill>
          <a:blip r:embed="rId1"/>
          <a:srcRect l="0" t="15092" r="0" b="12163"/>
          <a:stretch/>
        </p:blipFill>
        <p:spPr>
          <a:xfrm>
            <a:off x="1447920" y="1760400"/>
            <a:ext cx="64976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ніверсальна комп’ютеризована лабораторія кафедри                         "Автоматизація й комп'ютерні системи" НГУ (м. Дніпропетровсь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914400" y="57150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оцінка вартості основного обладнання та програмного забезпечення лабораторії складає 8600,0 є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Днепр-2"/>
          <p:cNvPicPr/>
          <p:nvPr/>
        </p:nvPicPr>
        <p:blipFill>
          <a:blip r:embed="rId1"/>
          <a:stretch/>
        </p:blipFill>
        <p:spPr>
          <a:xfrm>
            <a:off x="1828800" y="106668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2T12:43:34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