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9.wmf" ContentType="image/x-wmf"/>
  <Override PartName="/ppt/media/image11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4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5.wmf" ContentType="image/x-wmf"/>
  <Override PartName="/ppt/media/image2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C41C-EF21-4F8B-B212-360EC43E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B58-5604-480E-AF6D-5B5681F2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EF9-33B1-4AD3-B332-ECAA88EB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98C-0D40-4BC4-9EB8-224DD9C7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01CB-9E88-4653-A361-EDC21BCD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F83-F962-4A4E-B210-ECBACC56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8CF-97FA-4D66-8DCA-674655ED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156-3C2F-450E-87F9-DF660AEC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A88-FEF0-4A2F-BFA0-4B23EC9F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8ED-10E9-47E8-84F2-D1F8E2A9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8BA-2D6C-4683-930A-6BD7F2C2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639-1130-48FB-9070-86BF22AA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0104-45E2-49AF-8C98-1037F80EA5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ий проект</a:t>
            </a:r>
            <a:br>
              <a:rPr sz="20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’ЮТЕРИЗОВАНИЙ НАВЧАЛЬНИЙ ЗАСІБ ДЛЯ ПРАКТИЧНОГО ВИВЧЕННЯ ПРОГРАМОВАНОГО РЕЛЕ RELPOL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4571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ерівник проекту: к.т.н., проф. Скидан Ю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робив: студент гр. КСУА-14сп з/в Єфанов С.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4920" y="120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Функціональна схема лабораторного стенду "Система управління приводом позиціонування поворотного затвора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Днепр-8"/>
          <p:cNvPicPr/>
          <p:nvPr/>
        </p:nvPicPr>
        <p:blipFill>
          <a:blip r:embed="rId1"/>
          <a:stretch/>
        </p:blipFill>
        <p:spPr>
          <a:xfrm>
            <a:off x="838080" y="1630440"/>
            <a:ext cx="738828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04920" y="120600"/>
            <a:ext cx="861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гальна конфігурація універсальної комп’ютеризованої лаборатор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факультету КСА В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8"/>
          <p:cNvGraphicFramePr/>
          <p:nvPr/>
        </p:nvGraphicFramePr>
        <p:xfrm>
          <a:off x="685800" y="1031760"/>
          <a:ext cx="7543800" cy="544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31760"/>
                    <a:ext cx="7543800" cy="54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647712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04920" y="120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хема можливих взаємодій в існуючій конфігурації універсального лабораторного сто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Рис"/>
          <p:cNvPicPr/>
          <p:nvPr/>
        </p:nvPicPr>
        <p:blipFill>
          <a:blip r:embed="rId1"/>
          <a:stretch/>
        </p:blipFill>
        <p:spPr>
          <a:xfrm>
            <a:off x="228600" y="1752480"/>
            <a:ext cx="3809880" cy="3516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Рис"/>
          <p:cNvPicPr/>
          <p:nvPr/>
        </p:nvPicPr>
        <p:blipFill>
          <a:blip r:embed="rId2"/>
          <a:stretch/>
        </p:blipFill>
        <p:spPr>
          <a:xfrm>
            <a:off x="5029200" y="1295280"/>
            <a:ext cx="3543480" cy="4496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6095880" y="6095880"/>
            <a:ext cx="271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 фізичною моделлю технологічного об’єк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219320" y="6095880"/>
            <a:ext cx="271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і спеціалізованим настільним стен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647712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04920" y="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аріант конфігурації нового комп’ютеризованого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Рис"/>
          <p:cNvPicPr/>
          <p:nvPr/>
        </p:nvPicPr>
        <p:blipFill>
          <a:blip r:embed="rId1"/>
          <a:stretch/>
        </p:blipFill>
        <p:spPr>
          <a:xfrm>
            <a:off x="2297160" y="457200"/>
            <a:ext cx="48052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3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76320" y="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'ютеризований навчальний засіб. Схема електрична структу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20"/>
          <p:cNvGraphicFramePr/>
          <p:nvPr/>
        </p:nvGraphicFramePr>
        <p:xfrm>
          <a:off x="228600" y="428760"/>
          <a:ext cx="8458200" cy="61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28760"/>
                    <a:ext cx="8458200" cy="61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2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'ютеризований навчальний засіб. Схема електрична функціональ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6"/>
          <p:cNvGraphicFramePr/>
          <p:nvPr/>
        </p:nvGraphicFramePr>
        <p:xfrm>
          <a:off x="228600" y="434880"/>
          <a:ext cx="8686800" cy="61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34880"/>
                    <a:ext cx="8686800" cy="61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'ютеризований навчальний засіб. Схема електрична підклю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838080" y="439560"/>
          <a:ext cx="7772400" cy="626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39560"/>
                    <a:ext cx="7772400" cy="626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76320" y="16668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бчислювальні ресурси вибраної конфігурації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9"/>
          <p:cNvGraphicFramePr/>
          <p:nvPr/>
        </p:nvGraphicFramePr>
        <p:xfrm>
          <a:off x="1905120" y="1523880"/>
          <a:ext cx="487656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23880"/>
                    <a:ext cx="487656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рхітектура програмного забезпечення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5"/>
          <p:cNvGraphicFramePr/>
          <p:nvPr/>
        </p:nvGraphicFramePr>
        <p:xfrm>
          <a:off x="228600" y="1870200"/>
          <a:ext cx="8686800" cy="30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70200"/>
                    <a:ext cx="868680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3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хема даних програмного забезпечення навчального засо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27"/>
          <p:cNvGraphicFramePr/>
          <p:nvPr/>
        </p:nvGraphicFramePr>
        <p:xfrm>
          <a:off x="2319480" y="457200"/>
          <a:ext cx="44622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9480" y="457200"/>
                    <a:ext cx="44622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6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304920" y="457200"/>
            <a:ext cx="861048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етою дипломного проектування є розробка комп’ютеризованого навчального засобу для професійно-орієнтованої дисципліни "Засоби автоматизації комп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ютерних систем управління" (ЗАКСУ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вчальний засіб повинен враховувати навчально-методичні особливості практичного курсу даної дисциплі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вчальний засіб повинен будуватися на основі програмованого рел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Relpol"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та сучасних інформаційно-комунікаційних технологі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вчальний засіб повинен максимально інтегруватися в комп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ютеризовану систему учбової лабораторії "Промислова мікропроцесорна техніка"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факультету КСА ВНТУ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еалізація навчального засобу в учбовій лабораторії повинна потребувати мінімальних витрат кошт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лгоритмічне забезпечення навчальних завд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228600" y="2514600"/>
          <a:ext cx="4952880" cy="20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95288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9"/>
          <p:cNvSpPr/>
          <p:nvPr/>
        </p:nvSpPr>
        <p:spPr>
          <a:xfrm>
            <a:off x="609480" y="47401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рганізація навчального засобу з введенням різних сигналів до реле “Relpo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10"/>
          <p:cNvGraphicFramePr/>
          <p:nvPr/>
        </p:nvGraphicFramePr>
        <p:xfrm>
          <a:off x="5351400" y="533520"/>
          <a:ext cx="3640320" cy="617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1400" y="533520"/>
                    <a:ext cx="36403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лгоритмічне забезпечення навчальних завд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80880" y="47401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рганізація навчального засобу з виведенням різних сигналів з реле “Relpo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0"/>
          <p:cNvGraphicFramePr/>
          <p:nvPr/>
        </p:nvGraphicFramePr>
        <p:xfrm>
          <a:off x="228600" y="2666880"/>
          <a:ext cx="4660920" cy="16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66880"/>
                    <a:ext cx="466092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1"/>
          <p:cNvGraphicFramePr/>
          <p:nvPr/>
        </p:nvGraphicFramePr>
        <p:xfrm>
          <a:off x="6002280" y="457200"/>
          <a:ext cx="2952720" cy="617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2280" y="457200"/>
                    <a:ext cx="29527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лгоритмічне забезпечення навчальних завд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0880" y="493884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рганізація навчального засобу для управлі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ехнологічним об’єктом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10"/>
          <p:cNvGraphicFramePr/>
          <p:nvPr/>
        </p:nvGraphicFramePr>
        <p:xfrm>
          <a:off x="415800" y="2590920"/>
          <a:ext cx="476568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2590920"/>
                    <a:ext cx="47656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1"/>
          <p:cNvGraphicFramePr/>
          <p:nvPr/>
        </p:nvGraphicFramePr>
        <p:xfrm>
          <a:off x="5775480" y="380880"/>
          <a:ext cx="3368520" cy="640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75480" y="380880"/>
                    <a:ext cx="33685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2"/>
          <p:cNvSpPr/>
          <p:nvPr/>
        </p:nvSpPr>
        <p:spPr>
          <a:xfrm>
            <a:off x="7632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'ютеризований навчальний засіб. Складальний кресл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0" y="6477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8"/>
          <p:cNvGraphicFramePr/>
          <p:nvPr/>
        </p:nvGraphicFramePr>
        <p:xfrm>
          <a:off x="457200" y="838080"/>
          <a:ext cx="8153280" cy="53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15328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33520" y="7632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хема оптимального навчального процесу практичного                          освоєння знань з дисципліни "ЗАКСУ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21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Object 5"/>
          <p:cNvGraphicFramePr/>
          <p:nvPr/>
        </p:nvGraphicFramePr>
        <p:xfrm>
          <a:off x="1647720" y="1905120"/>
          <a:ext cx="58960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7720" y="1905120"/>
                    <a:ext cx="5896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04920" y="685800"/>
            <a:ext cx="861048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Для всебічного вивчення програмованого реле “Relpol” доцільно проводити практичні заняття за такою тематико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4288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пособи та засоби конфігурування програмованого реле для рішення різних практичних задач КС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4288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лаштування та програмування реле “Relpol” для введення сигналів промислових датчик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4288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лаштування та програмування реле “Relpol” для виведення сигналів управління виконавчими пристро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4288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лаштування та програмування реле “Relpol” для реалізації алгоритмів управління різними технічними або технологічними об’єктами (процеса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4288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рограмування реле “Relpol” для реалізації графічного інтерфейсу людини-оператора К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04920" y="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Лабораторний стенд "Основи автоматики" НПП «Учтех-Профи» (Росі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9160" y="5943600"/>
            <a:ext cx="78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екземпляр лабораторного стенда продається по ціні приблизно 1,1 тис. умовних одиниц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>
            <a:lum contrast="24000"/>
          </a:blip>
          <a:srcRect l="0" t="0" r="1155" b="0"/>
          <a:stretch/>
        </p:blipFill>
        <p:spPr>
          <a:xfrm>
            <a:off x="1523880" y="1700280"/>
            <a:ext cx="61628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049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’ютеризований багатофункціональний лабораторний модуль "Інтелектуальне реле ZEN"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ПП «Учтех-Профи» (Росі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914400" y="571500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а: 34,79 тис. рублів (для навчальних закладів Росі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64176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04920" y="0"/>
            <a:ext cx="8610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’ютеризований лабораторний стенд "Програмоване реле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(модель ПР1-Н-Р) інженерно-виробничого центру «Учебная техни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(м. Челябінськ, Росі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914400" y="571500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а - 64,6 тис. рубл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2"/>
          <p:cNvPicPr/>
          <p:nvPr/>
        </p:nvPicPr>
        <p:blipFill>
          <a:blip r:embed="rId1"/>
          <a:srcRect l="0" t="12714" r="0" b="11559"/>
          <a:stretch/>
        </p:blipFill>
        <p:spPr>
          <a:xfrm>
            <a:off x="1981080" y="1752480"/>
            <a:ext cx="537552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04920" y="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мп’ютеризований лабораторний стенд "Автоматика на основі програмованого реле" моделі АПР1-Н-Р інженерно-виробничого центру «Учебная техника» (м. Челябінськ, Росі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914400" y="571500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а - 118,2 тис. рубл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2"/>
          <p:cNvPicPr/>
          <p:nvPr/>
        </p:nvPicPr>
        <p:blipFill>
          <a:blip r:embed="rId1"/>
          <a:srcRect l="0" t="15092" r="0" b="12163"/>
          <a:stretch/>
        </p:blipFill>
        <p:spPr>
          <a:xfrm>
            <a:off x="1447920" y="1760400"/>
            <a:ext cx="64976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20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Універсальна комп’ютеризована лабораторія кафедри                         "Автоматизація й комп'ютерні системи" НГУ (м. Дніпропетровсь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914400" y="571500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оцінка вартості основного обладнання та програмного забезпечення лабораторії складає 8600,0 є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Днепр-2"/>
          <p:cNvPicPr/>
          <p:nvPr/>
        </p:nvPicPr>
        <p:blipFill>
          <a:blip r:embed="rId1"/>
          <a:stretch/>
        </p:blipFill>
        <p:spPr>
          <a:xfrm>
            <a:off x="1828800" y="1066680"/>
            <a:ext cx="5664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6-12T12:43:34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