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C89-ADB5-4C00-A69F-2A6D5685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9CC-1202-42E3-A690-30D24FFC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743-25F4-40F7-A4A5-9B2C8EC7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700-01B1-422B-A0B9-4379EDF9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3389-AA9E-4D1D-9762-1FBEE525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040D-CDCF-42EA-831E-0F828963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C2BC-A212-4E52-8346-3B89AC5A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ACE5-40E8-4C44-BA17-4D63827E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B41F-481C-4E37-9C23-ED0F4D05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3AF3-81C7-49BF-80DF-54C85C3E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E072-D4E3-4C01-9D63-F72ABE4A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D0B-99CB-4759-8137-0D9B4AA7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1778-DBB4-4B14-B502-2932C6AB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1F6C-0428-42A5-8343-0B5BC2D6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D554-EB83-4039-A45C-5992DD2C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7E89-5C33-4D09-83BA-C019EEB4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659A-B34D-4827-939C-496BCDA4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207C-6B69-40B8-A4C4-41F69D97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6F6E0-F17C-4D75-9A99-62E0B5E5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265F9-1101-4EBA-B201-44323CB1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C4415-7C3C-44CA-999E-C38CDCE6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74B94-5983-4AEA-91D7-1B3F1E06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C48-20AE-448C-B308-916360A0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5478-B0FD-4752-9790-99852683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F1804-156F-40A3-8DF7-D1AAA70B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A8EF-F1B9-4DB7-9A1D-D7DEDDD7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26F7A-7785-43E9-AC35-C9030681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7FB2C-04FB-432D-9668-D318A3BC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EAFA9-61DC-4A4B-956D-8364BED5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0CC1-F13B-45ED-9105-ADAA8139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23DE-CFEC-46D5-A77C-62F13C3F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3EBE-C010-43EF-A7DF-063BF7C9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84D62-85A1-472A-8DE5-F261A3C9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B11-C875-42BE-B0FE-D2A067D0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64F01-B168-4E12-98C8-EA3FEC90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DDFF8-226F-4AAC-9091-8537E4DB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FC38-E2FB-43F7-9ED0-9774427D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F51FF-0129-4AE5-BA90-ABD08156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7E7E1-8077-464E-848F-7CEE15A4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11DD-14F4-4672-8D3C-F22517BB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7615C-19CC-4149-B7AC-28A35B89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4A4FC-178E-44B9-ADD3-585A32A6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2CAB-5FF9-407D-B3F7-E0B8F24F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59DD8-1BE9-424F-941B-9DCD67A9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B5D-BADB-41AF-9EB2-BE77DB47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6274A-659A-4605-8337-4C5400D3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18E89-801E-4718-9D40-71BD61EE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F6397-0E17-4C26-A243-2E0AF682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FF7F2-CF8B-4D08-A764-A837C3A8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6669C-F0AD-4029-B914-6D585A01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35C08-997D-4AD7-83A2-E231D054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716F8-3008-46BA-AA23-53A9CBA1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CE0F7-AB14-45EC-ADDA-2C3E0789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21A75-E1CA-4850-B405-2F9BD1F8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5AB4F-4AD3-486F-A19C-4F7506BD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E01-6731-4C74-B193-3C2CDAEE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7E3CA-A03C-4858-A67F-51871BE5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7545F-3463-4666-9769-6DABFCEC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665C8-8D9B-4198-B083-127C7586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889E1-5785-4AC4-9B7D-EA9981A3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A0370-ABB5-4F82-BAEE-D0D4821D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2CA7D-7E73-4F92-AF7D-68078148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EBC02-C0B2-404E-85B4-AB96BA1E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55813-8B4D-4AB5-905F-D9520299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8A71B-7DFF-48E1-920A-3017E977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87F04-7F07-4249-9134-B649DA36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7BB-82AB-44B6-A946-38AEB824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2E252-D9F6-45AF-8F94-1969BF5F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75111-8397-4EEB-9C64-EAA4BD88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BA9C6-FDA0-427B-AE8C-96D5AC35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F6EC5-42AD-4069-B578-1443367D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9596E-5F9B-48A2-9E16-CEF59986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2C1E3-E880-480F-8BBB-D21787E4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DEF71-8C15-44A0-812C-143B9637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96352-437F-4870-8CA5-0F12E6A2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ED29A-95BD-47B8-A490-33AD8E77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A07D2-FE35-42D4-AC3C-D1282B36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F69-22AB-4D3F-97A5-7AFB353C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CD70E-242D-4A31-A136-2B9CA2DA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5F0A3-33EC-4440-B85F-E5BDC4FF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4520D-B037-47BF-9783-FD9FFABB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112B4-8208-4F0D-93DD-142DEB5C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5011C-D84E-47D3-BC26-498B0E4C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349-2020-4BC6-B61A-44823DAC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7560" y="-816120"/>
            <a:ext cx="1641600" cy="1638360"/>
          </a:xfrm>
          <a:custGeom>
            <a:avLst/>
            <a:gdLst/>
            <a:ahLst/>
            <a:rect l="l" t="t" r="r" b="b"/>
            <a:pathLst>
              <a:path w="1641476" h="1638300">
                <a:moveTo>
                  <a:pt x="1641476" y="819150"/>
                </a:moveTo>
                <a:cubicBezTo>
                  <a:pt x="1641476" y="1036765"/>
                  <a:pt x="1554718" y="1245435"/>
                  <a:pt x="1400346" y="1399116"/>
                </a:cubicBezTo>
                <a:cubicBezTo>
                  <a:pt x="1246365" y="1552408"/>
                  <a:pt x="1037718" y="1638434"/>
                  <a:pt x="820233" y="1638300"/>
                </a:cubicBezTo>
                <a:cubicBezTo>
                  <a:pt x="820401" y="1365250"/>
                  <a:pt x="820570" y="1092200"/>
                  <a:pt x="820738" y="819150"/>
                </a:cubicBezTo>
                <a:lnTo>
                  <a:pt x="1641476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9920" y="20520"/>
            <a:ext cx="1701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D40A-9F1E-4CE1-AA6B-8D63BEE47505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EFB5-74A1-4AB0-A80E-A09372137A3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7560" y="-816120"/>
            <a:ext cx="1641600" cy="1638360"/>
          </a:xfrm>
          <a:custGeom>
            <a:avLst/>
            <a:gdLst/>
            <a:ahLst/>
            <a:rect l="l" t="t" r="r" b="b"/>
            <a:pathLst>
              <a:path w="1641476" h="1638300">
                <a:moveTo>
                  <a:pt x="1641476" y="819150"/>
                </a:moveTo>
                <a:cubicBezTo>
                  <a:pt x="1641476" y="1036765"/>
                  <a:pt x="1554718" y="1245435"/>
                  <a:pt x="1400346" y="1399116"/>
                </a:cubicBezTo>
                <a:cubicBezTo>
                  <a:pt x="1246365" y="1552408"/>
                  <a:pt x="1037718" y="1638434"/>
                  <a:pt x="820233" y="1638300"/>
                </a:cubicBezTo>
                <a:cubicBezTo>
                  <a:pt x="820401" y="1365250"/>
                  <a:pt x="820570" y="1092200"/>
                  <a:pt x="820738" y="819150"/>
                </a:cubicBezTo>
                <a:lnTo>
                  <a:pt x="1641476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9920" y="20520"/>
            <a:ext cx="1701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82A7-85FF-40C2-9AB6-4E792DB8C787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1F0C-6B19-47BD-AE07-43DF53B713E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45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3A6D-37CB-4815-BE58-F1167E4A7683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C0D2-0460-491B-8DE7-19CE798475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DF89-A91E-440F-A385-66BF5E2EBF0D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2BDD-9859-485F-A50E-58C0DDDA659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CFE9-AC46-442B-B8EF-6AAEF707FF14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5FF1-9C9A-4B9E-85F6-9A5AE4AD5DE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0624-BB03-4C02-88A6-2036B0899026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284B-E94F-4803-916C-BAF57BB1EB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81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5936-8529-4BF6-9054-2BE852BA250B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72D6-A0FE-4715-A4A3-51598CBB7B5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BB4B-17F8-4F5F-A73E-F9EFEC947C4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02920" y="4365720"/>
            <a:ext cx="7093080" cy="82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конав 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.О. Гордійчук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уковий керівник – В.В. Ковтун , к.т.н., доцент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ецензент – В.М. Папінов, доц. кафедри АІВ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Заголовок 3"/>
          <p:cNvSpPr/>
          <p:nvPr/>
        </p:nvSpPr>
        <p:spPr>
          <a:xfrm>
            <a:off x="1000080" y="1844640"/>
            <a:ext cx="81439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Розробка інформаційної системи «фотогалерея» для сайту факультету К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5CD2-812E-4B52-A787-D2FD2BE806E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Заголовок 1"/>
          <p:cNvSpPr/>
          <p:nvPr/>
        </p:nvSpPr>
        <p:spPr>
          <a:xfrm>
            <a:off x="1042920" y="26028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L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аграма варіантів використ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1"/>
          <p:cNvSpPr/>
          <p:nvPr/>
        </p:nvSpPr>
        <p:spPr>
          <a:xfrm>
            <a:off x="-9540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Об'єкт 3"/>
          <p:cNvGraphicFramePr/>
          <p:nvPr/>
        </p:nvGraphicFramePr>
        <p:xfrm>
          <a:off x="1042920" y="907920"/>
          <a:ext cx="800568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Об'є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07920"/>
                    <a:ext cx="800568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29D6-485B-4459-817F-FD4AE6E72D5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Заголовок 1"/>
          <p:cNvSpPr/>
          <p:nvPr/>
        </p:nvSpPr>
        <p:spPr>
          <a:xfrm>
            <a:off x="1065240" y="2232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L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аграма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Об'єкт 3"/>
          <p:cNvGraphicFramePr/>
          <p:nvPr/>
        </p:nvGraphicFramePr>
        <p:xfrm>
          <a:off x="1835280" y="539640"/>
          <a:ext cx="6114960" cy="607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Об'є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539640"/>
                    <a:ext cx="6114960" cy="607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9F4C-8134-40BF-953F-9FD32655F79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Заголовок 1"/>
          <p:cNvSpPr/>
          <p:nvPr/>
        </p:nvSpPr>
        <p:spPr>
          <a:xfrm>
            <a:off x="1042920" y="26028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L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аграма послідов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6"/>
          <p:cNvGraphicFramePr/>
          <p:nvPr/>
        </p:nvGraphicFramePr>
        <p:xfrm>
          <a:off x="2050920" y="836640"/>
          <a:ext cx="591516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836640"/>
                    <a:ext cx="591516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2967-A9DB-45E1-A121-7CBCCA61B5A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Заголовок 1"/>
          <p:cNvSpPr/>
          <p:nvPr/>
        </p:nvSpPr>
        <p:spPr>
          <a:xfrm>
            <a:off x="1042920" y="26028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L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аграма компон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Об'єкт 3"/>
          <p:cNvGraphicFramePr/>
          <p:nvPr/>
        </p:nvGraphicFramePr>
        <p:xfrm>
          <a:off x="1258920" y="907920"/>
          <a:ext cx="7048440" cy="571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Об'є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907920"/>
                    <a:ext cx="7048440" cy="57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0BF8-C190-41F5-90B4-23E75B1B366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Заголовок 1"/>
          <p:cNvSpPr/>
          <p:nvPr/>
        </p:nvSpPr>
        <p:spPr>
          <a:xfrm>
            <a:off x="1042920" y="26028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L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аграма розгорт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Об'єкт 3"/>
          <p:cNvGraphicFramePr/>
          <p:nvPr/>
        </p:nvGraphicFramePr>
        <p:xfrm>
          <a:off x="1290600" y="1484280"/>
          <a:ext cx="76057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Об'є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1484280"/>
                    <a:ext cx="7605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12A1-381D-452F-8EFF-75444FFF246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Заголовок 1"/>
          <p:cNvSpPr/>
          <p:nvPr/>
        </p:nvSpPr>
        <p:spPr>
          <a:xfrm>
            <a:off x="1042920" y="26028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R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дель бази да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Об'єкт 4"/>
          <p:cNvGraphicFramePr/>
          <p:nvPr/>
        </p:nvGraphicFramePr>
        <p:xfrm>
          <a:off x="1101600" y="763560"/>
          <a:ext cx="80424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Об'є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63560"/>
                    <a:ext cx="80424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4405-66D0-4B4C-845C-676926A00D0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Заголовок 1"/>
          <p:cNvSpPr/>
          <p:nvPr/>
        </p:nvSpPr>
        <p:spPr>
          <a:xfrm>
            <a:off x="1042920" y="40464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гляд фотограф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Рисунок 8" descr=""/>
          <p:cNvPicPr/>
          <p:nvPr/>
        </p:nvPicPr>
        <p:blipFill>
          <a:blip r:embed="rId1"/>
          <a:srcRect l="0" t="4266" r="0" b="2467"/>
          <a:stretch/>
        </p:blipFill>
        <p:spPr>
          <a:xfrm>
            <a:off x="1106640" y="1268280"/>
            <a:ext cx="79740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номера слайда 3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C32B-82CF-45B5-9546-95ABD3EB75E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53036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15303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153036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153036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15303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153036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8"/>
          <p:cNvSpPr/>
          <p:nvPr/>
        </p:nvSpPr>
        <p:spPr>
          <a:xfrm>
            <a:off x="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0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1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Заголовок 3"/>
          <p:cNvSpPr/>
          <p:nvPr/>
        </p:nvSpPr>
        <p:spPr>
          <a:xfrm>
            <a:off x="1071720" y="2421000"/>
            <a:ext cx="8072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1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Arial"/>
                <a:ea typeface="Arial"/>
              </a:rPr>
              <a:t>Дякую за ува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6:33:52Z</dcterms:created>
  <dc:creator>Саша</dc:creator>
  <dc:description/>
  <dc:language>en-US</dc:language>
  <cp:lastModifiedBy>predatorhmo</cp:lastModifiedBy>
  <dcterms:modified xsi:type="dcterms:W3CDTF">2015-06-22T19:12:35Z</dcterms:modified>
  <cp:revision>85</cp:revision>
  <dc:subject/>
  <dc:title>Курсова робота ПРОЕКТУВАННЯ БАЗИ ДАНИХ ПРЕДМЕТНОЇ ОБЛАСТІ «XXXXXXXXXXXXXXXXXXXXXXXXXXXXXXXXX»</dc:title>
</cp:coreProperties>
</file>