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828E-0230-4134-9013-B9285194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425-3D72-4508-9632-043A592C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BF2-5B17-40C1-BD4C-8171F760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4B0-30A8-494A-A123-B5646287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41E7-EC48-41B6-A1AC-A42649F4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88AA-BB3B-4B73-B1A6-16E9E963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43C5-6FCD-484C-B734-FE3DB47D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4E13-83A4-4849-A1DC-D152B534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478B-A0B9-4255-9082-C47F8444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6026-41AD-4A70-8A29-670BF34E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521A-BE98-4708-AA5B-51CFFBC1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8FF-B978-46DE-98DD-33FACB42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1EEC-A0A5-41F5-B674-2086E7A3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DE20-0736-4206-AF82-5036F629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68A8-CC9B-4EBF-B49C-C9B68E1A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9A86-1B24-43A9-B586-47D5FA01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3BD7-4B79-45FA-9E63-394FF9E6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2254C-158A-497C-9173-D2B8FF5A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A379A-5C76-4DEF-B7A4-4B95D67C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92A9C-CE99-43CA-972C-E71F70BA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E490A-E87D-414A-967F-2B5875B7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FDE78-C1A4-4862-885F-3F77CB79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75F-FE2D-41E2-B710-960CBEFA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7B727-0F1A-4B0B-95DB-3E5815B7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4C303-0008-4F7F-AB68-74099B2F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F034D-F96C-4086-ACEA-D6AFAF15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5A888-2D64-40CE-AE2D-B93DE350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39F21-4032-440F-B9CE-87C3B347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13226-70F3-45A8-8BE1-86605CAF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5CC0D-444F-46AB-B568-257DFDA3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4FBF8-B85E-4079-9C95-73A689D2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7793B-3F69-42A2-9AD9-D1729EC8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4F5C2-17AB-49F7-B6BD-0E87A3BC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E7B-8703-4DB5-B487-9C94C2F1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CEBB6-47D5-4AB2-8816-C9A2781B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C4AB5-F731-41CC-8865-0824BF81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E55A1-257C-41D1-9105-7BB84974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C6E14-C33F-4DCB-BE3E-CB10B841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5C62C-EA30-44A6-AF6E-152607A2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D6055-2B33-4A93-A80F-06AE8FB1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D808A-C261-40EA-8000-583C089E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21BC4-E4AD-405E-8B53-EAA0A15F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7F277-C782-4D58-8E3B-55E38D6E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E942F-D8CF-43CD-AB30-08DD462C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8F9-C67D-44BE-BA42-20F14C79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E51EF-8DE0-4885-A441-BF0510F5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2187A-D9BE-4973-AFDA-88A2DB11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D1D9D-7EAF-4013-86B6-2501DF8B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7AA0A-408E-4E4B-8F3C-5F6CC786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AC44F-26D5-41C1-AB30-0E039E4E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37133-5C07-466F-9776-BEECBD2E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9E3A9-4BC6-464F-9552-6B87C313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11A10-974C-46D7-87BE-3902F003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8987D-184E-4C44-8478-40EE998B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FBD63-AA00-4847-9EB6-CA21DF2A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40F-0640-45D8-AFF5-015EF980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372F3-29B4-4C17-BE17-8543A36E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5A4E6-704B-410C-983E-04D80CD3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DE0BA-7658-4DEE-A641-4ECB0E69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DE142-7743-42A2-A471-070AAA23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D23B7-1377-4833-87DD-9AA3E358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2FA3D-8824-4DBB-8546-41B54116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F761F-2067-4EED-9A9C-334D363C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013C6-44A7-4D68-B500-6A836C92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16A2F-2BF3-4290-9446-6FEF6CA1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B13D0-C44F-410B-9994-701FE6A1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351-2D7C-47F2-9F0F-5F782121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F00FB-7E36-4BDB-A9CD-153E486A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DABC0-F07D-4848-BC8D-885076B5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6B4A7-02C4-4B5E-A1DC-74749D52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32ABC-23ED-48A1-9387-3A639C9B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0674B-0449-416D-BAF6-1B123537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92E00-12BB-41A5-B9C4-5566D4A8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85ADD-A529-4D51-887B-04DDC370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A6038-B894-455F-A72A-626AAD6E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A1725-CE0A-4DF4-B880-67842427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D302D-8948-4B9A-B0EC-C0D39C45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DCE-5526-451D-BFF4-796DF1EE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C6A04-D21F-4DD1-892F-E5E46653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278F5-6A2E-4F58-94DF-476ED95F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3A211-745A-4080-9636-46D30533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A40D2-12FE-48DE-BD9F-7F19662A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BBCB2-554F-47CA-A67B-0BFD39D7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C5A8-1DCC-43A6-8BBC-F9D0683C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7560" y="-816120"/>
            <a:ext cx="1641600" cy="1638360"/>
          </a:xfrm>
          <a:custGeom>
            <a:avLst/>
            <a:gdLst/>
            <a:ahLst/>
            <a:rect l="l" t="t" r="r" b="b"/>
            <a:pathLst>
              <a:path w="1641476" h="1638300">
                <a:moveTo>
                  <a:pt x="1641476" y="819150"/>
                </a:moveTo>
                <a:cubicBezTo>
                  <a:pt x="1641476" y="1036765"/>
                  <a:pt x="1554718" y="1245435"/>
                  <a:pt x="1400346" y="1399116"/>
                </a:cubicBezTo>
                <a:cubicBezTo>
                  <a:pt x="1246365" y="1552408"/>
                  <a:pt x="1037718" y="1638434"/>
                  <a:pt x="820233" y="1638300"/>
                </a:cubicBezTo>
                <a:cubicBezTo>
                  <a:pt x="820401" y="1365250"/>
                  <a:pt x="820570" y="1092200"/>
                  <a:pt x="820738" y="819150"/>
                </a:cubicBezTo>
                <a:lnTo>
                  <a:pt x="1641476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9920" y="20520"/>
            <a:ext cx="1701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78B1-160C-49B2-8202-A47A08B52F1D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55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C709-70AB-4516-942C-2CD167A6272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7560" y="-816120"/>
            <a:ext cx="1641600" cy="1638360"/>
          </a:xfrm>
          <a:custGeom>
            <a:avLst/>
            <a:gdLst/>
            <a:ahLst/>
            <a:rect l="l" t="t" r="r" b="b"/>
            <a:pathLst>
              <a:path w="1641476" h="1638300">
                <a:moveTo>
                  <a:pt x="1641476" y="819150"/>
                </a:moveTo>
                <a:cubicBezTo>
                  <a:pt x="1641476" y="1036765"/>
                  <a:pt x="1554718" y="1245435"/>
                  <a:pt x="1400346" y="1399116"/>
                </a:cubicBezTo>
                <a:cubicBezTo>
                  <a:pt x="1246365" y="1552408"/>
                  <a:pt x="1037718" y="1638434"/>
                  <a:pt x="820233" y="1638300"/>
                </a:cubicBezTo>
                <a:cubicBezTo>
                  <a:pt x="820401" y="1365250"/>
                  <a:pt x="820570" y="1092200"/>
                  <a:pt x="820738" y="819150"/>
                </a:cubicBezTo>
                <a:lnTo>
                  <a:pt x="1641476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9920" y="20520"/>
            <a:ext cx="1701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4C7C-E2FC-4866-957D-643EB89B53CD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55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0D1B-F643-4F7E-8CD9-D9361C380A3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45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CCE8-B0F9-45CD-B5A3-038C9128A040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55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7072-DF84-4FA8-8BB8-6A0A1721576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63C5-ED71-4310-A2B9-B55AF61F8A36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55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0C8D-3B1D-48CE-918D-79C3D14EB34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E4A5-2BA4-4A5C-BF15-3B86F30C8F06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55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4121-235B-4E6F-BC22-C0B3D355868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8478-C954-4A72-8786-AE0A155A820F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55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A20F-BD07-4CC4-827B-9F65816BD77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81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A36D-555E-4C8B-AC1A-64C5FC0DE348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55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3460-AE0C-4FB2-9329-1E836FBB682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Номер слайда 9"/>
          <p:cNvSpPr/>
          <p:nvPr/>
        </p:nvSpPr>
        <p:spPr>
          <a:xfrm>
            <a:off x="86155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ADBD-9CEB-4C40-86F2-EF7078D9370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402920" y="4365720"/>
            <a:ext cx="7093080" cy="828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конав 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.О. Гордійчук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ауковий керівник – В.В. Ковтун , к.т.н., доцент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ецензент – В.М. Папінов, доц. кафедри АІВ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Заголовок 3"/>
          <p:cNvSpPr/>
          <p:nvPr/>
        </p:nvSpPr>
        <p:spPr>
          <a:xfrm>
            <a:off x="1000080" y="1844640"/>
            <a:ext cx="81439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Розробка інформаційної системи «фотогалерея» для сайту факультету К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Номер слайда 9"/>
          <p:cNvSpPr/>
          <p:nvPr/>
        </p:nvSpPr>
        <p:spPr>
          <a:xfrm>
            <a:off x="86155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FD37-13A8-4CC0-ACF6-8AAAC2A7CC8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Заголовок 1"/>
          <p:cNvSpPr/>
          <p:nvPr/>
        </p:nvSpPr>
        <p:spPr>
          <a:xfrm>
            <a:off x="1042920" y="260280"/>
            <a:ext cx="81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ML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аграма варіантів використ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1"/>
          <p:cNvSpPr/>
          <p:nvPr/>
        </p:nvSpPr>
        <p:spPr>
          <a:xfrm>
            <a:off x="-9540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Об'єкт 3"/>
          <p:cNvGraphicFramePr/>
          <p:nvPr/>
        </p:nvGraphicFramePr>
        <p:xfrm>
          <a:off x="1042920" y="907920"/>
          <a:ext cx="8005680" cy="50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Об'є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07920"/>
                    <a:ext cx="800568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9"/>
          <p:cNvSpPr/>
          <p:nvPr/>
        </p:nvSpPr>
        <p:spPr>
          <a:xfrm>
            <a:off x="86155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EC00-910F-45FC-A814-D6ACB239093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Заголовок 1"/>
          <p:cNvSpPr/>
          <p:nvPr/>
        </p:nvSpPr>
        <p:spPr>
          <a:xfrm>
            <a:off x="1065240" y="22320"/>
            <a:ext cx="81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ML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аграма діяль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0" y="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Об'єкт 3"/>
          <p:cNvGraphicFramePr/>
          <p:nvPr/>
        </p:nvGraphicFramePr>
        <p:xfrm>
          <a:off x="1835280" y="539640"/>
          <a:ext cx="6114960" cy="607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Об'є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539640"/>
                    <a:ext cx="6114960" cy="607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Номер слайда 9"/>
          <p:cNvSpPr/>
          <p:nvPr/>
        </p:nvSpPr>
        <p:spPr>
          <a:xfrm>
            <a:off x="86155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8FB2-5EBA-4854-92C6-48CB61F82157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Заголовок 1"/>
          <p:cNvSpPr/>
          <p:nvPr/>
        </p:nvSpPr>
        <p:spPr>
          <a:xfrm>
            <a:off x="1042920" y="260280"/>
            <a:ext cx="81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ML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аграма послідов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6"/>
          <p:cNvGraphicFramePr/>
          <p:nvPr/>
        </p:nvGraphicFramePr>
        <p:xfrm>
          <a:off x="2050920" y="836640"/>
          <a:ext cx="5915160" cy="53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836640"/>
                    <a:ext cx="591516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Номер слайда 9"/>
          <p:cNvSpPr/>
          <p:nvPr/>
        </p:nvSpPr>
        <p:spPr>
          <a:xfrm>
            <a:off x="86155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563C-96BB-4F2A-B3EC-D1227B95073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Заголовок 1"/>
          <p:cNvSpPr/>
          <p:nvPr/>
        </p:nvSpPr>
        <p:spPr>
          <a:xfrm>
            <a:off x="1042920" y="260280"/>
            <a:ext cx="81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ML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аграма компонен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Об'єкт 3"/>
          <p:cNvGraphicFramePr/>
          <p:nvPr/>
        </p:nvGraphicFramePr>
        <p:xfrm>
          <a:off x="1258920" y="907920"/>
          <a:ext cx="7048440" cy="571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Об'є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907920"/>
                    <a:ext cx="7048440" cy="571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Номер слайда 9"/>
          <p:cNvSpPr/>
          <p:nvPr/>
        </p:nvSpPr>
        <p:spPr>
          <a:xfrm>
            <a:off x="86155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F7A9-8471-445B-89C7-D2C30F53CC3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Заголовок 1"/>
          <p:cNvSpPr/>
          <p:nvPr/>
        </p:nvSpPr>
        <p:spPr>
          <a:xfrm>
            <a:off x="1042920" y="260280"/>
            <a:ext cx="81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ML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аграма розгорт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Об'єкт 3"/>
          <p:cNvGraphicFramePr/>
          <p:nvPr/>
        </p:nvGraphicFramePr>
        <p:xfrm>
          <a:off x="1290600" y="1484280"/>
          <a:ext cx="76057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Об'є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1484280"/>
                    <a:ext cx="7605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Номер слайда 9"/>
          <p:cNvSpPr/>
          <p:nvPr/>
        </p:nvSpPr>
        <p:spPr>
          <a:xfrm>
            <a:off x="86155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4441-AB11-477C-8B0E-E572C2DB067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Заголовок 1"/>
          <p:cNvSpPr/>
          <p:nvPr/>
        </p:nvSpPr>
        <p:spPr>
          <a:xfrm>
            <a:off x="1042920" y="260280"/>
            <a:ext cx="81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R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дель бази да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Об'єкт 4"/>
          <p:cNvGraphicFramePr/>
          <p:nvPr/>
        </p:nvGraphicFramePr>
        <p:xfrm>
          <a:off x="1101600" y="763560"/>
          <a:ext cx="804240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Об'є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763560"/>
                    <a:ext cx="80424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9"/>
          <p:cNvSpPr/>
          <p:nvPr/>
        </p:nvSpPr>
        <p:spPr>
          <a:xfrm>
            <a:off x="86155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58BE-709D-4BA0-8501-FF7C26D80E5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Заголовок 1"/>
          <p:cNvSpPr/>
          <p:nvPr/>
        </p:nvSpPr>
        <p:spPr>
          <a:xfrm>
            <a:off x="1042920" y="404640"/>
            <a:ext cx="81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гляд фотограф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Рисунок 8" descr=""/>
          <p:cNvPicPr/>
          <p:nvPr/>
        </p:nvPicPr>
        <p:blipFill>
          <a:blip r:embed="rId1"/>
          <a:srcRect l="0" t="4266" r="0" b="2467"/>
          <a:stretch/>
        </p:blipFill>
        <p:spPr>
          <a:xfrm>
            <a:off x="1106640" y="1268280"/>
            <a:ext cx="79740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Місце для номера слайда 3"/>
          <p:cNvSpPr/>
          <p:nvPr/>
        </p:nvSpPr>
        <p:spPr>
          <a:xfrm>
            <a:off x="86155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4A6C-76CD-455F-BE1A-2C2FA470A00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1530360" y="7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15303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153036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1530360" y="7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15303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153036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7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8"/>
          <p:cNvSpPr/>
          <p:nvPr/>
        </p:nvSpPr>
        <p:spPr>
          <a:xfrm>
            <a:off x="0" y="7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0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1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Заголовок 3"/>
          <p:cNvSpPr/>
          <p:nvPr/>
        </p:nvSpPr>
        <p:spPr>
          <a:xfrm>
            <a:off x="1071720" y="2421000"/>
            <a:ext cx="80722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1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2314"/>
                </a:solidFill>
                <a:latin typeface="Arial"/>
                <a:ea typeface="Arial"/>
              </a:rPr>
              <a:t>Дякую за уваг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6:33:52Z</dcterms:created>
  <dc:creator>Саша</dc:creator>
  <dc:description/>
  <dc:language>en-US</dc:language>
  <cp:lastModifiedBy>predatorhmo</cp:lastModifiedBy>
  <dcterms:modified xsi:type="dcterms:W3CDTF">2015-06-22T19:12:35Z</dcterms:modified>
  <cp:revision>85</cp:revision>
  <dc:subject/>
  <dc:title>Курсова робота ПРОЕКТУВАННЯ БАЗИ ДАНИХ ПРЕДМЕТНОЇ ОБЛАСТІ «XXXXXXXXXXXXXXXXXXXXXXXXXXXXXXXXX»</dc:title>
</cp:coreProperties>
</file>