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78E-CCAD-4AD3-A21B-9CCBCC21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10F-4B23-4170-A6CF-B12D7AD3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91A-52DF-4FC4-A8BD-6B304DCF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6FC-F6C1-4611-B8FD-6A6A5348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CBB9-49A4-4CBC-99E9-35D96E7C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A0BA-5298-4850-ABF1-4A1F851C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BBC3-2520-49C2-86E8-A3071C6A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4E84-51D8-4F75-BD22-C18F5221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6E90-36D8-4775-ABB1-C92AF0B5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2476-F8FB-48EF-A94C-54F09CF5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589B-12D7-4C90-A93A-C55CA1E3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40A-6F81-4EB4-AD42-53CE9075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9D10-E922-414F-A1CA-6DF2FEEE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2723-EB95-4DB2-A9D4-2BBC49D2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4644-BEBC-43D0-AF6B-FBF64CE6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9C33-F8FF-4038-AD6B-607631EA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C4A5-3E67-4910-ABB5-69B298A5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6D129-4895-440D-9222-20D0EC4D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00352-F97B-4741-80F2-72E1DE86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74567-9B28-4FE7-A712-7DAE7B71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AAA97-27FB-4FDB-BDF6-C3B7640C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AD223-1B34-4766-B2E3-F9459F6A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904-4E1A-44EA-9B90-2DCA6342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B23C7-1925-4101-8AD2-48D7892B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689C4-CAA0-4851-B338-BABA7B0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C17EB-0ABF-49D7-A707-10AD15A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9B7E2-DB65-4773-883D-B3673E43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E4B74-54C6-4803-B1B2-60F643E8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300B5-28DF-4D0B-8C3F-FDFA9BBB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38C9B-2EA5-4287-9476-3EAA97C1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FCD7E-8099-4DC6-8DCA-97C59AAC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7A3AA-EEF6-421F-943C-6631A6B7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A49ED-AFA4-4A46-B6DB-6E00E60D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78B-99A4-4352-9B57-47B5F704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24BE-1A6C-417D-A41F-74062440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E3F95-2291-4CCB-BFBB-E049D06E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077A2-6AF8-46D1-A2F9-94298C44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5EE29-B074-43EF-93C5-FC5410D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4899A-2E9B-48EB-AEB5-0E8EA291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5AFAD-3864-42C1-AFD0-66CDD0BA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74803-4647-4DEB-8103-B58FD2DA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2AD8-E36C-4931-833C-721E08BD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2ADA-6C00-433F-8D6B-32AB2B91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EFDD9-E283-47B2-B7FD-23DACF04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246-9554-4A23-83BB-05513E9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64A96-ECDF-457B-A884-070D9F41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793EA-CA76-497D-A0CE-849EE140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AE1B1-221D-44AD-B702-0A6BEC68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AE187-8C92-4361-978F-965A2608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B3AA0-5576-4F1F-8395-B6A26094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1F90D-8128-415A-AA7A-8B29B493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69A2F-DA7A-4838-BAE5-7000480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DCC1F-56B0-4A8F-8134-FD014FC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FDE8C-1248-4301-BDBA-239FCA58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0C10C-01D2-47F6-9A30-51CED458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DB8-A74D-4D3D-8FC9-A9550878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390B0-E108-4C10-B3EF-A45E2D97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E6A56-C758-48A7-AA05-69510D83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47245-9B01-4FDB-8E86-A07F69AC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4D176-1A6C-4944-B885-C5010917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D54FD-ABCE-403C-8E93-554EDA6F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870DA-904B-46AD-9828-0EF1FD9D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969F8-4A85-494E-B9DB-4440D1F9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E0F7A-8C5B-4E84-9430-24BED772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28ED3-44F4-41BB-A215-40EC7300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34063-88E0-4598-95A1-9648BE8B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F2A-A94F-4B59-B2CD-A53B012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E7070-49A6-4C4F-86CA-21403A02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107C6-86D1-47EA-8AC4-17FA5FF9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37AEF-25FB-45B1-BD2E-1667E9F0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2A6B3-FEFD-432C-B211-C4732D0F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C9128-817B-4D8D-9B8A-9C5205B8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0FEBEF-44C2-4437-9240-3C8EC71E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7646E-163E-4F46-A0C7-841F9CA3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AD6F8A-474A-40DF-8375-59890B3C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B44F2-D01B-41E5-9940-ADCAD8EC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65EF3-E439-4BCD-82BA-05230199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132-2EF7-4817-93A3-D9A2062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585A2-8E64-4001-AE6F-787A50E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4BCDF-915A-4245-8559-BAD12989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8C1E9-E4D6-4573-BDD7-D3060E83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45477-1E0F-4520-99F5-23204317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4B1DA-2ABC-46B2-A052-1DAAB495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56C-6C53-4892-919C-088AA3AE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04E2-C5F6-4457-9303-1646D8D698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CA8D-CDB8-4463-8B0C-EA6C9972B3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339C-6671-42C4-8300-16F2F684C3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B857-2072-401B-BA84-11FA654756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B8C3-B747-49AC-860B-C1196E239C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9019-C2C7-4BCE-8E14-01CC64A734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3BB8-F596-4D1F-A2B3-009C2F49B3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895320" y="96840"/>
            <a:ext cx="8493120" cy="30243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95280" y="3933720"/>
            <a:ext cx="8353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. гр. 1ПІ-14сп  </a:t>
            </a: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                                          Дяков Д.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УКОВИЙ КЕРІВНИК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. викладач кафедри ПЗ                                     Рейда О. 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4464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ПЕРЕГЛЯДУ ЗАПИСІ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Рисунок 4" descr=""/>
          <p:cNvPicPr/>
          <p:nvPr/>
        </p:nvPicPr>
        <p:blipFill>
          <a:blip r:embed="rId1"/>
          <a:stretch/>
        </p:blipFill>
        <p:spPr>
          <a:xfrm>
            <a:off x="2071800" y="2143080"/>
            <a:ext cx="5190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8100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РЕДАГУВАННЯ ДАНИ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Рисунок 3" descr=""/>
          <p:cNvPicPr/>
          <p:nvPr/>
        </p:nvPicPr>
        <p:blipFill>
          <a:blip r:embed="rId1"/>
          <a:stretch/>
        </p:blipFill>
        <p:spPr>
          <a:xfrm>
            <a:off x="2786040" y="1785960"/>
            <a:ext cx="3214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ЕТА І ЗАДАЧІ ДОСЛІДЖ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. ДОСЛІДЖЕННЯ І РОЗРОБКА СИСТЕМИ КЕРУВАННЯ РНЛЯЦІЙНИМИ БАЗАМИ ДАНИХ</a:t>
            </a:r>
            <a:br>
              <a:rPr sz="2400"/>
            </a:br>
            <a:br>
              <a:rPr sz="2400"/>
            </a:br>
            <a:r>
              <a:rPr b="1" lang="uk-U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ОБ'ЄКТОМ </a:t>
            </a:r>
            <a:r>
              <a:rPr b="0" lang="uk-UA" sz="2400" spc="-1" strike="noStrike">
                <a:solidFill>
                  <a:srgbClr val="575f6d"/>
                </a:solidFill>
                <a:latin typeface="Century Schoolbook"/>
              </a:rPr>
              <a:t>ОБ'ЄКТОМ ДОСЛІДЖЕННЯ Є ПРОЦЕС УПРАВЛІННЯ РЕЛЯЦІЙНИМИ БАЗАМИ ДАНИХ.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2400"/>
            </a:br>
            <a:r>
              <a:rPr b="1" lang="uk-U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ЕДМЕТ ДОСЛІДЖЕННЯ</a:t>
            </a: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ЕТОДИ І ЗАСОБИ РОЗРОБКИ СИСТЕМ КЕРУВАННЯ БАЗАМИ ДАНИХ.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56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ЛОВНА ЗАДАЧА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ИСТЕМИ УПРАВЛІННЯ РЕЛЯЦІЙНИМИ БАЗАМИ ДАНИХ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ПОТРІБНО РЕАЛІЗУВАТИ НАСТУПНІ ЗАДАЧІ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УКТУРИ СИСТЕМ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МОДЕЛІ СИСТЕМ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 СТРУКТУРИ ІНТЕРФЕЙСУ СИСТЕМ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А РЕАЛІЗАЦІЯ СИСТЕМИ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2071800"/>
            <a:ext cx="818352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ИПЛОМНОЇ РОБОТИ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СТУП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ТЕХНІЧНІКО-ЕКОНОМІЧНЕ ОБГРУНТУВАННЯ ДОЦІЛЬНОСТІ РОЗРОБКИ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УПРАВЛІННЯ РЕЛЯЦІЙНИМИ БД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УКТУРИ СУБД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А РЕАЛІЗАЦІЯ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ТЕСТУВАННЯ ПРОГРАМНОГО ЗАБЕЗПЕЧЕННЯ </a:t>
            </a:r>
            <a:br>
              <a:rPr sz="1900"/>
            </a:b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ЕКОНОМІЧНОЇ ЕФЕКТИВНОСТІ РОЗРОБЛЮВАНОЇ СИСТЕМИ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ІК ПОСИЛАНЬ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ОКИ</a:t>
            </a:r>
            <a:br>
              <a:rPr sz="1800"/>
            </a:br>
            <a:br>
              <a:rPr sz="2700"/>
            </a:br>
            <a:endParaRPr b="0" lang="en-US" sz="1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333360"/>
            <a:ext cx="818352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СТРУКТУРА СИСТЕМИ УПРАВЛІННЯ РЕЛЯЦІЙНИМИ БД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700"/>
            </a:br>
            <a:r>
              <a:rPr b="0" lang="uk-UA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Рисунок 3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3961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475920"/>
            <a:ext cx="818352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РОБОТИ СЕРВЕРНОЇ ЧАСТИНИ СИСТЕМИ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Рисунок 4" descr=""/>
          <p:cNvPicPr/>
          <p:nvPr/>
        </p:nvPicPr>
        <p:blipFill>
          <a:blip r:embed="rId1"/>
          <a:stretch/>
        </p:blipFill>
        <p:spPr>
          <a:xfrm>
            <a:off x="2357280" y="1143000"/>
            <a:ext cx="4429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РОБОТИ КЛІЄНТСЬКОЇ ЧАСТИНИ СИСТЕМ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2428920" y="1428840"/>
            <a:ext cx="43527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213840"/>
            <a:ext cx="818352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ІНТЕРФЕЙСУ СИСТЕМИ</a:t>
            </a: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Рисунок 4" descr=""/>
          <p:cNvPicPr/>
          <p:nvPr/>
        </p:nvPicPr>
        <p:blipFill>
          <a:blip r:embed="rId1"/>
          <a:stretch/>
        </p:blipFill>
        <p:spPr>
          <a:xfrm>
            <a:off x="1071720" y="1857240"/>
            <a:ext cx="732456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АВТОРИЗАЦІЇ СИСТЕМИ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Рисунок 3" descr=""/>
          <p:cNvPicPr/>
          <p:nvPr/>
        </p:nvPicPr>
        <p:blipFill>
          <a:blip r:embed="rId1"/>
          <a:stretch/>
        </p:blipFill>
        <p:spPr>
          <a:xfrm>
            <a:off x="2857680" y="2571840"/>
            <a:ext cx="3357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5:37:51Z</dcterms:created>
  <dc:creator>Mushonok</dc:creator>
  <dc:description/>
  <dc:language>en-US</dc:language>
  <cp:lastModifiedBy>дима</cp:lastModifiedBy>
  <dcterms:modified xsi:type="dcterms:W3CDTF">2015-06-17T06:56:01Z</dcterms:modified>
  <cp:revision>34</cp:revision>
  <dc:subject/>
  <dc:title>РОЗРОБКА ЗАСОБІВ РЕАЛІЗАЦІЇ WEB-САЙТУ  САНАТОРІЙ-ПРОФІЛАКТОРІЙ «СУПУТНИК»</dc:title>
</cp:coreProperties>
</file>