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B6D-2D06-4DAE-BBEB-71730BC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D9E-1F69-4978-8E9D-08AD4B2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119-CD79-4B73-A962-083A8616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4A0-DB20-4378-8C0F-7302F24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DF87-3CFC-4BA4-BC52-4D23D6AF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6F7C-544C-49E8-9443-F77BC368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653-E8B7-4178-94C9-39E7B6D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42E6-FD94-4288-8FB9-BAB05711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72DF-A388-4AFE-991A-46382A5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1FF6-44C8-4106-81F9-DE6CAD2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AE96-8FEE-4E22-A976-936E78B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A21-C508-4A2C-9769-A2776E3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DEB-EA03-462A-847D-C255EA3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0854-DD54-4ED3-9C81-27032DC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6CEF-1015-4E70-AD6C-A1386324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1B7B-1ECB-4AC3-AD56-AA96530C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A91-327E-4FFA-A8F8-1AC35865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F5E31-8168-4D6E-ADF2-4EF0331C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23F07-E3D5-486B-9D3B-C7FDF7E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B364B-BF22-4E2A-A56D-CA82682F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72552-7084-46DE-A2B0-5B1D469B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788BC-CAB1-43B7-A2E6-71D1521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B48-85B5-4FCE-B8B0-CA71B5F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3E4AB-FC82-477A-A4EB-F1FB5A5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2357-8EE6-45FB-B965-7B2F718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B0107-0E8A-4CCA-B8C9-6E44722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362B5-F4FA-4284-AA25-A219BA0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DED34-6601-4D8C-B058-CEDBEE9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A8648-B231-41A4-9573-ADF013F8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E8B69-AC04-481B-BAF2-CC9AD681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5869-7231-4564-8DBA-8B0BB15A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1B2B-DB4C-4904-A617-6DF6D02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4BEC-DD27-4145-9762-713F2708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B7A-FE5D-4CCD-BD2D-95FCA163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44E2-6F39-4A96-BF0F-3C6ADFFB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CCC0-BF04-436D-9CF6-52184EB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4A7E-E11F-4194-8C26-443E201C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30F8-BAD7-4C08-AA4D-E6EB94E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4D5B-FAEC-4FA1-AA1F-560D8A5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2D10-FC41-44B1-A89C-52438C5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FD00-4920-420D-B2B5-0E992243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A571-8BC6-4702-A6ED-769545FA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ADE2-016D-4AFE-89E6-A979929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18CA2-8C13-4855-9BEA-2442C7B1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C89-694B-437A-82E2-9C1BD8F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06525-3609-4C00-B194-9C37619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CC2E8-117B-491F-9D89-BA9A514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28AA6-F1CC-4F4C-92EB-8A16A46E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0AE5C-82D2-4ABB-9182-B333045F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CAB47-B22F-4A98-9E43-CCBDEE64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50C89-7001-4972-AC0D-7425AAB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50C73-CFF4-4D26-8B66-C57EEE2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AA66D-AD8B-45CE-AC6E-5B5BB83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A3E39-72E7-47D3-A518-AE69520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67296-38A9-4215-994B-9667A8B1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8F9-1122-4C4D-8EE6-0079E353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F9C0D-B14A-4BC9-9390-CCA2B9B8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D14AA-A661-46EE-B73B-F430372E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C1B9A-18DF-4D5B-9AA1-4BC0D9C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5F275-AF1D-47D7-BD6F-908E7215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674C0-FEF3-453D-8132-E7268B33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7CB9E-1936-48ED-9F23-9EF9CE2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53FAE-26AA-4F4F-8998-026A4FB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1F390-B77B-43FE-A20A-6A1837F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F2810-E9EB-403B-8766-E6C98D5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5339D-3D26-4612-91DA-9B33D23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7AA-FC61-4FBB-99AD-F18DFE0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6E361-15FE-47BC-8A4E-97A32C0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CB5E7-D859-4A9C-93F9-3DBF680F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134E5-96D7-407A-9697-5B4F32AB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EDA85-0F38-4563-97EA-57F718C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9315D-DB72-4EC6-AB1A-BD5635D7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D76B2-6F19-489F-B6F2-EB21CE2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39CDB-89D5-49B9-862B-6B4DD620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8CE36-F3FF-4604-936B-38FE802D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EAE05-6980-45A3-8267-C5CBA01A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B4B64-E910-4FED-A661-798A774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B8-D716-49EA-8A00-1336A10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66539-4733-498A-B861-A8FD519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54368-2FA7-406D-899E-C659A85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C4E92-EF13-4952-8F9A-F5399080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AB29E-3C5A-4177-ACE3-D1B4BE91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7CA74-C8D8-4104-9286-1F725B8C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49B-4CB3-493A-85C4-973BC66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3C6F-B931-4C78-9B7C-51B0AE5725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F09F-EA42-4064-ADBD-106B9849B9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1B3-0928-4F2E-BE52-8AF8F47974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BE7-2676-41A0-927B-C5FA841D43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7EB-3BE6-4A1E-A630-FC2CCD31C4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426-D7B5-41BA-A3D2-9A95BC8CB4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111-4ECC-4192-9CB7-720EBC9626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895320" y="96840"/>
            <a:ext cx="8493120" cy="3024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8353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. гр. 1ПІ-14сп  </a:t>
            </a: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                      Дяков Д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. викладач кафедри ПЗ                                     Рейда О. 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44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ПЕРЕГЛЯДУ ЗАПИСІ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Рисунок 4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51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100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ЕДАГУВАННЯ ДАНИ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3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2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ЕТА І ЗАДАЧІ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. ДОСЛІДЖЕННЯ І РОЗРОБКА СИСТЕМИ КЕРУВАННЯ РНЛЯЦІЙНИМИ БАЗАМИ ДАНИХ</a:t>
            </a:r>
            <a:br>
              <a:rPr sz="2400"/>
            </a:br>
            <a:br>
              <a:rPr sz="2400"/>
            </a:b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Б'ЄКТОМ </a:t>
            </a:r>
            <a:r>
              <a:rPr b="0" lang="uk-UA" sz="2400" spc="-1" strike="noStrike">
                <a:solidFill>
                  <a:srgbClr val="575f6d"/>
                </a:solidFill>
                <a:latin typeface="Century Schoolbook"/>
              </a:rPr>
              <a:t>ОБ'ЄКТОМ ДОСЛІДЖЕННЯ Є ПРОЦЕС УПРАВЛІННЯ РЕЛЯЦІЙНИМИ БАЗАМИ ДАНИХ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400"/>
            </a:br>
            <a:r>
              <a:rPr b="1" lang="uk-U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ЕДМЕТ ДОСЛІДЖЕННЯ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ЕТОДИ І ЗАСОБИ РОЗРОБКИ СИСТЕМ КЕРУВАННЯ БАЗАМИ ДАНИХ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ЛОВНА ЗАДАЧА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ИСТЕМИ УПРАВЛІННЯ РЕЛЯЦІЙНИМИ БАЗАМИ ДАНИХ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ПОТРІБНО РЕАЛІЗУВАТИ НАСТУПНІ ЗАДАЧІ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ОДЕЛІ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СТРУКТУРИ ІНТЕРФЕЙСУ СИСТЕМ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СИСТЕМИ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18352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ИПЛОМНОЇ РОБОТ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ТУП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ЕХНІЧНІКО-ЕКОНОМІЧНЕ ОБГРУНТУВАННЯ ДОЦІЛЬНОСТІ РОЗРОБКИ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УПРАВЛІННЯ РЕЛЯЦІЙНИМИ БД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СУБД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ЕСТУВАННЯ ПРОГРАМНОГО ЗАБЕЗПЕЧЕННЯ </a:t>
            </a:r>
            <a:br>
              <a:rPr sz="1900"/>
            </a:b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ЕКОНОМІЧНОЇ ЕФЕКТИВНОСТІ РОЗРОБЛЮВАНОЇ СИСТЕМ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ОКИ</a:t>
            </a:r>
            <a:br>
              <a:rPr sz="1800"/>
            </a:br>
            <a:br>
              <a:rPr sz="2700"/>
            </a:br>
            <a:endParaRPr b="0" lang="en-US" sz="1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18352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ТРУКТУРА СИСТЕМИ УПРАВЛІННЯ РЕЛЯЦІЙНИМИ БД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700"/>
            </a:br>
            <a:r>
              <a:rPr b="0" lang="uk-UA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Рисунок 3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3961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РОБОТИ СЕРВЕРНОЇ ЧАСТИНИ СИСТЕМИ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Рисунок 4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429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РОБОТИ КЛІЄНТСЬКОЇ ЧАСТИНИ СИСТЕМ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428920" y="1428840"/>
            <a:ext cx="43527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ІНТЕРФЕЙСУ СИСТЕМИ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Рисунок 4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732456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АВТОРИЗАЦІЇ СИСТЕМИ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Рисунок 3" descr=""/>
          <p:cNvPicPr/>
          <p:nvPr/>
        </p:nvPicPr>
        <p:blipFill>
          <a:blip r:embed="rId1"/>
          <a:stretch/>
        </p:blipFill>
        <p:spPr>
          <a:xfrm>
            <a:off x="2857680" y="2571840"/>
            <a:ext cx="3357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5:37:51Z</dcterms:created>
  <dc:creator>Mushonok</dc:creator>
  <dc:description/>
  <dc:language>en-US</dc:language>
  <cp:lastModifiedBy>дима</cp:lastModifiedBy>
  <dcterms:modified xsi:type="dcterms:W3CDTF">2015-06-17T06:56:01Z</dcterms:modified>
  <cp:revision>34</cp:revision>
  <dc:subject/>
  <dc:title>РОЗРОБКА ЗАСОБІВ РЕАЛІЗАЦІЇ WEB-САЙТУ  САНАТОРІЙ-ПРОФІЛАКТОРІЙ «СУПУТНИК»</dc:title>
</cp:coreProperties>
</file>