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BA24-E408-486B-B341-DA7D9646F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47B4-C123-44E6-97E1-298EBED7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B01E-3F5E-4675-AAE1-E4A67A109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4AA7-EF25-4D1A-A2CA-B47375979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A2B5-432F-4818-BB59-1314BB7AD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9E2A-D4E4-4544-9BC7-90646540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C9A9-BD74-4699-9E6E-19EC14B3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A794-EB58-4111-93E3-D0E3342F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C63C-0C68-4EBD-B834-4DFC9B31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7499-8E7A-401D-9878-02BF0939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CC74-CFB9-4C51-AA57-53B28ABB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0254-63AE-4728-9186-4CBA0A60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84CD-0F71-4FB9-ACA8-10E2036F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5FF0-7805-46BB-8164-33487DAE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D729-53BA-4BDD-83D8-ADC00B17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6268-8E41-481B-9BCB-C90C593CB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6BF5-AC7C-475E-BB05-029FD3B6C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61D35-9E88-448F-895A-1AA57F1DF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443AF-8D4C-408D-AEE5-05D690D9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AE782-ECA7-4F08-9484-5F64762E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0D7EF-6FE3-4457-98E6-0BA18C3A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824BD-B543-49C0-B05E-19AAFEFA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1116-5F83-4D78-8E3A-C3DA8F2A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F1E96-DB88-47DA-961C-985F12A8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DA00A-8411-4955-A8E0-60711A3B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C24CB-C0C9-42C2-B5F2-4E47ED73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053E6-DD6D-49DD-8CB3-1E692385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AF757-42C2-4059-8C6D-F9DB0307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7BE43-BF83-4A6A-BDED-9B78F3116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64534-EC1D-4AE9-BFE3-48B291CC4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7FE6-5650-4164-94D8-C9D5191C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ACC6-E15C-4CA8-B4AD-2C99CD5C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6D88-8F67-46D1-9417-23ACB4EC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5E8F-37B9-4933-A540-C0F25C49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2AD3-E4C2-4BB1-B226-3FA76685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5087-5884-4868-9921-17729C8F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79ED-0D7D-440F-B050-9B55C029557E}" type="slidenum">
              <a:rPr b="1" lang="ru-RU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78BB-6C33-4E91-AC28-EFAE3411A296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B84E-BF71-44DC-885A-B08456BAE3D6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Заголовок 1"/>
          <p:cNvGrpSpPr/>
          <p:nvPr/>
        </p:nvGrpSpPr>
        <p:grpSpPr>
          <a:xfrm>
            <a:off x="596880" y="676440"/>
            <a:ext cx="7877160" cy="2195280"/>
            <a:chOff x="596880" y="676440"/>
            <a:chExt cx="7877160" cy="2195280"/>
          </a:xfrm>
        </p:grpSpPr>
        <p:pic>
          <p:nvPicPr>
            <p:cNvPr id="13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596880" y="676440"/>
              <a:ext cx="7877160" cy="21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611280" y="692280"/>
              <a:ext cx="7848360" cy="21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ОЗРОБКА ЗАСОБІВ РЕАЛІЗАЦІЇ 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B</a:t>
              </a:r>
              <a:r>
                <a:rPr b="0" lang="uk-UA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РЕСУРСУ “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AMILY BUDGET</a:t>
              </a:r>
              <a:r>
                <a:rPr b="0" lang="uk-UA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”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95280" y="3933720"/>
            <a:ext cx="8353440" cy="24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ГР. 1ПІ-14СП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ЗІНЧУК В. С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ОВИЙ КЕРІВНИК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Т.Н., ДОЦЕНТ КАФЕДРИ ПЗ                ВОЙТКО В. 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18352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ТИП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-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У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51" name="Picture 29" descr="C:\Users\vzinchuk\Desktop\Logo.jpg"/>
          <p:cNvPicPr/>
          <p:nvPr/>
        </p:nvPicPr>
        <p:blipFill>
          <a:blip r:embed="rId1"/>
          <a:stretch/>
        </p:blipFill>
        <p:spPr>
          <a:xfrm>
            <a:off x="414360" y="1628640"/>
            <a:ext cx="8118360" cy="410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79520" y="-360"/>
            <a:ext cx="818496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РІНКА АВТОРИЗАЦІЇ САЙТУ 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53" name="Picture 18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555040" cy="5032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-31644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РІНКА БЮДЖЕТІВ КОРИСТУВАЧА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402400" cy="489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2000" y="-3164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РІНКА ВИТРАТ КОРИСТУВАЧА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46160" y="1197000"/>
            <a:ext cx="8673840" cy="511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11556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РІНКА ОБМЕЖЕНЬ НА ВИТРАТИ КОРИСТУВАЧА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293760" y="1484280"/>
            <a:ext cx="8454960" cy="482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336480" y="-747720"/>
            <a:ext cx="26751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НОВОК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5920" y="620640"/>
            <a:ext cx="836280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5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ипломній роботі було розроблено сайт 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mily Budget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 Для реалізації сайту було розроблен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азу даних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і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уктуру сайту та базові елементи сайту. Подано структуру та опис інформаційного забезпечення, описано розробку структури  програмного засобу, елементів інтерфейсу та програмного забезпеченн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и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ресурс сприятиме ефективному веденню бухгалтерського обліку сімейного бюджету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ування підтвердило ефективність і правильність функціонування розробленог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ресурсу 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mily Budget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 роботи опубліковані в науковій публікації. Також присутнє свідоцтво про реєстрацію авторського прав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ж було проведено розрахунки витрат на розробку програмного продукту, терміну окупності витрат, експлуатаційних витрат споживача та річного економічного ефекту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КУЮ ЗА УВАГУ!</a:t>
            </a:r>
            <a:endParaRPr b="0" lang="en-US" sz="48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3902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ТА І ЗАДАЧІ ДОСЛІДЖЕННЯ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ія ведення сімейного бюджету шляхом  створення  інструментів обліку та аналізу особистих фінансів з використання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ехнологій та засобів автоматизації процесів статистичного аналізу сімейних витрат.</a:t>
            </a:r>
            <a:endParaRPr b="0" lang="en-US" sz="2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4" name="Заголовок 1"/>
          <p:cNvSpPr/>
          <p:nvPr/>
        </p:nvSpPr>
        <p:spPr>
          <a:xfrm>
            <a:off x="468360" y="3357720"/>
            <a:ext cx="8229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'ЄКТОМ ДОСЛІДЖЕННЯ</a:t>
            </a:r>
            <a:r>
              <a:rPr b="1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тупаю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ехнологі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Заголовок 1"/>
          <p:cNvSpPr/>
          <p:nvPr/>
        </p:nvSpPr>
        <p:spPr>
          <a:xfrm>
            <a:off x="468360" y="4724280"/>
            <a:ext cx="8588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МЕТ ДОСЛІДЖЕННЯ: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и формування та засоби реалізації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сурс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8893080" cy="540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ОЛОВНА ЗАДАЧА: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к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у для ведення бухгалтерського обліку сімейного бюджету. </a:t>
            </a:r>
            <a:br>
              <a:rPr sz="2400"/>
            </a:b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ж потрібно реалізувати наступні задачі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ка структур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b-ресурсу і вибір засобів його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реалізації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ка моделе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b-ресурсу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ка  структури інтерфейсу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на реалізаці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сурс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ування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леного програмного продукту.</a:t>
            </a:r>
            <a:endParaRPr b="0" lang="en-US" sz="24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4628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ДИПЛОМНОЇ РОБОТИ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8" name="Заголовок 1"/>
          <p:cNvSpPr/>
          <p:nvPr/>
        </p:nvSpPr>
        <p:spPr>
          <a:xfrm>
            <a:off x="395280" y="1197000"/>
            <a:ext cx="81835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УП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ТЕХНІЧНІКО-ЕКОНОМІЧНЕ ОБГРУНТУВАННЯ ДОЦІЛЬНОСТІ РОЗРОБКИ ЗАСОБІВ РЕАЛІЗАЦІЇ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СУРСУ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MILY BUDGE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АНАЛІЗ ОСОБЛИВОСТЕЙ РОЗРОБКИ ЗАСОБІ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СУРСУ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РОЗРОБКА ПРОГРАМНОГО ЗАБЕЗПЕЧЕНН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-РЕСУРСУ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ТЕСТУВАННЯ ПРОГРАМНОГО ЗАБЕЗПЕЧЕНН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-РЕСУРСУ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КОНОМІЧНА ЧАСТИН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НОВОК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ЛІК ПОСИЛАН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183520" cy="116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ЛЬНА СТРУКТУРА МОДЕЛІ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-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У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FAMILY BUDGET”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0" name="Рисунок 4" descr=""/>
          <p:cNvPicPr/>
          <p:nvPr/>
        </p:nvPicPr>
        <p:blipFill>
          <a:blip r:embed="rId1"/>
          <a:stretch/>
        </p:blipFill>
        <p:spPr>
          <a:xfrm>
            <a:off x="230040" y="2060640"/>
            <a:ext cx="8518680" cy="331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12944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78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БАЗИ ДАНИХ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2" name="Picture 17" descr="C:\Users\vzinchuk\Desktop\budget db.jpg"/>
          <p:cNvPicPr/>
          <p:nvPr/>
        </p:nvPicPr>
        <p:blipFill>
          <a:blip r:embed="rId1"/>
          <a:stretch/>
        </p:blipFill>
        <p:spPr>
          <a:xfrm>
            <a:off x="324000" y="1197000"/>
            <a:ext cx="8351640" cy="504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07640" y="-45864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-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ІСУ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4" name="Рисунок 4" descr="C:\Users\Витек\Desktop\REST2.JPG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4969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-387360"/>
            <a:ext cx="8183520" cy="116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АЙТУ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6" name="Picture 30" descr=""/>
          <p:cNvPicPr/>
          <p:nvPr/>
        </p:nvPicPr>
        <p:blipFill>
          <a:blip r:embed="rId1"/>
          <a:stretch/>
        </p:blipFill>
        <p:spPr>
          <a:xfrm>
            <a:off x="1173240" y="981000"/>
            <a:ext cx="6711840" cy="5419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36480" y="-171360"/>
            <a:ext cx="8183520" cy="102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И СТОРІНОК САЙТУ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8" name="Picture 31" descr=""/>
          <p:cNvPicPr/>
          <p:nvPr/>
        </p:nvPicPr>
        <p:blipFill>
          <a:blip r:embed="rId1"/>
          <a:stretch/>
        </p:blipFill>
        <p:spPr>
          <a:xfrm>
            <a:off x="250920" y="1649520"/>
            <a:ext cx="4097160" cy="367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9" name="Picture 32" descr=""/>
          <p:cNvPicPr/>
          <p:nvPr/>
        </p:nvPicPr>
        <p:blipFill>
          <a:blip r:embed="rId2"/>
          <a:stretch/>
        </p:blipFill>
        <p:spPr>
          <a:xfrm>
            <a:off x="4788000" y="1628640"/>
            <a:ext cx="3960720" cy="367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0T15:37:51Z</dcterms:created>
  <dc:creator>Mushonok</dc:creator>
  <dc:description/>
  <dc:language>en-US</dc:language>
  <cp:lastModifiedBy>Витек</cp:lastModifiedBy>
  <dcterms:modified xsi:type="dcterms:W3CDTF">2015-06-15T07:48:16Z</dcterms:modified>
  <cp:revision>42</cp:revision>
  <dc:subject/>
  <dc:title>РОЗРОБКА ЗАСОБІВ РЕАЛІЗАЦІЇ WEB-САЙТУ  САНАТОРІЙ-ПРОФІЛАКТОРІЙ «СУПУТНИК»</dc:title>
</cp:coreProperties>
</file>