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AD5-14E9-42B1-92BD-4725C87A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D07-A38E-401E-B356-53F8E304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FC6-501F-4787-B6D1-5261A6C6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BFC-A36B-4A5C-8E65-CCE60CBE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AAA7-0EA2-482A-A932-A04FCBDD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9989-D2EF-4AE6-9DD0-6FD0E195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2906-DFED-4E36-80A7-345EE23F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3DAE-37A5-4492-910A-529BCC67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FCE7-BBEB-4312-9D06-71C42B3D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ADCB-0263-4E67-A12E-955B85D9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525A-CF68-411C-A4E8-16AEC4EC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3CE-F496-4D70-99DE-E2FE1BE7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A860-5337-46DD-8442-54A470F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ED9E-6F5B-46E1-A03B-488ECBCA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D0B3-2A93-431E-8445-6E4BCE00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DF07-6256-4F78-AB02-90538656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E0BF-BC6D-4CAD-ADD7-E527DFED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75AF-E399-4A15-B465-4C262D57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53320-FD02-4033-A4F3-9334FC92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5EE1-FAFC-4254-A251-6932694E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AF68-7BF3-4DB1-B5D5-9030B8CF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1A521-754B-4A46-B9F2-0C47EB48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4DB-5845-4FEB-AF60-AFE15A6A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E33B0-E4BF-4D38-A9A6-A878ECC9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FC717-1D30-4B9A-B58C-EBA6607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6861-BB76-4CE4-819F-42C3926D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A66D1-1AFB-43C9-9F5E-4022B158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C68F-5256-446F-ADE3-6F466304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A9C62-12D7-4844-8983-ACFE8406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42AB-69CC-4D1D-8390-800733F3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0D6-336A-4D20-8B7D-70E83656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6B8-08EE-4754-8366-88C817E3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9F0-74B3-4B73-8313-E57F5CD6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252-F86A-4937-A9B8-0417DF94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1F8-5FB4-4993-8DC4-19431116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889-F6BA-4371-B888-458316CE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B16F-B615-4AB1-BC5B-673EC2E16F87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A5B4-9D91-4EEE-A268-289C64FCD893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E473-E693-45F3-B0D1-3E7FBC2424DF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Заголовок 1"/>
          <p:cNvGrpSpPr/>
          <p:nvPr/>
        </p:nvGrpSpPr>
        <p:grpSpPr>
          <a:xfrm>
            <a:off x="596880" y="676440"/>
            <a:ext cx="7877160" cy="2195280"/>
            <a:chOff x="596880" y="676440"/>
            <a:chExt cx="7877160" cy="2195280"/>
          </a:xfrm>
        </p:grpSpPr>
        <p:pic>
          <p:nvPicPr>
            <p:cNvPr id="13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96880" y="676440"/>
              <a:ext cx="787716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11280" y="692280"/>
              <a:ext cx="784836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ЗРОБКА ЗАСОБІВ РЕАЛІЗАЦІЇ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B</a:t>
              </a:r>
              <a:r>
                <a:rPr b="0" lang="uk-UA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РЕСУРСУ “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MILY BUDGET</a:t>
              </a:r>
              <a:r>
                <a:rPr b="0" lang="uk-UA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95280" y="3933720"/>
            <a:ext cx="835344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ГР. 1ПІ-14СП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ЗІНЧУК В. С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ИЙ КЕРІВНИК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Т.Н., ДОЦЕНТ КАФЕДРИ ПЗ                ВОЙТКО В. 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835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ТИП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У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1" name="Picture 29" descr="C:\Users\vzinchuk\Desktop\Logo.jpg"/>
          <p:cNvPicPr/>
          <p:nvPr/>
        </p:nvPicPr>
        <p:blipFill>
          <a:blip r:embed="rId1"/>
          <a:stretch/>
        </p:blipFill>
        <p:spPr>
          <a:xfrm>
            <a:off x="414360" y="1628640"/>
            <a:ext cx="8118360" cy="410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79520" y="-360"/>
            <a:ext cx="81849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ІНКА АВТОРИЗАЦІЇ САЙТУ 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3" name="Picture 1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555040" cy="503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-31644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ІНКА БЮДЖЕТІВ КОРИСТУВАЧ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02400" cy="48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0" y="-3164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ІНКА ВИТРАТ КОРИСТУВАЧ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46160" y="1197000"/>
            <a:ext cx="8673840" cy="51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1155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ІНКА ОБМЕЖЕНЬ НА ВИТРАТИ КОРИСТУВАЧ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93760" y="1484280"/>
            <a:ext cx="8454960" cy="48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36480" y="-747720"/>
            <a:ext cx="2675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5920" y="620640"/>
            <a:ext cx="83628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ипломній роботі було розроблено сайт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Budget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Для реалізації сайту було розробле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зу даних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і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уктуру сайту та базові елементи сайту. Подано структуру та опис інформаційного забезпечення, описано розробку структури  програмного засобу, елементів інтерфейсу та програмного забезпеченн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ресурс сприятиме ефективному веденню бухгалтерського обліку сімейного бюдже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ування підтвердило ефективність і правильність функціонування розроблен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ресурсу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Budget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роботи опубліковані в науковій публікації. Також присутнє свідоцтво про реєстрацію авторського прав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ж було проведено розрахунки витрат на розробку програмного продукту, терміну окупності витрат, експлуатаційних витрат споживача та річного економічного ефек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902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А І ЗАДАЧІ ДОСЛІДЖЕННЯ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ія ведення сімейного бюджету шляхом  створення  інструментів обліку та аналізу особистих фінансів з використання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хнологій та засобів автоматизації процесів статистичного аналізу сімейних витрат.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Заголовок 1"/>
          <p:cNvSpPr/>
          <p:nvPr/>
        </p:nvSpPr>
        <p:spPr>
          <a:xfrm>
            <a:off x="468360" y="3357720"/>
            <a:ext cx="8229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'ЄКТОМ ДОСЛІДЖЕННЯ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тупаю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хнологі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468360" y="472428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МЕТ ДОСЛІДЖЕННЯ: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формування та засоби реалізації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сурс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ЛОВНА ЗАДАЧА: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у для ведення бухгалтерського обліку сімейного бюджету. 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ж потрібно реалізувати наступні задачі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труктур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-ресурсу і вибір засобів йог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реалізації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моделе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-ресурсу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 структури інтерфейсу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а реалізаці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сур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уванн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ого програмного продукту.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462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ИПЛОМНОЇ РОБОТИ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395280" y="1197000"/>
            <a:ext cx="8183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ТЕХНІЧНІКО-ЕКОНОМІЧНЕ ОБГРУНТУВАННЯ ДОЦІЛЬНОСТІ РОЗРОБКИ ЗАСОБІВ РЕАЛІЗАЦІЇ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СУРСУ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BUDG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АНАЛІЗ ОСОБЛИВОСТЕЙ РОЗРОБКИ ЗАСОБІ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СУРС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РОЗРОБКА ПРОГРАМНОГО ЗАБЕЗПЕЧЕНН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РЕСУРС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ТЕСТУВАННЯ ПРОГРАМНОГО ЗАБЕЗПЕЧЕНН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РЕСУРСУ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КОНОМІЧНА ЧАСТ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ІК ПОСИЛАН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8352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СТРУКТУРА МОДЕЛІ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FAMILY BUDGET”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0" name="Рисунок 4" descr=""/>
          <p:cNvPicPr/>
          <p:nvPr/>
        </p:nvPicPr>
        <p:blipFill>
          <a:blip r:embed="rId1"/>
          <a:stretch/>
        </p:blipFill>
        <p:spPr>
          <a:xfrm>
            <a:off x="230040" y="2060640"/>
            <a:ext cx="8518680" cy="33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1294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БАЗИ ДАНИХ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2" name="Picture 17" descr="C:\Users\vzinchuk\Desktop\budget db.jpg"/>
          <p:cNvPicPr/>
          <p:nvPr/>
        </p:nvPicPr>
        <p:blipFill>
          <a:blip r:embed="rId1"/>
          <a:stretch/>
        </p:blipFill>
        <p:spPr>
          <a:xfrm>
            <a:off x="324000" y="1197000"/>
            <a:ext cx="8351640" cy="504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7640" y="-45864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ІСУ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4" name="Рисунок 4" descr="C:\Users\Витек\Desktop\REST2.JPG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496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818352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АЙТУ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6" name="Picture 30" descr=""/>
          <p:cNvPicPr/>
          <p:nvPr/>
        </p:nvPicPr>
        <p:blipFill>
          <a:blip r:embed="rId1"/>
          <a:stretch/>
        </p:blipFill>
        <p:spPr>
          <a:xfrm>
            <a:off x="1173240" y="981000"/>
            <a:ext cx="6711840" cy="541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6480" y="-171360"/>
            <a:ext cx="818352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И СТОРІНОК САЙТУ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8" name="Picture 31" descr=""/>
          <p:cNvPicPr/>
          <p:nvPr/>
        </p:nvPicPr>
        <p:blipFill>
          <a:blip r:embed="rId1"/>
          <a:stretch/>
        </p:blipFill>
        <p:spPr>
          <a:xfrm>
            <a:off x="250920" y="1649520"/>
            <a:ext cx="4097160" cy="36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" name="Picture 32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960720" cy="36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5:37:51Z</dcterms:created>
  <dc:creator>Mushonok</dc:creator>
  <dc:description/>
  <dc:language>en-US</dc:language>
  <cp:lastModifiedBy>Витек</cp:lastModifiedBy>
  <dcterms:modified xsi:type="dcterms:W3CDTF">2015-06-15T07:48:16Z</dcterms:modified>
  <cp:revision>42</cp:revision>
  <dc:subject/>
  <dc:title>РОЗРОБКА ЗАСОБІВ РЕАЛІЗАЦІЇ WEB-САЙТУ  САНАТОРІЙ-ПРОФІЛАКТОРІЙ «СУПУТНИК»</dc:title>
</cp:coreProperties>
</file>