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A2D-608C-4F67-B04A-AF113342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9D2-74F5-43EE-B884-E414BE73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8E4-3F01-4F1C-BD58-B906C104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6C-4004-49C0-84E6-6C6DF9BB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3EC-1AD3-40F7-9D5E-C177584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495-8365-430E-A8FC-E9FBC7D6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444-1038-4C3A-9AD0-9AA3AF7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325-76C1-48E1-94A1-39D44E4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C48-B314-405E-B7D9-74FD487B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C46-793F-4845-B5C1-176CC84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8F2-955E-4C1E-9E39-865B0FD0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DBF-D8CE-4AFB-A99A-5B2B2EB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F640-D3BF-4F4B-A897-0A63BDB3F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27000"/>
            <a:ext cx="91440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24E-A7B1-4EF6-BBE1-906EEB2C2A19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ПРОГРАМНОГО ЗАБЕЗПЕЧЕННЯ ДЛЯ ФІЛЬТРАЦІЇ ЗОБРАЖЕН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РОВИМИ МЕТ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ащення якості зображень за рахунок використання методів просторової фільтр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данн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методів фільтрації для покращення якості зображ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програмного забезпечення для фільтрації зображ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 експериментальних досліджень розробленої прог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ахунок економічних показни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F3A-5EDA-442A-BEC4-F1D5E3478E1E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МЕТОДІВ ФІЛЬТРАЦІЇ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500040" y="100008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фільтрації зображ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обробки в просторовій області (просторові мето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обробки в частотній області (частотні методи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500040" y="285768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ові методи обро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інійне масштаб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еншення шуму на зображенні з використанням лінійної фільтр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еншення шуму на зображенні з використанням медіанної фільтр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ідкреслення границ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87C-3D82-4263-B559-787819B7EFA9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НІЙНА І НЕЛІНІЙНА ФІЛЬТРАЦІЯ ЗОБРА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1"/>
              <p:cNvSpPr txBox="1"/>
              <p:nvPr/>
            </p:nvSpPr>
            <p:spPr>
              <a:xfrm>
                <a:off x="71280" y="1143000"/>
                <a:ext cx="5337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Прямоугольник 52"/>
          <p:cNvSpPr/>
          <p:nvPr/>
        </p:nvSpPr>
        <p:spPr>
          <a:xfrm>
            <a:off x="3301560" y="8571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а фільт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42920" y="2364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i-m, j-n) – значення пікселів вхідного зображ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1-m, 1-n) – значення коефіцієнтів м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i, j) – значення пікселів вихідного зобра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– коефіцієнт, задається користуваче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6"/>
              <p:cNvSpPr txBox="1"/>
              <p:nvPr/>
            </p:nvSpPr>
            <p:spPr>
              <a:xfrm>
                <a:off x="4929120" y="1785960"/>
                <a:ext cx="1646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4"/>
              <p:cNvSpPr txBox="1"/>
              <p:nvPr/>
            </p:nvSpPr>
            <p:spPr>
              <a:xfrm>
                <a:off x="6858000" y="1857240"/>
                <a:ext cx="18572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0"/>
              <p:cNvSpPr txBox="1"/>
              <p:nvPr/>
            </p:nvSpPr>
            <p:spPr>
              <a:xfrm>
                <a:off x="4929120" y="3286080"/>
                <a:ext cx="1857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2"/>
              <p:cNvSpPr txBox="1"/>
              <p:nvPr/>
            </p:nvSpPr>
            <p:spPr>
              <a:xfrm>
                <a:off x="6915240" y="3286080"/>
                <a:ext cx="2014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64"/>
          <p:cNvSpPr/>
          <p:nvPr/>
        </p:nvSpPr>
        <p:spPr>
          <a:xfrm>
            <a:off x="5505840" y="29289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 підкреслення грани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5"/>
          <p:cNvSpPr/>
          <p:nvPr/>
        </p:nvSpPr>
        <p:spPr>
          <a:xfrm>
            <a:off x="5544360" y="12859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 зменшення ш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6"/>
          <p:cNvSpPr/>
          <p:nvPr/>
        </p:nvSpPr>
        <p:spPr>
          <a:xfrm>
            <a:off x="3288960" y="4429080"/>
            <a:ext cx="36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нний фільтр (маска 1х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785880" y="49680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і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2, 3, 100, 4, 5, 6, 200, 7, 8, 8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→ 0, 1,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→ 1, 2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 100→2, 3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100, 4→ 3, 4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4, 5→ 4, 5,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8"/>
          <p:cNvSpPr/>
          <p:nvPr/>
        </p:nvSpPr>
        <p:spPr>
          <a:xfrm>
            <a:off x="5572080" y="516564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5, 6→ 4, 5,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6, 200→5, 6, 2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200, 7→ 6, 7,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, 7, 8 →7,8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 2,3,4,5,5,6,7,8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E7B-0185-4994-A952-D1246390E5B2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-СХЕМА АЛГОРИТМУ ВИКОНАННЯ ЛІНІЙНОЇ ФІЛЬТРАЦІ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6"/>
          <p:cNvGraphicFramePr/>
          <p:nvPr/>
        </p:nvGraphicFramePr>
        <p:xfrm>
          <a:off x="1886040" y="714240"/>
          <a:ext cx="532908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714240"/>
                    <a:ext cx="532908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6E3-A013-4F7F-B326-189B0A01669D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УВАННЯ ЛІНІЙНОГО ФІЛЬТРУ В РЕЖИМ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КРЕСЛЕННЯ ГРАНИ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1071720"/>
            <a:ext cx="4508640" cy="542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572000" y="1071720"/>
            <a:ext cx="4572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583A-503A-4213-9E37-99137465B60C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УВАННЯ МЕДІАННОГО ФІЛЬ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639240" y="714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овий ш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4642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C8D-2F42-43BC-A6FF-8927BA098938}" type="slidenum"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1152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ипломній роботі розроблено програмне забезпечення, для фільтрації зображень методами просторової обробки. Розробка виконана мовою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едовищ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Studio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результати роботи так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но,  щ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і переваги для вирішення задач обробки зображень мають методи, що ґрунтуються на фільтрації в просторовій обла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ено програмні модулі, що дозволяють покращувати якість зображення методами просторової фільтр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ування програми показало повну її працездатні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2:08:35Z</dcterms:created>
  <dc:creator>maydan</dc:creator>
  <dc:description/>
  <dc:language>en-US</dc:language>
  <cp:lastModifiedBy>maydanj</cp:lastModifiedBy>
  <dcterms:modified xsi:type="dcterms:W3CDTF">2015-06-16T06:17:40Z</dcterms:modified>
  <cp:revision>64</cp:revision>
  <dc:subject/>
  <dc:title>Слайд 1</dc:title>
</cp:coreProperties>
</file>