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0AE-ABE5-4B63-92F1-19E4470B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821-2F0D-4A3A-9026-D3FE9B51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64C-11E2-4F8C-B74E-8E3FC4DF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538-6A19-44D0-9821-7306EF14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A5D-CE68-42B6-A76C-297E1280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CD9-29CE-4CF6-8DE4-F77A58C9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554-33B5-4637-BD0A-F7785E22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30D-C8CE-4203-BE30-5A6F7E36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D1C-474C-47E3-82C2-0306E674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348-6279-4167-B267-15ED82A5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4E1-54F5-42FC-BB56-188D07B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C27-F2E2-48A5-BCE2-97F8149C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13DA-F80B-4D16-93A9-BB573027E5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27000"/>
            <a:ext cx="91440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A4FF-F31F-4BA9-AECD-AB7716C47BF5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А ПРОГРАМНОГО ЗАБЕЗПЕЧЕННЯ ДЛЯ ФІЛЬТРАЦІЇ ЗОБРАЖЕН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ОРОВИМИ МЕТ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 робо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ращення якості зображень за рахунок використання методів просторової фільтр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данн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 методів фільтрації для покращення якості зображе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а програмного забезпечення для фільтрації зображ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ння експериментальних досліджень розробленої прогр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ахунок економічних показни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A8F7-7BCF-47DE-B70C-F7BA44705C9B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 МЕТОДІВ ФІЛЬТРАЦІЇ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500040" y="100008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фільтрації зображ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обробки в просторовій області (просторові мето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обробки в частотній області (частотні методи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500040" y="2857680"/>
            <a:ext cx="842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ові методи обро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інійне масштабу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еншення шуму на зображенні з використанням лінійної фільтр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еншення шуму на зображенні з використанням медіанної фільтр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ідкреслення границь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CFED-45F4-4DC8-B491-B7C96CC462B4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ІНІЙНА І НЕЛІНІЙНА ФІЛЬТРАЦІЯ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51"/>
              <p:cNvSpPr txBox="1"/>
              <p:nvPr/>
            </p:nvSpPr>
            <p:spPr>
              <a:xfrm>
                <a:off x="71280" y="1143000"/>
                <a:ext cx="5337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" name="Прямоугольник 52"/>
          <p:cNvSpPr/>
          <p:nvPr/>
        </p:nvSpPr>
        <p:spPr>
          <a:xfrm>
            <a:off x="3301560" y="85716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нійна фільтра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42920" y="2364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i-m, j-n) – значення пікселів вхідного зображе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1-m, 1-n) – значення коефіцієнтів м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i, j) – значення пікселів вихідного зображ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– коефіцієнт, задається користуваче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6"/>
              <p:cNvSpPr txBox="1"/>
              <p:nvPr/>
            </p:nvSpPr>
            <p:spPr>
              <a:xfrm>
                <a:off x="4929120" y="1785960"/>
                <a:ext cx="1646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54"/>
              <p:cNvSpPr txBox="1"/>
              <p:nvPr/>
            </p:nvSpPr>
            <p:spPr>
              <a:xfrm>
                <a:off x="6858000" y="1857240"/>
                <a:ext cx="18572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60"/>
              <p:cNvSpPr txBox="1"/>
              <p:nvPr/>
            </p:nvSpPr>
            <p:spPr>
              <a:xfrm>
                <a:off x="4929120" y="3286080"/>
                <a:ext cx="1857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2"/>
              <p:cNvSpPr txBox="1"/>
              <p:nvPr/>
            </p:nvSpPr>
            <p:spPr>
              <a:xfrm>
                <a:off x="6915240" y="3286080"/>
                <a:ext cx="2014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Прямоугольник 64"/>
          <p:cNvSpPr/>
          <p:nvPr/>
        </p:nvSpPr>
        <p:spPr>
          <a:xfrm>
            <a:off x="5505840" y="292896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 підкреслення границ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5"/>
          <p:cNvSpPr/>
          <p:nvPr/>
        </p:nvSpPr>
        <p:spPr>
          <a:xfrm>
            <a:off x="5544360" y="12859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 зменшення ш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6"/>
          <p:cNvSpPr/>
          <p:nvPr/>
        </p:nvSpPr>
        <p:spPr>
          <a:xfrm>
            <a:off x="3288960" y="4429080"/>
            <a:ext cx="36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нний фільтр (маска 1х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4"/>
          <p:cNvSpPr/>
          <p:nvPr/>
        </p:nvSpPr>
        <p:spPr>
          <a:xfrm>
            <a:off x="785880" y="49680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ід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2, 3, 100, 4, 5, 6, 200, 7, 8, 8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1, 2→ 0, 1,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→ 1, 2,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, 100→2, 3,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100, 4→ 3, 4,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 4, 5→ 4, 5,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8"/>
          <p:cNvSpPr/>
          <p:nvPr/>
        </p:nvSpPr>
        <p:spPr>
          <a:xfrm>
            <a:off x="5572080" y="516564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5, 6→ 4, 5,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6, 200→5, 6, 2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 200, 7→ 6, 7,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, 7, 8 →7,8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ід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2,3,4,5,5,6,7,8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C22D-2D3B-4392-93E5-E3CA00609204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Ф-СХЕМА АЛГОРИТМУ ВИКОНАННЯ ЛІНІЙНОЇ ФІЛЬТРАЦІ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6"/>
          <p:cNvGraphicFramePr/>
          <p:nvPr/>
        </p:nvGraphicFramePr>
        <p:xfrm>
          <a:off x="1886040" y="714240"/>
          <a:ext cx="5329080" cy="614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714240"/>
                    <a:ext cx="5329080" cy="61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3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091E-F15F-4266-880E-7EADACC517F6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УВАННЯ ЛІНІЙНОГО ФІЛЬТРУ В РЕЖИМ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КРЕСЛЕННЯ ГРАНИЦ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1071720"/>
            <a:ext cx="4508640" cy="542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572000" y="1071720"/>
            <a:ext cx="4572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17EE-5E4C-41AF-AB56-141139F1DD98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УВАННЯ МЕДІАННОГО ФІЛЬ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3639240" y="7142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овий ш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4642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3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353C-DE97-4975-A0F7-EBB7391CE9CA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С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0" y="11523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ипломній роботі розроблено програмне забезпечення, для фільтрації зображень методами просторової обробки. Розробка виконана мовою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редовищі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Visual Studio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результати роботи так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казано,  що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і переваги для вирішення задач обробки зображень мають методи, що ґрунтуються на фільтрації в просторовій обла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лено програмні модулі, що дозволяють покращувати якість зображення методами просторової фільтра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ування програми показало повну її працездатні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2:08:35Z</dcterms:created>
  <dc:creator>maydan</dc:creator>
  <dc:description/>
  <dc:language>en-US</dc:language>
  <cp:lastModifiedBy>maydanj</cp:lastModifiedBy>
  <dcterms:modified xsi:type="dcterms:W3CDTF">2015-06-16T06:17:40Z</dcterms:modified>
  <cp:revision>64</cp:revision>
  <dc:subject/>
  <dc:title>Слайд 1</dc:title>
</cp:coreProperties>
</file>