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CA3-DFD2-42A4-8FAC-F87948B7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AEA-A749-45D5-ABAA-E8B3B38E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C11-FAD2-4F4B-947F-A202B3E0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06A-7803-4C4C-B493-B0976DEC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D0F4-57A8-4F93-ADF8-140D8299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BDB2-748A-4616-9912-ACD18669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611A-7111-4409-B094-C4950A63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D401-BC76-4BDC-9200-195FBDF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8E2-4C8C-471C-9FE7-E0B89B0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63B-93C8-4078-A9AD-83C892E6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F8C4-1CD8-4D90-836C-2C35D96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611-7C17-4666-8675-BA75E05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738-7D77-4A30-8E98-FC37612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80C-8B79-406A-ADC2-24FC07A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DF8B-7B50-4080-BBBA-66FE196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5B6-BFAD-4DF8-8E10-9E25A630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3BF4-60A3-45D3-8C0B-6AFFE44C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769C-7016-442F-B70F-9463CFAF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1B39-0E74-40CB-91B3-33FEB87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06E8-9311-44BF-BF1D-CC2DF64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70D0-18BB-410D-BEB2-E7BF6C3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A50A-8C47-40A3-9B5F-30D2201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556-D611-4345-B85B-E197B4CB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FD50-8824-4F18-A5F7-D6D72DFF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58AD-E64E-46EC-AD95-FB78ADC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2317-333C-48D4-8B2A-A3C8CF1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68F8-D315-410B-9831-EA14B8C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4F84-DA5D-4D8E-BA83-0222FA3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593C-A77E-43E4-8DEF-1F8FC5AE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EDEF-8305-4ACB-94EB-4F9083B4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FF34-EC4C-4169-B698-EE0C9990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F0D1-7C1E-4F0F-A431-8194524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E608-19EC-4DC9-83A7-AF0DEFA1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DBA-073B-4A7F-928F-E72260D7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B6AB-05CC-4094-B916-6CCD5ECF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6396-C574-41C3-982D-6981258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9E0B-B21E-4BB8-A043-DAEEB729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5C6B-5F5B-48DF-8755-6F7B0908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C4C1-54E0-4BC9-8469-D6E4812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7C26-5F47-4DCD-BA9E-4190B02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EBBA-AE32-4072-B779-90F6D3E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DB60-6A09-43D6-A2C8-E43D3A1B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58DE-1855-453C-BE14-04E41A63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3A0-375C-4D30-8B7B-5EC985B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C28-A2B3-4862-889A-B5D98D1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DA2-C3AA-4838-BD74-BE83DE0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6CE-7D0A-4620-A6E1-4116D73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768-6305-4C08-A30A-97D5948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888-EB6E-4AAA-A105-00D4E469307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5AE-5975-4A46-B193-714FB09DA3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515-0A31-4EBE-BDED-4379CFE13F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2D3-F78C-4755-A219-9A1F8DD65BF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8096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«</a:t>
            </a:r>
            <a:r>
              <a:rPr b="0" lang="uk-UA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Розробка сайту </a:t>
            </a:r>
            <a:br>
              <a:rPr sz="4000"/>
            </a:br>
            <a:r>
              <a:rPr b="0" lang="uk-UA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телефонної компанії</a:t>
            </a:r>
            <a:r>
              <a:rPr b="0" lang="ru-RU" sz="4000" spc="-1" strike="noStrike">
                <a:solidFill>
                  <a:srgbClr val="90c226"/>
                </a:solidFill>
                <a:latin typeface="Times New Roman"/>
                <a:ea typeface="Verdana"/>
              </a:rPr>
              <a:t>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7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иплом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кваліфікаційна робот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пря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7.050103 –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«Програмне забезпечення систем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328680" y="56577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Виконав студент групи 1П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І-14сп Панасюк Михайло Миколайович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Науковий керівник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к.т.н. Черноволик Галина Олександр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Verdana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10960"/>
            <a:ext cx="7886880" cy="8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Результати тестування </a:t>
            </a:r>
            <a:br>
              <a:rPr sz="3200"/>
            </a:b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веб-сайту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267920"/>
            <a:ext cx="788652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каскадні таблиці стилів без помилок та відповідають стандарта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HTML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розмітка не містить помилок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і реєстрації та авторизації працюють правильно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ь відображення новин не містить помилок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ь коментування новин виконує поставлені перед ним задачі без помилок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одуль адміністрування працює правиль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90c226"/>
                </a:solidFill>
                <a:latin typeface="PT Sans"/>
              </a:rPr>
              <a:t>ДЯКУЮ ЗА УВАГУ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PT Sans"/>
              </a:rPr>
              <a:t>Актуальн</a:t>
            </a: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ість те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4920" y="1403280"/>
            <a:ext cx="720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Існує проблема вибору провайдера у різних регіонах країни, адже різна якість покриття та ціна на надання послуг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творено веб-сайт, який допомагає  вибрати найкраще співвідношення «ціна-якість» на надання мобільних послуг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68000" y="475920"/>
            <a:ext cx="6767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Arial"/>
              </a:rPr>
              <a:t>Мета роботи: візуалізація інформації, шляхом розробки веб-сайту телефонної компанії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Об’єктом дослідження: веб-технології розробки та підтримки інтернет ресурс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Предметом дослідження: системи керування контентом, методи та критерії їх варіантного аналіз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PT Sans"/>
              </a:rPr>
              <a:t>Основн</a:t>
            </a: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і задачі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844280"/>
            <a:ext cx="662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створити веб-сайт з використанням системи керування контенто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розробити структуру та інтерфейс сайт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розробити дизайн сайт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розробити веб-сайт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Arial"/>
                <a:ea typeface="Verdana"/>
              </a:rPr>
              <a:t>провести його тестува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6842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PT Sans"/>
              </a:rPr>
              <a:t>Найпоширенішими методами реалізації веб-сайтів є: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2060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Шаблони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– це написана програмна частина сайту, яка відповідає за його функціональність, і дизай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Конструктор сайту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– </a:t>
            </a:r>
            <a:r>
              <a:rPr b="0" lang="uk-UA" sz="2400" spc="-1" strike="noStrike">
                <a:solidFill>
                  <a:srgbClr val="404040"/>
                </a:solidFill>
                <a:latin typeface="Arial"/>
                <a:ea typeface="Arial"/>
              </a:rPr>
              <a:t>відмінність від шаблону -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можливість підключення певних модулі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WYSIWYG-редактори –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спеціальні програмні середовища розробки сайтів, такі як DreamWeaver або Front Pag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57280" y="668160"/>
            <a:ext cx="572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0c226"/>
                </a:solidFill>
                <a:latin typeface="PT Sans"/>
              </a:rPr>
              <a:t>Структура веб-сайту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433440" y="1411200"/>
            <a:ext cx="61596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45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PT Sans"/>
              </a:rPr>
              <a:t>Схематичний інтерфейс головної сторінки сайту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Рисунок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Головна сторін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rcRect l="7694" t="3902" r="10255" b="18645"/>
          <a:stretch/>
        </p:blipFill>
        <p:spPr>
          <a:xfrm>
            <a:off x="357120" y="1547640"/>
            <a:ext cx="8450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4800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PT Sans"/>
              </a:rPr>
              <a:t>Стор</a:t>
            </a:r>
            <a:r>
              <a:rPr b="0" lang="uk-UA" sz="3600" spc="-1" strike="noStrike">
                <a:solidFill>
                  <a:srgbClr val="90c226"/>
                </a:solidFill>
                <a:latin typeface="PT Sans"/>
              </a:rPr>
              <a:t>інка Новин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rcRect l="9104" t="4936" r="10363" b="18399"/>
          <a:stretch/>
        </p:blipFill>
        <p:spPr>
          <a:xfrm>
            <a:off x="395280" y="1628640"/>
            <a:ext cx="84121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08:13:46Z</dcterms:created>
  <dc:creator>Маша</dc:creator>
  <dc:description/>
  <dc:language>en-US</dc:language>
  <cp:lastModifiedBy>Михаил</cp:lastModifiedBy>
  <cp:lastPrinted>2014-06-22T19:33:24Z</cp:lastPrinted>
  <dcterms:modified xsi:type="dcterms:W3CDTF">2015-06-15T21:21:39Z</dcterms:modified>
  <cp:revision>36</cp:revision>
  <dc:subject/>
  <dc:title>РОЗРОБКА ЗАСОБІВ САЙТУ PARKAUDIO</dc:title>
</cp:coreProperties>
</file>