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219-2E82-4BFD-82F0-C26ED543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025-6838-4C97-B817-5879A326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B9A-2B54-4BE5-9A1D-D6CE19F0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236-F5E8-44B5-A908-DA079FFA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3826-4942-4092-A1ED-0EF9E193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0569-C5B8-48CB-B620-98348BB4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6F83-FAA3-4869-AB0C-9D88E328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45C7-D800-4D42-9801-EE79C0B0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D17F-A4EE-4E95-BBCA-B362FD89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7AA3-DEF9-4A5C-AB93-C973DB41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1319-581C-4614-B94A-1ADE0F7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6F5-0232-4ECB-B883-D20F1759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2538-D001-4ED9-9C89-14876BC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4D57-AAD9-4FF9-A093-555D4D79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A252-E8C5-498E-9193-39ACA3BA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4379-22CC-405F-B94F-23D9FA9A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6D92-E5C2-40DA-B5CA-D71C48C7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0D3A-104B-4048-AC67-185DF1DB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C22F-285E-4FAB-AD0D-A061BF74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C5ED-A928-416B-91D4-458A07E0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75FA-66B1-4E50-B514-E5D2FB47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0350-360D-4375-992A-4D47FA9D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5AE-15A1-4EB8-9AA3-AE143440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F6C4-3D67-48BF-98EE-222797F7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3674-1767-4AE0-B37C-C7EBE971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A52BA-2427-4082-8D97-082CC576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DFE2-EDE7-4EAF-8F1D-F3400D74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5715-8D73-4B97-B576-E62860A9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CA78-7955-45F2-8937-1A4B67B6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EE90E-C993-4CF4-9FB2-020F6D8F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7BAF-7445-47DA-86E2-B9FE540D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529C-B20D-4352-B04F-7F8CE7E3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7DF6A-AF91-4CAD-A8E2-1D15E91E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979-AA06-491D-855E-31899B6B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9EA80-F428-4FBD-860F-FBC587A2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49A8-549D-4460-AF9F-AAFEE89A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0BAE-CEC3-4507-983A-F118B9AB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8E07-DE67-4E04-8548-49845915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AC1A-0650-452F-B772-13BA9856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A786-F18E-4458-B808-6DF60C0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49C20-509D-44B8-A638-FE3D3124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A4D0-02F2-428E-BFAC-F8BBC8D9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7BD5-8082-4263-8380-B5FBE0F7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79B-4E85-4E19-8E94-5F6F960C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0EA-8A0D-4EB1-BABD-BB40B51D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520-0CD4-4A8E-B3E9-413FA7DC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29F-A1AE-4779-90B1-16D320D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4D1-F602-46EB-BE38-8B3FA0E0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03E6-5B02-48B0-9352-F4EE0CA94C4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ADE3-D4CB-46B9-A1FF-C4B347EF775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E3B3-E56B-4ED6-91C3-388699F4F65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95FD-7514-4C19-83E8-4B1146C0408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480960"/>
            <a:ext cx="856944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  <a:ea typeface="Verdana"/>
              </a:rPr>
              <a:t>«</a:t>
            </a:r>
            <a:r>
              <a:rPr b="0" lang="uk-UA" sz="4000" spc="-1" strike="noStrike">
                <a:solidFill>
                  <a:srgbClr val="90c226"/>
                </a:solidFill>
                <a:latin typeface="Times New Roman"/>
                <a:ea typeface="Verdana"/>
              </a:rPr>
              <a:t>Розробка сайту </a:t>
            </a:r>
            <a:br>
              <a:rPr sz="4000"/>
            </a:br>
            <a:r>
              <a:rPr b="0" lang="uk-UA" sz="4000" spc="-1" strike="noStrike">
                <a:solidFill>
                  <a:srgbClr val="90c226"/>
                </a:solidFill>
                <a:latin typeface="Times New Roman"/>
                <a:ea typeface="Verdana"/>
              </a:rPr>
              <a:t>телефонної компанії</a:t>
            </a:r>
            <a:r>
              <a:rPr b="0" lang="ru-RU" sz="4000" spc="-1" strike="noStrike">
                <a:solidFill>
                  <a:srgbClr val="90c226"/>
                </a:solidFill>
                <a:latin typeface="Times New Roman"/>
                <a:ea typeface="Verdana"/>
              </a:rPr>
              <a:t>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781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Дипломн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кваліфікаційна робота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напря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7.050103 –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«Програмне забезпечення систем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328680" y="56577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Виконав студент групи 1П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І-14сп Панасюк Михайло Миколайович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Науковий керівник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к.т.н. Черноволик Галина Олександр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210960"/>
            <a:ext cx="7886880" cy="8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90c226"/>
                </a:solidFill>
                <a:latin typeface="Trebuchet MS"/>
              </a:rPr>
              <a:t>Результати тестування </a:t>
            </a:r>
            <a:br>
              <a:rPr sz="3200"/>
            </a:br>
            <a:r>
              <a:rPr b="0" lang="uk-UA" sz="3200" spc="-1" strike="noStrike">
                <a:solidFill>
                  <a:srgbClr val="90c226"/>
                </a:solidFill>
                <a:latin typeface="Trebuchet MS"/>
              </a:rPr>
              <a:t>веб-сайту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267920"/>
            <a:ext cx="788652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каскадні таблиці стилів без помилок та відповідають стандарта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HTML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розмітка не містить помилок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модулі реєстрації та авторизації працюють правильно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модуль відображення новин не містить помилок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модуль коментування новин виконує поставлені перед ним задачі без помилок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модуль адміністрування працює правильн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90c226"/>
                </a:solidFill>
                <a:latin typeface="PT Sans"/>
              </a:rPr>
              <a:t>ДЯКУЮ ЗА УВАГУ!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PT Sans"/>
              </a:rPr>
              <a:t>Актуальн</a:t>
            </a:r>
            <a:r>
              <a:rPr b="0" lang="uk-UA" sz="3600" spc="-1" strike="noStrike">
                <a:solidFill>
                  <a:srgbClr val="90c226"/>
                </a:solidFill>
                <a:latin typeface="PT Sans"/>
              </a:rPr>
              <a:t>ість тем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4920" y="1403280"/>
            <a:ext cx="7201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Існує проблема вибору провайдера у різних регіонах країни, адже різна якість покриття та ціна на надання послуг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Створено веб-сайт, який допомагає  вибрати найкраще співвідношення «ціна-якість» на надання мобільних послуг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68000" y="475920"/>
            <a:ext cx="6767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Arial"/>
              </a:rPr>
              <a:t>Мета роботи: візуалізація інформації, шляхом розробки веб-сайту телефонної компанії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Об’єктом дослідження: веб-технології розробки та підтримки інтернет ресурс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Предметом дослідження: системи керування контентом, методи та критерії їх варіантного аналіз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PT Sans"/>
              </a:rPr>
              <a:t>Основн</a:t>
            </a:r>
            <a:r>
              <a:rPr b="0" lang="uk-UA" sz="3600" spc="-1" strike="noStrike">
                <a:solidFill>
                  <a:srgbClr val="90c226"/>
                </a:solidFill>
                <a:latin typeface="PT Sans"/>
              </a:rPr>
              <a:t>і задачі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360" y="1844280"/>
            <a:ext cx="6624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створити веб-сайт з використанням системи керування контенто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розробити структуру та інтерфейс сайт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розробити дизайн сайт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розробити веб-сайт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провести його тестува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6842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PT Sans"/>
              </a:rPr>
              <a:t>Найпоширенішими методами реалізації веб-сайтів є: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2060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Шаблони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 – це написана програмна частина сайту, яка відповідає за його функціональність, і дизай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Конструктор сайту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– </a:t>
            </a:r>
            <a:r>
              <a:rPr b="0" lang="uk-UA" sz="2400" spc="-1" strike="noStrike">
                <a:solidFill>
                  <a:srgbClr val="404040"/>
                </a:solidFill>
                <a:latin typeface="Arial"/>
                <a:ea typeface="Arial"/>
              </a:rPr>
              <a:t>відмінність від шаблону -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можливість підключення певних модулі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WYSIWYG-редактори –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спеціальні програмні середовища розробки сайтів, такі як DreamWeaver або Front Pag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457280" y="668160"/>
            <a:ext cx="572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0c226"/>
                </a:solidFill>
                <a:latin typeface="PT Sans"/>
              </a:rPr>
              <a:t>Структура веб-сайту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433440" y="1411200"/>
            <a:ext cx="61596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PT Sans"/>
              </a:rPr>
              <a:t>Схематичний інтерфейс головної сторінки сайту 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Рисунок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5964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PT Sans"/>
              </a:rPr>
              <a:t>Головна сторін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Объект 3" descr=""/>
          <p:cNvPicPr/>
          <p:nvPr/>
        </p:nvPicPr>
        <p:blipFill>
          <a:blip r:embed="rId1"/>
          <a:srcRect l="7694" t="3902" r="10255" b="18645"/>
          <a:stretch/>
        </p:blipFill>
        <p:spPr>
          <a:xfrm>
            <a:off x="357120" y="1547640"/>
            <a:ext cx="8450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424800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PT Sans"/>
              </a:rPr>
              <a:t>Стор</a:t>
            </a:r>
            <a:r>
              <a:rPr b="0" lang="uk-UA" sz="3600" spc="-1" strike="noStrike">
                <a:solidFill>
                  <a:srgbClr val="90c226"/>
                </a:solidFill>
                <a:latin typeface="PT Sans"/>
              </a:rPr>
              <a:t>інка Новин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Объект 3" descr=""/>
          <p:cNvPicPr/>
          <p:nvPr/>
        </p:nvPicPr>
        <p:blipFill>
          <a:blip r:embed="rId1"/>
          <a:srcRect l="9104" t="4936" r="10363" b="18399"/>
          <a:stretch/>
        </p:blipFill>
        <p:spPr>
          <a:xfrm>
            <a:off x="395280" y="1628640"/>
            <a:ext cx="84121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1T08:13:46Z</dcterms:created>
  <dc:creator>Маша</dc:creator>
  <dc:description/>
  <dc:language>en-US</dc:language>
  <cp:lastModifiedBy>Михаил</cp:lastModifiedBy>
  <cp:lastPrinted>2014-06-22T19:33:24Z</cp:lastPrinted>
  <dcterms:modified xsi:type="dcterms:W3CDTF">2015-06-15T21:21:39Z</dcterms:modified>
  <cp:revision>36</cp:revision>
  <dc:subject/>
  <dc:title>РОЗРОБКА ЗАСОБІВ САЙТУ PARKAUDIO</dc:title>
</cp:coreProperties>
</file>