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6FB5-A08A-4038-A9F6-582DFDBA3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41FB-44D9-4EE9-9D7A-CE957A15B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F088-901A-4A4E-B343-803CADD97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7FD3-9C3D-4BA6-BA39-69FE47287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D9C3A-FC96-404D-BECE-856AFA7B3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2751E-3F6E-4C30-B014-9D73CF449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70C17-DA3A-41DF-A63A-D82098BBD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AF5DA-E560-4A1D-BEAD-E64C6A76E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C28C3-3194-459B-9719-F64062620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69EFA-DC4F-4276-97B2-9565CC5CC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A7E67-42E1-4E6E-A710-E80512600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4085-25F1-42EB-956C-E5C460394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EBF4F-0DAA-4D71-9942-10AB8F6DF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9A9F7-6934-4AC8-AE8E-613C93A9D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D9A41-0D0F-41ED-AB0E-08BDB3114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C82A2-29EA-4BE5-9B1C-C1E708FA0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7C566-8593-4BE5-B7DF-CC8CAC014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02A0-D2C2-4963-B21A-EEAF3FA42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E507-BC1D-4AB3-81DB-24C36A9F7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8C57-990C-47CC-88E7-B2D98FCCA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B5EE-FFEB-4AFB-BF1F-6295A7087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6D0A-1F0D-45A7-BCE1-68B1F9059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6D4B-EA14-4EFF-9F8A-B9CD69CBB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544F-9F65-4441-811E-7E14BAD88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59057-AFD6-44AB-B7F2-4140111648D7}" type="slidenum">
              <a:rPr b="0" lang="ru-RU" sz="9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558A9-A0DE-4429-85BC-877B5D5B131B}" type="slidenum">
              <a:rPr b="0" lang="ru-RU" sz="9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95200" y="907560"/>
            <a:ext cx="8569440" cy="201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Verdana"/>
              </a:rPr>
              <a:t>«</a:t>
            </a:r>
            <a:r>
              <a:rPr b="0" lang="uk-UA" sz="3600" spc="-1" strike="noStrike">
                <a:solidFill>
                  <a:srgbClr val="000000"/>
                </a:solidFill>
                <a:latin typeface="Calibri Light"/>
                <a:ea typeface="Verdana"/>
              </a:rPr>
              <a:t>Розробка інтернет магазину будматеріалів «Комфорт»</a:t>
            </a:r>
            <a:br>
              <a:rPr sz="3600"/>
            </a:br>
            <a:r>
              <a:rPr b="0" lang="uk-UA" sz="3600" spc="-1" strike="noStrike">
                <a:solidFill>
                  <a:srgbClr val="000000"/>
                </a:solidFill>
                <a:latin typeface="Calibri Light"/>
                <a:ea typeface="Verdana"/>
              </a:rPr>
              <a:t>з додатком підбору товару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Verdana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403280" y="2781000"/>
            <a:ext cx="64008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Verdana"/>
              </a:rPr>
              <a:t>ДИПЛОМНА 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  <a:ea typeface="Verdana"/>
              </a:rPr>
              <a:t>КВАЛІФІКАЦІЙНА РОБОТА 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Verdana"/>
                <a:ea typeface="Verdana"/>
              </a:rPr>
              <a:t>НАПРЯМ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Verdana"/>
              </a:rPr>
              <a:t>7.05010301 –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Verdana"/>
              </a:rPr>
              <a:t>«ПРОГРАМНЕ ЗАБЕЗПЕЧЕННЯ СИСТЕМ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328680" y="5657760"/>
            <a:ext cx="85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Verdana"/>
              </a:rPr>
              <a:t>Виконав студент групи 1П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  <a:ea typeface="Verdana"/>
              </a:rPr>
              <a:t>І-14сп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Verdana"/>
              </a:rPr>
              <a:t>Токарський Артем Вал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  <a:ea typeface="Verdana"/>
              </a:rPr>
              <a:t>ерійович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Verdana"/>
                <a:ea typeface="Verdana"/>
              </a:rPr>
              <a:t>Науковий керівник д.т.н., професор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Verdana"/>
              </a:rPr>
              <a:t> Пэтух Анатолій Михайлович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PT Sans"/>
              </a:rPr>
              <a:t>Актуальн</a:t>
            </a:r>
            <a:r>
              <a:rPr b="0" lang="uk-UA" sz="3300" spc="-1" strike="noStrike">
                <a:solidFill>
                  <a:srgbClr val="000000"/>
                </a:solidFill>
                <a:latin typeface="PT Sans"/>
              </a:rPr>
              <a:t>ість теми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395280" y="1699920"/>
            <a:ext cx="83534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З розвитком інтернет технологій стала актуальною тема покращення замовлення різноманітних товарів через інтернет. Велика частина замовлень припадає на матеріали будівництв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Було вибрано темою дипломної роботи розробку будівельного інтернет-магазин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PT Sans"/>
              </a:rPr>
              <a:t>Основн</a:t>
            </a:r>
            <a:r>
              <a:rPr b="0" lang="uk-UA" sz="3300" spc="-1" strike="noStrike">
                <a:solidFill>
                  <a:srgbClr val="000000"/>
                </a:solidFill>
                <a:latin typeface="PT Sans"/>
              </a:rPr>
              <a:t>і задачі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68360" y="1844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Verdana"/>
              </a:rPr>
              <a:t>розробити структуру та інтерфейс сайту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Verdana"/>
              </a:rPr>
              <a:t>розробити дизайн сайту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Verdana"/>
              </a:rPr>
              <a:t>розробити веб-сайт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Verdana"/>
              </a:rPr>
              <a:t>розробити додаток підбору товару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Verdana"/>
              </a:rPr>
              <a:t>провести його тестуванн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Box 3"/>
          <p:cNvSpPr/>
          <p:nvPr/>
        </p:nvSpPr>
        <p:spPr>
          <a:xfrm>
            <a:off x="1767600" y="668160"/>
            <a:ext cx="572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PT Sans"/>
              </a:rPr>
              <a:t>Структура веб-сайту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90" name="Рисунок 1" descr=""/>
          <p:cNvPicPr/>
          <p:nvPr/>
        </p:nvPicPr>
        <p:blipFill>
          <a:blip r:embed="rId1"/>
          <a:stretch/>
        </p:blipFill>
        <p:spPr>
          <a:xfrm>
            <a:off x="493560" y="1989000"/>
            <a:ext cx="827424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2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uk-UA" sz="3300" spc="-1" strike="noStrike">
                <a:solidFill>
                  <a:srgbClr val="000000"/>
                </a:solidFill>
                <a:latin typeface="PT Sans"/>
              </a:rPr>
              <a:t>Головна сторінка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92" name="Объект 3" descr=""/>
          <p:cNvPicPr/>
          <p:nvPr/>
        </p:nvPicPr>
        <p:blipFill>
          <a:blip r:embed="rId1"/>
          <a:srcRect l="0" t="3189" r="0" b="0"/>
          <a:stretch/>
        </p:blipFill>
        <p:spPr>
          <a:xfrm>
            <a:off x="357120" y="1700280"/>
            <a:ext cx="8450280" cy="45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556000" y="475920"/>
            <a:ext cx="424800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PT Sans"/>
              </a:rPr>
              <a:t>Додаток підбору товару</a:t>
            </a:r>
            <a:endParaRPr b="0" lang="en-US" sz="30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94" name="Объект 3" descr=""/>
          <p:cNvPicPr/>
          <p:nvPr/>
        </p:nvPicPr>
        <p:blipFill>
          <a:blip r:embed="rId1"/>
          <a:srcRect l="0" t="3750" r="0" b="0"/>
          <a:stretch/>
        </p:blipFill>
        <p:spPr>
          <a:xfrm>
            <a:off x="701640" y="1989000"/>
            <a:ext cx="7740720" cy="41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28560" y="210960"/>
            <a:ext cx="7886880" cy="8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alibri Light"/>
              </a:rPr>
              <a:t>Результати тестування </a:t>
            </a:r>
            <a:br>
              <a:rPr sz="3000"/>
            </a:br>
            <a:r>
              <a:rPr b="0" lang="uk-UA" sz="3000" spc="-1" strike="noStrike">
                <a:solidFill>
                  <a:srgbClr val="000000"/>
                </a:solidFill>
                <a:latin typeface="Calibri Light"/>
              </a:rPr>
              <a:t>веб-сайту</a:t>
            </a:r>
            <a:endParaRPr b="0" lang="en-US" sz="3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28560" y="1544760"/>
            <a:ext cx="7886880" cy="53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каскадні таблиці стилів без помилок та відповідають стандартам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TML 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розмітка не містить помилок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модулі реєстрації та авторизації працюють правильно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модуль відображення новин не містить помилок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модуль коментування новин виконує поставлені перед ним задачі без помилок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528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uk-UA" sz="3300" spc="-1" strike="noStrike">
                <a:solidFill>
                  <a:srgbClr val="000000"/>
                </a:solidFill>
                <a:latin typeface="PT Sans"/>
              </a:rPr>
              <a:t>ДЯКУЮ ЗА УВАГУ!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21T08:13:46Z</dcterms:created>
  <dc:creator>Маша</dc:creator>
  <dc:description/>
  <dc:language>en-US</dc:language>
  <cp:lastModifiedBy>Artem Pavlovsky</cp:lastModifiedBy>
  <cp:lastPrinted>2015-06-18T06:38:47Z</cp:lastPrinted>
  <dcterms:modified xsi:type="dcterms:W3CDTF">2015-06-18T06:41:32Z</dcterms:modified>
  <cp:revision>38</cp:revision>
  <dc:subject/>
  <dc:title>РОЗРОБКА ЗАСОБІВ САЙТУ PARKAUDIO</dc:title>
</cp:coreProperties>
</file>