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A7D-7344-46D5-98F7-C2138A68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BB0-46C0-4680-A5BD-0B9D1A7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969-E477-4BA3-B85C-0826F7E7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A6E-B32A-402C-8A80-4CBDF5DD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F5A-096C-4B05-996A-362482F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95B-665F-4E2A-85D4-1558E45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52CD-5E0B-4526-BC2B-B67EA81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FC5-AB12-4A22-BC8A-B65950CD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B90-3FF9-4241-8557-6091234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1F5F-8283-4138-B696-960DAAA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504A-BAE0-4D6D-B7BF-8BF7E5C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947-BDE3-4F72-9EB8-34D547F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D815-A9F8-42AF-802C-1182D8A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DFE-3832-498B-B8C2-D95AE6B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413-8DEF-41BE-95DF-FC9BDE71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82DE-418F-42E8-A308-C6CBF075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5F6-01B6-4CDD-9370-8B33CBC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EF3-C377-4977-9A31-051BB23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833-D853-441E-852E-7B3D688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E7B-6F38-4D43-B535-F0C4165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ECD-CD34-49B3-9590-1EDDF95F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E68-BDC5-4817-9944-A6ED4BE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99B-3745-41F2-8B56-D2AB2E66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A1E-B6C1-47B7-8E5D-D11E9BE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F4BE-9404-4F31-938B-05D66B2AD635}" type="slidenum"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CEF-19DC-46FD-AB4D-AEDC9642678B}" type="slidenum"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5200" y="907560"/>
            <a:ext cx="856944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Verdana"/>
              </a:rPr>
              <a:t>«</a:t>
            </a: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Verdana"/>
              </a:rPr>
              <a:t>Розробка інтернет магазину будматеріалів «Комфорт»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Verdana"/>
              </a:rPr>
              <a:t>з додатком підбору товар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Verdan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ИПЛОМ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КВАЛІФІКАЦІЙНА РОБОТ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ПРЯ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7.05010301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«ПРОГРАМНЕ ЗАБЕЗПЕЧЕННЯ СИСТЕМ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28680" y="56577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иконав студент групи 1П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-14сп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Токарський Артем Вал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ерійович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уковий керівник д.т.н., професор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Пэтух Анатолій Михайлович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PT Sans"/>
              </a:rPr>
              <a:t>Актуальн</a:t>
            </a: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ість тем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699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розвитком інтернет технологій стала актуальною тема покращення замовлення різноманітних товарів через інтернет. Велика частина замовлень припадає на матеріали будівниц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уло вибрано темою дипломної роботи розробку будівельного інтернет-магаз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PT Sans"/>
              </a:rPr>
              <a:t>Основн</a:t>
            </a: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і задачі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структуру та інтерфейс сай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дизайн сай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веб-с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додаток підбору това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провести його тестув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767600" y="668160"/>
            <a:ext cx="57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PT Sans"/>
              </a:rPr>
              <a:t>Структура веб-сайт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493560" y="1989000"/>
            <a:ext cx="8274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Головна сторінк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rcRect l="0" t="3189" r="0" b="0"/>
          <a:stretch/>
        </p:blipFill>
        <p:spPr>
          <a:xfrm>
            <a:off x="357120" y="1700280"/>
            <a:ext cx="84502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4248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PT Sans"/>
              </a:rPr>
              <a:t>Додаток підбору товару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0" t="3750" r="0" b="0"/>
          <a:stretch/>
        </p:blipFill>
        <p:spPr>
          <a:xfrm>
            <a:off x="701640" y="1989000"/>
            <a:ext cx="77407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210960"/>
            <a:ext cx="78868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 Light"/>
              </a:rPr>
              <a:t>Результати тестування 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 Light"/>
              </a:rPr>
              <a:t>веб-сайту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544760"/>
            <a:ext cx="788688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каскадні таблиці стилів без помилок та відповідають стандарт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мітка не містить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і реєстрації та авторизації працюють правиль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ь відображення новин не містить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ь коментування новин виконує поставлені перед ним задачі без помил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ДЯКУЮ ЗА УВАГУ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08:13:46Z</dcterms:created>
  <dc:creator>Маша</dc:creator>
  <dc:description/>
  <dc:language>en-US</dc:language>
  <cp:lastModifiedBy>Artem Pavlovsky</cp:lastModifiedBy>
  <cp:lastPrinted>2015-06-18T06:38:47Z</cp:lastPrinted>
  <dcterms:modified xsi:type="dcterms:W3CDTF">2015-06-18T06:41:32Z</dcterms:modified>
  <cp:revision>38</cp:revision>
  <dc:subject/>
  <dc:title>РОЗРОБКА ЗАСОБІВ САЙТУ PARKAUDIO</dc:title>
</cp:coreProperties>
</file>